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2AEAD-57F5-4C83-B856-520D1C019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7DBFA-33C6-490D-8D4E-C60FCCF17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8B90B-3C01-4D3C-AB46-3651DB764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98023-8135-4FB6-B618-21C87BAC5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0F9067-AF5E-44B7-A060-F5975C987C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D5DBC-3CAA-4052-813B-D3D7DC910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28A33-8F07-46F0-A00C-B67C18B8F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E8AAA-9141-4AC9-9463-A1C244DB8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BF273-DDDF-4482-81C5-17AD27563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55AC6-F3A1-43A3-A443-BF28BBC8B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8147B-3215-4FD4-84C9-9116E5577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85E86-DED0-46C5-9429-360CA35B0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90D43-C5CE-4CD9-A78A-0384A08D0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10F13-0387-40BC-814C-A37A38A43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740DA-F160-4EC7-8439-1FB4AE170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9B6BD-667A-47F8-9A1D-938157F279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7D487-01E6-4DF7-948C-E93A3759B3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18BFD2-39CF-43EA-9B69-0BF14B6579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69F375-E960-4783-9EF8-405FB7AB02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DBFAD0-3A34-4FDE-BA54-0DE10A5055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2FDCE2-FED2-4A72-959D-083F06F3A5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092311-9FAC-45B5-9DD2-D77684C137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9F8A3-441B-457C-A43E-DA37460E3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FD00C3-AC29-4FB3-AE0D-BB001A5387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2E8D59-D0E1-49A3-90B2-FD1A9B979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C25351-6EEF-47B4-AD9F-30A25E91F1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0765B6-1485-4966-BE97-C4C0D18771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14C6CB-5490-4E5E-B894-96911DFF3E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9BA59E-218B-4FDA-86FA-ED4A789670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1749D0-0C96-41DF-8BB3-D7AB4C993B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E1209-0292-4700-9EDF-68F921373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B150D-A3C2-4B32-9E13-60C961C57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DBBB2-A975-47A0-B84F-0FA4788E4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81ABE-1DE1-4AE4-B40B-97E0E83FF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0A246-6111-4A5B-8378-42D5EC718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A4621-3011-44D6-9DCD-8A5F811D9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9FA0-EEFD-44E7-AB4A-871AD0F763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0147-0BB4-490F-BAE0-1C085E0451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grpSp>
        <p:nvGrpSpPr>
          <p:cNvPr id="82" name="Group 2"/>
          <p:cNvGrpSpPr/>
          <p:nvPr/>
        </p:nvGrpSpPr>
        <p:grpSpPr>
          <a:xfrm>
            <a:off x="2057400" y="1447920"/>
            <a:ext cx="5028840" cy="4238280"/>
            <a:chOff x="2057400" y="1447920"/>
            <a:chExt cx="5028840" cy="4238280"/>
          </a:xfrm>
        </p:grpSpPr>
        <p:sp>
          <p:nvSpPr>
            <p:cNvPr id="83" name="Oval 3"/>
            <p:cNvSpPr/>
            <p:nvPr/>
          </p:nvSpPr>
          <p:spPr>
            <a:xfrm>
              <a:off x="2108160" y="1465200"/>
              <a:ext cx="3279600" cy="4221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nvGrpSpPr>
            <p:cNvPr id="84" name="Group 4"/>
            <p:cNvGrpSpPr/>
            <p:nvPr/>
          </p:nvGrpSpPr>
          <p:grpSpPr>
            <a:xfrm>
              <a:off x="2057400" y="1466640"/>
              <a:ext cx="5028840" cy="4217760"/>
              <a:chOff x="2057400" y="1466640"/>
              <a:chExt cx="5028840" cy="4217760"/>
            </a:xfrm>
          </p:grpSpPr>
          <p:sp>
            <p:nvSpPr>
              <p:cNvPr id="85" name="Line 5"/>
              <p:cNvSpPr/>
              <p:nvPr/>
            </p:nvSpPr>
            <p:spPr>
              <a:xfrm>
                <a:off x="4586760" y="1895040"/>
                <a:ext cx="0" cy="378936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86" name="Oval 6"/>
              <p:cNvSpPr/>
              <p:nvPr/>
            </p:nvSpPr>
            <p:spPr>
              <a:xfrm>
                <a:off x="4020120" y="1542960"/>
                <a:ext cx="1103760" cy="528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7" name="Oval 7"/>
              <p:cNvSpPr/>
              <p:nvPr/>
            </p:nvSpPr>
            <p:spPr>
              <a:xfrm>
                <a:off x="3519360" y="1466640"/>
                <a:ext cx="2097720" cy="104688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8" name="Arc 8"/>
              <p:cNvSpPr/>
              <p:nvPr/>
            </p:nvSpPr>
            <p:spPr>
              <a:xfrm>
                <a:off x="3055320" y="1902600"/>
                <a:ext cx="3040560" cy="1129320"/>
              </a:xfrm>
              <a:custGeom>
                <a:avLst/>
                <a:gdLst/>
                <a:ahLst/>
                <a:rect l="l" t="t" r="r" b="b"/>
                <a:pathLst>
                  <a:path fill="none" w="43200" h="32871">
                    <a:moveTo>
                      <a:pt x="40868" y="1510"/>
                    </a:moveTo>
                    <a:cubicBezTo>
                      <a:pt x="42401" y="4535"/>
                      <a:pt x="43200" y="7879"/>
                      <a:pt x="43200" y="11271"/>
                    </a:cubicBezTo>
                    <a:cubicBezTo>
                      <a:pt x="43200" y="23200"/>
                      <a:pt x="33529" y="32871"/>
                      <a:pt x="21600" y="32871"/>
                    </a:cubicBezTo>
                    <a:cubicBezTo>
                      <a:pt x="9670" y="32871"/>
                      <a:pt x="0" y="23200"/>
                      <a:pt x="0" y="11271"/>
                    </a:cubicBezTo>
                    <a:cubicBezTo>
                      <a:pt x="-1" y="7293"/>
                      <a:pt x="1098" y="3393"/>
                      <a:pt x="3173" y="-1"/>
                    </a:cubicBezTo>
                  </a:path>
                  <a:path stroke="0" w="43200" h="32871">
                    <a:moveTo>
                      <a:pt x="40868" y="1510"/>
                    </a:moveTo>
                    <a:cubicBezTo>
                      <a:pt x="42401" y="4535"/>
                      <a:pt x="43200" y="7879"/>
                      <a:pt x="43200" y="11271"/>
                    </a:cubicBezTo>
                    <a:cubicBezTo>
                      <a:pt x="43200" y="23200"/>
                      <a:pt x="33529" y="32871"/>
                      <a:pt x="21600" y="32871"/>
                    </a:cubicBezTo>
                    <a:cubicBezTo>
                      <a:pt x="9670" y="32871"/>
                      <a:pt x="0" y="23200"/>
                      <a:pt x="0" y="11271"/>
                    </a:cubicBezTo>
                    <a:cubicBezTo>
                      <a:pt x="-1" y="7293"/>
                      <a:pt x="1098" y="3393"/>
                      <a:pt x="3173" y="-1"/>
                    </a:cubicBezTo>
                    <a:lnTo>
                      <a:pt x="21600" y="11271"/>
                    </a:lnTo>
                    <a:lnTo>
                      <a:pt x="40868" y="1510"/>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89" name="Arc 9"/>
              <p:cNvSpPr/>
              <p:nvPr/>
            </p:nvSpPr>
            <p:spPr>
              <a:xfrm>
                <a:off x="2702880" y="2492640"/>
                <a:ext cx="3742560" cy="1091520"/>
              </a:xfrm>
              <a:custGeom>
                <a:avLst/>
                <a:gdLst/>
                <a:ahLst/>
                <a:rect l="l" t="t" r="r" b="b"/>
                <a:pathLst>
                  <a:path fill="none" w="43200" h="24657">
                    <a:moveTo>
                      <a:pt x="42982" y="0"/>
                    </a:moveTo>
                    <a:cubicBezTo>
                      <a:pt x="43127" y="1012"/>
                      <a:pt x="43200" y="2034"/>
                      <a:pt x="43200" y="3057"/>
                    </a:cubicBezTo>
                    <a:cubicBezTo>
                      <a:pt x="43200" y="14986"/>
                      <a:pt x="33529" y="24657"/>
                      <a:pt x="21600" y="24657"/>
                    </a:cubicBezTo>
                    <a:cubicBezTo>
                      <a:pt x="9670" y="24657"/>
                      <a:pt x="0" y="14986"/>
                      <a:pt x="0" y="3057"/>
                    </a:cubicBezTo>
                    <a:cubicBezTo>
                      <a:pt x="-1" y="2195"/>
                      <a:pt x="51" y="1334"/>
                      <a:pt x="154" y="479"/>
                    </a:cubicBezTo>
                  </a:path>
                  <a:path stroke="0" w="43200" h="24657">
                    <a:moveTo>
                      <a:pt x="42982" y="0"/>
                    </a:moveTo>
                    <a:cubicBezTo>
                      <a:pt x="43127" y="1012"/>
                      <a:pt x="43200" y="2034"/>
                      <a:pt x="43200" y="3057"/>
                    </a:cubicBezTo>
                    <a:cubicBezTo>
                      <a:pt x="43200" y="14986"/>
                      <a:pt x="33529" y="24657"/>
                      <a:pt x="21600" y="24657"/>
                    </a:cubicBezTo>
                    <a:cubicBezTo>
                      <a:pt x="9670" y="24657"/>
                      <a:pt x="0" y="14986"/>
                      <a:pt x="0" y="3057"/>
                    </a:cubicBezTo>
                    <a:cubicBezTo>
                      <a:pt x="-1" y="2195"/>
                      <a:pt x="51" y="1334"/>
                      <a:pt x="154" y="479"/>
                    </a:cubicBezTo>
                    <a:lnTo>
                      <a:pt x="21600" y="3057"/>
                    </a:lnTo>
                    <a:lnTo>
                      <a:pt x="42982" y="0"/>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0" name="Arc 10"/>
              <p:cNvSpPr/>
              <p:nvPr/>
            </p:nvSpPr>
            <p:spPr>
              <a:xfrm>
                <a:off x="2481480" y="3040560"/>
                <a:ext cx="4193280" cy="1077120"/>
              </a:xfrm>
              <a:custGeom>
                <a:avLst/>
                <a:gdLst/>
                <a:ahLst/>
                <a:rect l="l" t="t" r="r" b="b"/>
                <a:pathLst>
                  <a:path fill="none" w="43031" h="21600">
                    <a:moveTo>
                      <a:pt x="43031" y="1391"/>
                    </a:moveTo>
                    <a:cubicBezTo>
                      <a:pt x="42297" y="12756"/>
                      <a:pt x="32865" y="21599"/>
                      <a:pt x="21476" y="21600"/>
                    </a:cubicBezTo>
                    <a:cubicBezTo>
                      <a:pt x="10439" y="21600"/>
                      <a:pt x="1178" y="13280"/>
                      <a:pt x="-1" y="2307"/>
                    </a:cubicBezTo>
                  </a:path>
                  <a:path stroke="0" w="43031" h="21600">
                    <a:moveTo>
                      <a:pt x="43031" y="1391"/>
                    </a:moveTo>
                    <a:cubicBezTo>
                      <a:pt x="42297" y="12756"/>
                      <a:pt x="32865" y="21599"/>
                      <a:pt x="21476" y="21600"/>
                    </a:cubicBezTo>
                    <a:cubicBezTo>
                      <a:pt x="10439" y="21600"/>
                      <a:pt x="1178" y="13280"/>
                      <a:pt x="-1" y="2307"/>
                    </a:cubicBezTo>
                    <a:lnTo>
                      <a:pt x="21476" y="0"/>
                    </a:lnTo>
                    <a:lnTo>
                      <a:pt x="43031" y="1391"/>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1" name="Arc 11"/>
              <p:cNvSpPr/>
              <p:nvPr/>
            </p:nvSpPr>
            <p:spPr>
              <a:xfrm>
                <a:off x="2436120" y="3527640"/>
                <a:ext cx="4294800" cy="1097640"/>
              </a:xfrm>
              <a:custGeom>
                <a:avLst/>
                <a:gdLst/>
                <a:ahLst/>
                <a:rect l="l" t="t" r="r" b="b"/>
                <a:pathLst>
                  <a:path fill="none" w="42699" h="21600">
                    <a:moveTo>
                      <a:pt x="42698" y="2285"/>
                    </a:moveTo>
                    <a:cubicBezTo>
                      <a:pt x="41529" y="13268"/>
                      <a:pt x="32264" y="21599"/>
                      <a:pt x="21220" y="21600"/>
                    </a:cubicBezTo>
                    <a:cubicBezTo>
                      <a:pt x="10845" y="21600"/>
                      <a:pt x="1936" y="14224"/>
                      <a:pt x="-1" y="4033"/>
                    </a:cubicBezTo>
                  </a:path>
                  <a:path stroke="0" w="42699" h="21600">
                    <a:moveTo>
                      <a:pt x="42698" y="2285"/>
                    </a:moveTo>
                    <a:cubicBezTo>
                      <a:pt x="41529" y="13268"/>
                      <a:pt x="32264" y="21599"/>
                      <a:pt x="21220" y="21600"/>
                    </a:cubicBezTo>
                    <a:cubicBezTo>
                      <a:pt x="10845" y="21600"/>
                      <a:pt x="1936" y="14224"/>
                      <a:pt x="-1" y="4033"/>
                    </a:cubicBezTo>
                    <a:lnTo>
                      <a:pt x="21220" y="0"/>
                    </a:lnTo>
                    <a:lnTo>
                      <a:pt x="42698" y="228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2" name="Arc 12"/>
              <p:cNvSpPr/>
              <p:nvPr/>
            </p:nvSpPr>
            <p:spPr>
              <a:xfrm>
                <a:off x="2576520" y="3877200"/>
                <a:ext cx="4000680" cy="1187640"/>
              </a:xfrm>
              <a:custGeom>
                <a:avLst/>
                <a:gdLst/>
                <a:ahLst/>
                <a:rect l="l" t="t" r="r" b="b"/>
                <a:pathLst>
                  <a:path fill="none" w="39783" h="21600">
                    <a:moveTo>
                      <a:pt x="39783" y="8265"/>
                    </a:moveTo>
                    <a:cubicBezTo>
                      <a:pt x="36440" y="16336"/>
                      <a:pt x="28563" y="21599"/>
                      <a:pt x="19827" y="21600"/>
                    </a:cubicBezTo>
                    <a:cubicBezTo>
                      <a:pt x="11210" y="21600"/>
                      <a:pt x="3417" y="16478"/>
                      <a:pt x="-1" y="8569"/>
                    </a:cubicBezTo>
                  </a:path>
                  <a:path stroke="0" w="39783" h="21600">
                    <a:moveTo>
                      <a:pt x="39783" y="8265"/>
                    </a:moveTo>
                    <a:cubicBezTo>
                      <a:pt x="36440" y="16336"/>
                      <a:pt x="28563" y="21599"/>
                      <a:pt x="19827" y="21600"/>
                    </a:cubicBezTo>
                    <a:cubicBezTo>
                      <a:pt x="11210" y="21600"/>
                      <a:pt x="3417" y="16478"/>
                      <a:pt x="-1" y="8569"/>
                    </a:cubicBezTo>
                    <a:lnTo>
                      <a:pt x="19827" y="0"/>
                    </a:lnTo>
                    <a:lnTo>
                      <a:pt x="39783" y="826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3" name="Arc 13"/>
              <p:cNvSpPr/>
              <p:nvPr/>
            </p:nvSpPr>
            <p:spPr>
              <a:xfrm>
                <a:off x="3012480" y="4052160"/>
                <a:ext cx="3151800" cy="1351800"/>
              </a:xfrm>
              <a:custGeom>
                <a:avLst/>
                <a:gdLst/>
                <a:ahLst/>
                <a:rect l="l" t="t" r="r" b="b"/>
                <a:pathLst>
                  <a:path fill="none" w="31345" h="21600">
                    <a:moveTo>
                      <a:pt x="31345" y="14659"/>
                    </a:moveTo>
                    <a:cubicBezTo>
                      <a:pt x="27256" y="19083"/>
                      <a:pt x="21505" y="21599"/>
                      <a:pt x="15481" y="21600"/>
                    </a:cubicBezTo>
                    <a:cubicBezTo>
                      <a:pt x="9649" y="21600"/>
                      <a:pt x="4066" y="19242"/>
                      <a:pt x="-1" y="15063"/>
                    </a:cubicBezTo>
                  </a:path>
                  <a:path stroke="0" w="31345" h="21600">
                    <a:moveTo>
                      <a:pt x="31345" y="14659"/>
                    </a:moveTo>
                    <a:cubicBezTo>
                      <a:pt x="27256" y="19083"/>
                      <a:pt x="21505" y="21599"/>
                      <a:pt x="15481" y="21600"/>
                    </a:cubicBezTo>
                    <a:cubicBezTo>
                      <a:pt x="9649" y="21600"/>
                      <a:pt x="4066" y="19242"/>
                      <a:pt x="-1" y="15063"/>
                    </a:cubicBezTo>
                    <a:lnTo>
                      <a:pt x="15481" y="0"/>
                    </a:lnTo>
                    <a:lnTo>
                      <a:pt x="31345" y="14659"/>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4" name="Arc 14"/>
              <p:cNvSpPr/>
              <p:nvPr/>
            </p:nvSpPr>
            <p:spPr>
              <a:xfrm>
                <a:off x="3743280" y="4252680"/>
                <a:ext cx="1755360" cy="1350360"/>
              </a:xfrm>
              <a:custGeom>
                <a:avLst/>
                <a:gdLst/>
                <a:ahLst/>
                <a:rect l="l" t="t" r="r" b="b"/>
                <a:pathLst>
                  <a:path fill="none" w="17455" h="21600">
                    <a:moveTo>
                      <a:pt x="17454" y="19445"/>
                    </a:moveTo>
                    <a:cubicBezTo>
                      <a:pt x="14522" y="20863"/>
                      <a:pt x="11307" y="21599"/>
                      <a:pt x="8051" y="21600"/>
                    </a:cubicBezTo>
                    <a:cubicBezTo>
                      <a:pt x="5292" y="21600"/>
                      <a:pt x="2559" y="21071"/>
                      <a:pt x="0" y="20043"/>
                    </a:cubicBezTo>
                  </a:path>
                  <a:path stroke="0" w="17455" h="21600">
                    <a:moveTo>
                      <a:pt x="17454" y="19445"/>
                    </a:moveTo>
                    <a:cubicBezTo>
                      <a:pt x="14522" y="20863"/>
                      <a:pt x="11307" y="21599"/>
                      <a:pt x="8051" y="21600"/>
                    </a:cubicBezTo>
                    <a:cubicBezTo>
                      <a:pt x="5292" y="21600"/>
                      <a:pt x="2559" y="21071"/>
                      <a:pt x="0" y="20043"/>
                    </a:cubicBezTo>
                    <a:lnTo>
                      <a:pt x="8051" y="0"/>
                    </a:lnTo>
                    <a:lnTo>
                      <a:pt x="17454" y="1944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nvGrpSpPr>
              <p:cNvPr id="95" name="Group 15"/>
              <p:cNvGrpSpPr/>
              <p:nvPr/>
            </p:nvGrpSpPr>
            <p:grpSpPr>
              <a:xfrm>
                <a:off x="2057400" y="1487160"/>
                <a:ext cx="2455560" cy="4187520"/>
                <a:chOff x="2057400" y="1487160"/>
                <a:chExt cx="2455560" cy="4187520"/>
              </a:xfrm>
            </p:grpSpPr>
            <p:sp>
              <p:nvSpPr>
                <p:cNvPr id="96" name="Freeform 16"/>
                <p:cNvSpPr/>
                <p:nvPr/>
              </p:nvSpPr>
              <p:spPr>
                <a:xfrm>
                  <a:off x="3839400" y="1895040"/>
                  <a:ext cx="673560" cy="3779640"/>
                </a:xfrm>
                <a:custGeom>
                  <a:avLst/>
                  <a:gdLst/>
                  <a:ahLst/>
                  <a:rect l="l" t="t" r="r" b="b"/>
                  <a:pathLst>
                    <a:path w="553" h="3112">
                      <a:moveTo>
                        <a:pt x="553" y="0"/>
                      </a:moveTo>
                      <a:cubicBezTo>
                        <a:pt x="155" y="839"/>
                        <a:pt x="0" y="2702"/>
                        <a:pt x="345" y="311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7" name="Freeform 17"/>
                <p:cNvSpPr/>
                <p:nvPr/>
              </p:nvSpPr>
              <p:spPr>
                <a:xfrm>
                  <a:off x="3197520" y="1858680"/>
                  <a:ext cx="1256760" cy="3731040"/>
                </a:xfrm>
                <a:custGeom>
                  <a:avLst/>
                  <a:gdLst/>
                  <a:ahLst/>
                  <a:rect l="l" t="t" r="r" b="b"/>
                  <a:pathLst>
                    <a:path w="1032" h="3072">
                      <a:moveTo>
                        <a:pt x="1032" y="0"/>
                      </a:moveTo>
                      <a:cubicBezTo>
                        <a:pt x="258" y="846"/>
                        <a:pt x="0" y="2694"/>
                        <a:pt x="570" y="30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8" name="Freeform 18"/>
                <p:cNvSpPr/>
                <p:nvPr/>
              </p:nvSpPr>
              <p:spPr>
                <a:xfrm>
                  <a:off x="2824560" y="1843920"/>
                  <a:ext cx="1578600" cy="3563280"/>
                </a:xfrm>
                <a:custGeom>
                  <a:avLst/>
                  <a:gdLst/>
                  <a:ahLst/>
                  <a:rect l="l" t="t" r="r" b="b"/>
                  <a:pathLst>
                    <a:path w="1296" h="2934">
                      <a:moveTo>
                        <a:pt x="1296" y="0"/>
                      </a:moveTo>
                      <a:cubicBezTo>
                        <a:pt x="54" y="864"/>
                        <a:pt x="0" y="2556"/>
                        <a:pt x="570" y="293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9" name="Freeform 19"/>
                <p:cNvSpPr/>
                <p:nvPr/>
              </p:nvSpPr>
              <p:spPr>
                <a:xfrm>
                  <a:off x="2334960" y="1822320"/>
                  <a:ext cx="2039040" cy="3264480"/>
                </a:xfrm>
                <a:custGeom>
                  <a:avLst/>
                  <a:gdLst/>
                  <a:ahLst/>
                  <a:rect l="l" t="t" r="r" b="b"/>
                  <a:pathLst>
                    <a:path w="1674" h="2688">
                      <a:moveTo>
                        <a:pt x="1674" y="0"/>
                      </a:moveTo>
                      <a:cubicBezTo>
                        <a:pt x="0" y="756"/>
                        <a:pt x="210" y="2382"/>
                        <a:pt x="624" y="268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0" name="Freeform 20"/>
                <p:cNvSpPr/>
                <p:nvPr/>
              </p:nvSpPr>
              <p:spPr>
                <a:xfrm>
                  <a:off x="2057400" y="1794240"/>
                  <a:ext cx="2316960" cy="2617200"/>
                </a:xfrm>
                <a:custGeom>
                  <a:avLst/>
                  <a:gdLst/>
                  <a:ahLst/>
                  <a:rect l="l" t="t" r="r" b="b"/>
                  <a:pathLst>
                    <a:path w="1902" h="2154">
                      <a:moveTo>
                        <a:pt x="1902" y="0"/>
                      </a:moveTo>
                      <a:cubicBezTo>
                        <a:pt x="0" y="508"/>
                        <a:pt x="400" y="2092"/>
                        <a:pt x="456" y="215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1" name="Freeform 21"/>
                <p:cNvSpPr/>
                <p:nvPr/>
              </p:nvSpPr>
              <p:spPr>
                <a:xfrm>
                  <a:off x="2476440" y="1749240"/>
                  <a:ext cx="1881000" cy="1428120"/>
                </a:xfrm>
                <a:custGeom>
                  <a:avLst/>
                  <a:gdLst/>
                  <a:ahLst/>
                  <a:rect l="l" t="t" r="r" b="b"/>
                  <a:pathLst>
                    <a:path w="1544" h="1176">
                      <a:moveTo>
                        <a:pt x="1544" y="0"/>
                      </a:moveTo>
                      <a:cubicBezTo>
                        <a:pt x="440" y="112"/>
                        <a:pt x="0" y="992"/>
                        <a:pt x="0" y="117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2" name="Freeform 22"/>
                <p:cNvSpPr/>
                <p:nvPr/>
              </p:nvSpPr>
              <p:spPr>
                <a:xfrm>
                  <a:off x="2895480" y="1719000"/>
                  <a:ext cx="1461960" cy="574200"/>
                </a:xfrm>
                <a:custGeom>
                  <a:avLst/>
                  <a:gdLst/>
                  <a:ahLst/>
                  <a:rect l="l" t="t" r="r" b="b"/>
                  <a:pathLst>
                    <a:path w="1200" h="472">
                      <a:moveTo>
                        <a:pt x="1200" y="0"/>
                      </a:moveTo>
                      <a:cubicBezTo>
                        <a:pt x="584" y="24"/>
                        <a:pt x="264" y="192"/>
                        <a:pt x="0" y="4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3" name="Freeform 23"/>
                <p:cNvSpPr/>
                <p:nvPr/>
              </p:nvSpPr>
              <p:spPr>
                <a:xfrm>
                  <a:off x="3178080" y="1632600"/>
                  <a:ext cx="1198440" cy="339840"/>
                </a:xfrm>
                <a:custGeom>
                  <a:avLst/>
                  <a:gdLst/>
                  <a:ahLst/>
                  <a:rect l="l" t="t" r="r" b="b"/>
                  <a:pathLst>
                    <a:path w="984" h="280">
                      <a:moveTo>
                        <a:pt x="984" y="56"/>
                      </a:moveTo>
                      <a:cubicBezTo>
                        <a:pt x="568" y="0"/>
                        <a:pt x="192" y="104"/>
                        <a:pt x="0" y="28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4" name="Freeform 24"/>
                <p:cNvSpPr/>
                <p:nvPr/>
              </p:nvSpPr>
              <p:spPr>
                <a:xfrm>
                  <a:off x="3645720" y="1576800"/>
                  <a:ext cx="779760" cy="105480"/>
                </a:xfrm>
                <a:custGeom>
                  <a:avLst/>
                  <a:gdLst/>
                  <a:ahLst/>
                  <a:rect l="l" t="t" r="r" b="b"/>
                  <a:pathLst>
                    <a:path w="640" h="88">
                      <a:moveTo>
                        <a:pt x="640" y="88"/>
                      </a:moveTo>
                      <a:cubicBezTo>
                        <a:pt x="400" y="0"/>
                        <a:pt x="112" y="30"/>
                        <a:pt x="0" y="7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5" name="Freeform 25"/>
                <p:cNvSpPr/>
                <p:nvPr/>
              </p:nvSpPr>
              <p:spPr>
                <a:xfrm>
                  <a:off x="4060080" y="1514880"/>
                  <a:ext cx="401760" cy="151560"/>
                </a:xfrm>
                <a:custGeom>
                  <a:avLst/>
                  <a:gdLst/>
                  <a:ahLst/>
                  <a:rect l="l" t="t" r="r" b="b"/>
                  <a:pathLst>
                    <a:path w="330" h="126">
                      <a:moveTo>
                        <a:pt x="330" y="126"/>
                      </a:moveTo>
                      <a:cubicBezTo>
                        <a:pt x="186" y="48"/>
                        <a:pt x="78" y="18"/>
                        <a:pt x="0" y="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6" name="Freeform 26"/>
                <p:cNvSpPr/>
                <p:nvPr/>
              </p:nvSpPr>
              <p:spPr>
                <a:xfrm>
                  <a:off x="4337640" y="1487160"/>
                  <a:ext cx="175320" cy="175680"/>
                </a:xfrm>
                <a:custGeom>
                  <a:avLst/>
                  <a:gdLst/>
                  <a:ahLst/>
                  <a:rect l="l" t="t" r="r" b="b"/>
                  <a:pathLst>
                    <a:path w="144" h="144">
                      <a:moveTo>
                        <a:pt x="0" y="0"/>
                      </a:moveTo>
                      <a:cubicBezTo>
                        <a:pt x="24" y="24"/>
                        <a:pt x="132" y="102"/>
                        <a:pt x="144" y="14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sp>
            <p:nvSpPr>
              <p:cNvPr id="107" name="Line 27"/>
              <p:cNvSpPr/>
              <p:nvPr/>
            </p:nvSpPr>
            <p:spPr>
              <a:xfrm flipV="1">
                <a:off x="4572000" y="1487160"/>
                <a:ext cx="0" cy="17568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grpSp>
            <p:nvGrpSpPr>
              <p:cNvPr id="108" name="Group 28"/>
              <p:cNvGrpSpPr/>
              <p:nvPr/>
            </p:nvGrpSpPr>
            <p:grpSpPr>
              <a:xfrm>
                <a:off x="4630680" y="1487160"/>
                <a:ext cx="2455560" cy="4187520"/>
                <a:chOff x="4630680" y="1487160"/>
                <a:chExt cx="2455560" cy="4187520"/>
              </a:xfrm>
            </p:grpSpPr>
            <p:sp>
              <p:nvSpPr>
                <p:cNvPr id="109" name="Freeform 29"/>
                <p:cNvSpPr/>
                <p:nvPr/>
              </p:nvSpPr>
              <p:spPr>
                <a:xfrm flipH="1">
                  <a:off x="4630320" y="1895040"/>
                  <a:ext cx="673560" cy="3779640"/>
                </a:xfrm>
                <a:custGeom>
                  <a:avLst/>
                  <a:gdLst/>
                  <a:ahLst/>
                  <a:rect l="l" t="t" r="r" b="b"/>
                  <a:pathLst>
                    <a:path w="553" h="3112">
                      <a:moveTo>
                        <a:pt x="553" y="0"/>
                      </a:moveTo>
                      <a:cubicBezTo>
                        <a:pt x="155" y="839"/>
                        <a:pt x="0" y="2702"/>
                        <a:pt x="345" y="311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0" name="Freeform 30"/>
                <p:cNvSpPr/>
                <p:nvPr/>
              </p:nvSpPr>
              <p:spPr>
                <a:xfrm flipH="1">
                  <a:off x="4689000" y="1858680"/>
                  <a:ext cx="1256760" cy="3731040"/>
                </a:xfrm>
                <a:custGeom>
                  <a:avLst/>
                  <a:gdLst/>
                  <a:ahLst/>
                  <a:rect l="l" t="t" r="r" b="b"/>
                  <a:pathLst>
                    <a:path w="1032" h="3072">
                      <a:moveTo>
                        <a:pt x="1032" y="0"/>
                      </a:moveTo>
                      <a:cubicBezTo>
                        <a:pt x="258" y="846"/>
                        <a:pt x="0" y="2694"/>
                        <a:pt x="570" y="30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1" name="Freeform 31"/>
                <p:cNvSpPr/>
                <p:nvPr/>
              </p:nvSpPr>
              <p:spPr>
                <a:xfrm flipH="1">
                  <a:off x="4740120" y="1843920"/>
                  <a:ext cx="1578600" cy="3563280"/>
                </a:xfrm>
                <a:custGeom>
                  <a:avLst/>
                  <a:gdLst/>
                  <a:ahLst/>
                  <a:rect l="l" t="t" r="r" b="b"/>
                  <a:pathLst>
                    <a:path w="1296" h="2934">
                      <a:moveTo>
                        <a:pt x="1296" y="0"/>
                      </a:moveTo>
                      <a:cubicBezTo>
                        <a:pt x="54" y="864"/>
                        <a:pt x="0" y="2556"/>
                        <a:pt x="570" y="293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2" name="Freeform 32"/>
                <p:cNvSpPr/>
                <p:nvPr/>
              </p:nvSpPr>
              <p:spPr>
                <a:xfrm flipH="1">
                  <a:off x="4769640" y="1822320"/>
                  <a:ext cx="2039040" cy="3264480"/>
                </a:xfrm>
                <a:custGeom>
                  <a:avLst/>
                  <a:gdLst/>
                  <a:ahLst/>
                  <a:rect l="l" t="t" r="r" b="b"/>
                  <a:pathLst>
                    <a:path w="1674" h="2688">
                      <a:moveTo>
                        <a:pt x="1674" y="0"/>
                      </a:moveTo>
                      <a:cubicBezTo>
                        <a:pt x="0" y="756"/>
                        <a:pt x="210" y="2382"/>
                        <a:pt x="624" y="268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3" name="Freeform 33"/>
                <p:cNvSpPr/>
                <p:nvPr/>
              </p:nvSpPr>
              <p:spPr>
                <a:xfrm flipH="1">
                  <a:off x="4769280" y="1794240"/>
                  <a:ext cx="2316960" cy="2617200"/>
                </a:xfrm>
                <a:custGeom>
                  <a:avLst/>
                  <a:gdLst/>
                  <a:ahLst/>
                  <a:rect l="l" t="t" r="r" b="b"/>
                  <a:pathLst>
                    <a:path w="1902" h="2154">
                      <a:moveTo>
                        <a:pt x="1902" y="0"/>
                      </a:moveTo>
                      <a:cubicBezTo>
                        <a:pt x="0" y="508"/>
                        <a:pt x="400" y="2092"/>
                        <a:pt x="456" y="215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4" name="Freeform 34"/>
                <p:cNvSpPr/>
                <p:nvPr/>
              </p:nvSpPr>
              <p:spPr>
                <a:xfrm flipH="1">
                  <a:off x="4785840" y="1749240"/>
                  <a:ext cx="1881000" cy="1428120"/>
                </a:xfrm>
                <a:custGeom>
                  <a:avLst/>
                  <a:gdLst/>
                  <a:ahLst/>
                  <a:rect l="l" t="t" r="r" b="b"/>
                  <a:pathLst>
                    <a:path w="1544" h="1176">
                      <a:moveTo>
                        <a:pt x="1544" y="0"/>
                      </a:moveTo>
                      <a:cubicBezTo>
                        <a:pt x="440" y="112"/>
                        <a:pt x="0" y="992"/>
                        <a:pt x="0" y="117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5" name="Freeform 35"/>
                <p:cNvSpPr/>
                <p:nvPr/>
              </p:nvSpPr>
              <p:spPr>
                <a:xfrm flipH="1">
                  <a:off x="4785840" y="1719000"/>
                  <a:ext cx="1461960" cy="574200"/>
                </a:xfrm>
                <a:custGeom>
                  <a:avLst/>
                  <a:gdLst/>
                  <a:ahLst/>
                  <a:rect l="l" t="t" r="r" b="b"/>
                  <a:pathLst>
                    <a:path w="1200" h="472">
                      <a:moveTo>
                        <a:pt x="1200" y="0"/>
                      </a:moveTo>
                      <a:cubicBezTo>
                        <a:pt x="584" y="24"/>
                        <a:pt x="264" y="192"/>
                        <a:pt x="0" y="4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6" name="Freeform 36"/>
                <p:cNvSpPr/>
                <p:nvPr/>
              </p:nvSpPr>
              <p:spPr>
                <a:xfrm flipH="1">
                  <a:off x="4766760" y="1632600"/>
                  <a:ext cx="1198440" cy="339840"/>
                </a:xfrm>
                <a:custGeom>
                  <a:avLst/>
                  <a:gdLst/>
                  <a:ahLst/>
                  <a:rect l="l" t="t" r="r" b="b"/>
                  <a:pathLst>
                    <a:path w="984" h="280">
                      <a:moveTo>
                        <a:pt x="984" y="56"/>
                      </a:moveTo>
                      <a:cubicBezTo>
                        <a:pt x="568" y="0"/>
                        <a:pt x="192" y="104"/>
                        <a:pt x="0" y="28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7" name="Freeform 37"/>
                <p:cNvSpPr/>
                <p:nvPr/>
              </p:nvSpPr>
              <p:spPr>
                <a:xfrm flipH="1">
                  <a:off x="4718160" y="1576800"/>
                  <a:ext cx="779760" cy="105480"/>
                </a:xfrm>
                <a:custGeom>
                  <a:avLst/>
                  <a:gdLst/>
                  <a:ahLst/>
                  <a:rect l="l" t="t" r="r" b="b"/>
                  <a:pathLst>
                    <a:path w="640" h="88">
                      <a:moveTo>
                        <a:pt x="640" y="88"/>
                      </a:moveTo>
                      <a:cubicBezTo>
                        <a:pt x="400" y="0"/>
                        <a:pt x="112" y="30"/>
                        <a:pt x="0" y="7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8" name="Freeform 38"/>
                <p:cNvSpPr/>
                <p:nvPr/>
              </p:nvSpPr>
              <p:spPr>
                <a:xfrm flipH="1">
                  <a:off x="4681800" y="1514880"/>
                  <a:ext cx="401760" cy="151560"/>
                </a:xfrm>
                <a:custGeom>
                  <a:avLst/>
                  <a:gdLst/>
                  <a:ahLst/>
                  <a:rect l="l" t="t" r="r" b="b"/>
                  <a:pathLst>
                    <a:path w="330" h="126">
                      <a:moveTo>
                        <a:pt x="330" y="126"/>
                      </a:moveTo>
                      <a:cubicBezTo>
                        <a:pt x="186" y="48"/>
                        <a:pt x="78" y="18"/>
                        <a:pt x="0" y="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9" name="Freeform 39"/>
                <p:cNvSpPr/>
                <p:nvPr/>
              </p:nvSpPr>
              <p:spPr>
                <a:xfrm flipH="1">
                  <a:off x="4630320" y="1487160"/>
                  <a:ext cx="175320" cy="175680"/>
                </a:xfrm>
                <a:custGeom>
                  <a:avLst/>
                  <a:gdLst/>
                  <a:ahLst/>
                  <a:rect l="l" t="t" r="r" b="b"/>
                  <a:pathLst>
                    <a:path w="144" h="144">
                      <a:moveTo>
                        <a:pt x="0" y="0"/>
                      </a:moveTo>
                      <a:cubicBezTo>
                        <a:pt x="24" y="24"/>
                        <a:pt x="132" y="102"/>
                        <a:pt x="144" y="14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grpSp>
        <p:grpSp>
          <p:nvGrpSpPr>
            <p:cNvPr id="120" name="Group 40"/>
            <p:cNvGrpSpPr/>
            <p:nvPr/>
          </p:nvGrpSpPr>
          <p:grpSpPr>
            <a:xfrm>
              <a:off x="2122920" y="1447920"/>
              <a:ext cx="3137040" cy="4125960"/>
              <a:chOff x="2122920" y="1447920"/>
              <a:chExt cx="3137040" cy="4125960"/>
            </a:xfrm>
          </p:grpSpPr>
          <p:grpSp>
            <p:nvGrpSpPr>
              <p:cNvPr id="121" name="Group 41"/>
              <p:cNvGrpSpPr/>
              <p:nvPr/>
            </p:nvGrpSpPr>
            <p:grpSpPr>
              <a:xfrm>
                <a:off x="2127600" y="1476360"/>
                <a:ext cx="3132360" cy="4097520"/>
                <a:chOff x="2127600" y="1476360"/>
                <a:chExt cx="3132360" cy="4097520"/>
              </a:xfrm>
            </p:grpSpPr>
            <p:sp>
              <p:nvSpPr>
                <p:cNvPr id="122" name="Freeform 42"/>
                <p:cNvSpPr/>
                <p:nvPr/>
              </p:nvSpPr>
              <p:spPr>
                <a:xfrm>
                  <a:off x="3063960" y="4352400"/>
                  <a:ext cx="275400" cy="327240"/>
                </a:xfrm>
                <a:custGeom>
                  <a:avLst/>
                  <a:gdLst/>
                  <a:ahLst/>
                  <a:rect l="l" t="t" r="r" b="b"/>
                  <a:pathLst>
                    <a:path w="292" h="274">
                      <a:moveTo>
                        <a:pt x="69" y="73"/>
                      </a:moveTo>
                      <a:cubicBezTo>
                        <a:pt x="83" y="82"/>
                        <a:pt x="85" y="82"/>
                        <a:pt x="102" y="79"/>
                      </a:cubicBezTo>
                      <a:cubicBezTo>
                        <a:pt x="129" y="61"/>
                        <a:pt x="143" y="39"/>
                        <a:pt x="177" y="34"/>
                      </a:cubicBezTo>
                      <a:cubicBezTo>
                        <a:pt x="183" y="30"/>
                        <a:pt x="189" y="26"/>
                        <a:pt x="195" y="22"/>
                      </a:cubicBezTo>
                      <a:cubicBezTo>
                        <a:pt x="198" y="20"/>
                        <a:pt x="204" y="16"/>
                        <a:pt x="204" y="16"/>
                      </a:cubicBezTo>
                      <a:cubicBezTo>
                        <a:pt x="206" y="13"/>
                        <a:pt x="207" y="9"/>
                        <a:pt x="210" y="7"/>
                      </a:cubicBezTo>
                      <a:cubicBezTo>
                        <a:pt x="215" y="4"/>
                        <a:pt x="228" y="1"/>
                        <a:pt x="228" y="1"/>
                      </a:cubicBezTo>
                      <a:cubicBezTo>
                        <a:pt x="250" y="5"/>
                        <a:pt x="240" y="0"/>
                        <a:pt x="255" y="22"/>
                      </a:cubicBezTo>
                      <a:cubicBezTo>
                        <a:pt x="257" y="25"/>
                        <a:pt x="263" y="24"/>
                        <a:pt x="267" y="25"/>
                      </a:cubicBezTo>
                      <a:cubicBezTo>
                        <a:pt x="273" y="27"/>
                        <a:pt x="285" y="31"/>
                        <a:pt x="285" y="31"/>
                      </a:cubicBezTo>
                      <a:cubicBezTo>
                        <a:pt x="287" y="34"/>
                        <a:pt x="292" y="37"/>
                        <a:pt x="291" y="40"/>
                      </a:cubicBezTo>
                      <a:cubicBezTo>
                        <a:pt x="290" y="43"/>
                        <a:pt x="284" y="41"/>
                        <a:pt x="282" y="43"/>
                      </a:cubicBezTo>
                      <a:cubicBezTo>
                        <a:pt x="266" y="59"/>
                        <a:pt x="273" y="63"/>
                        <a:pt x="252" y="70"/>
                      </a:cubicBezTo>
                      <a:cubicBezTo>
                        <a:pt x="247" y="78"/>
                        <a:pt x="240" y="97"/>
                        <a:pt x="240" y="97"/>
                      </a:cubicBezTo>
                      <a:cubicBezTo>
                        <a:pt x="254" y="118"/>
                        <a:pt x="254" y="108"/>
                        <a:pt x="249" y="124"/>
                      </a:cubicBezTo>
                      <a:cubicBezTo>
                        <a:pt x="252" y="133"/>
                        <a:pt x="270" y="145"/>
                        <a:pt x="270" y="145"/>
                      </a:cubicBezTo>
                      <a:cubicBezTo>
                        <a:pt x="278" y="170"/>
                        <a:pt x="277" y="164"/>
                        <a:pt x="252" y="169"/>
                      </a:cubicBezTo>
                      <a:cubicBezTo>
                        <a:pt x="247" y="176"/>
                        <a:pt x="244" y="190"/>
                        <a:pt x="237" y="196"/>
                      </a:cubicBezTo>
                      <a:cubicBezTo>
                        <a:pt x="232" y="200"/>
                        <a:pt x="225" y="201"/>
                        <a:pt x="219" y="205"/>
                      </a:cubicBezTo>
                      <a:cubicBezTo>
                        <a:pt x="209" y="220"/>
                        <a:pt x="207" y="238"/>
                        <a:pt x="201" y="256"/>
                      </a:cubicBezTo>
                      <a:cubicBezTo>
                        <a:pt x="199" y="262"/>
                        <a:pt x="171" y="272"/>
                        <a:pt x="165" y="274"/>
                      </a:cubicBezTo>
                      <a:cubicBezTo>
                        <a:pt x="162" y="273"/>
                        <a:pt x="158" y="273"/>
                        <a:pt x="156" y="271"/>
                      </a:cubicBezTo>
                      <a:cubicBezTo>
                        <a:pt x="154" y="269"/>
                        <a:pt x="156" y="264"/>
                        <a:pt x="153" y="262"/>
                      </a:cubicBezTo>
                      <a:cubicBezTo>
                        <a:pt x="148" y="258"/>
                        <a:pt x="135" y="256"/>
                        <a:pt x="135" y="256"/>
                      </a:cubicBezTo>
                      <a:cubicBezTo>
                        <a:pt x="132" y="252"/>
                        <a:pt x="127" y="241"/>
                        <a:pt x="120" y="241"/>
                      </a:cubicBezTo>
                      <a:cubicBezTo>
                        <a:pt x="114" y="241"/>
                        <a:pt x="102" y="247"/>
                        <a:pt x="102" y="247"/>
                      </a:cubicBezTo>
                      <a:cubicBezTo>
                        <a:pt x="95" y="245"/>
                        <a:pt x="87" y="246"/>
                        <a:pt x="81" y="241"/>
                      </a:cubicBezTo>
                      <a:cubicBezTo>
                        <a:pt x="79" y="239"/>
                        <a:pt x="80" y="234"/>
                        <a:pt x="78" y="232"/>
                      </a:cubicBezTo>
                      <a:cubicBezTo>
                        <a:pt x="76" y="229"/>
                        <a:pt x="72" y="228"/>
                        <a:pt x="69" y="226"/>
                      </a:cubicBezTo>
                      <a:cubicBezTo>
                        <a:pt x="60" y="229"/>
                        <a:pt x="42" y="223"/>
                        <a:pt x="42" y="223"/>
                      </a:cubicBezTo>
                      <a:cubicBezTo>
                        <a:pt x="33" y="210"/>
                        <a:pt x="44" y="187"/>
                        <a:pt x="33" y="175"/>
                      </a:cubicBezTo>
                      <a:cubicBezTo>
                        <a:pt x="29" y="170"/>
                        <a:pt x="15" y="169"/>
                        <a:pt x="15" y="169"/>
                      </a:cubicBezTo>
                      <a:cubicBezTo>
                        <a:pt x="9" y="151"/>
                        <a:pt x="3" y="137"/>
                        <a:pt x="0" y="118"/>
                      </a:cubicBezTo>
                      <a:cubicBezTo>
                        <a:pt x="3" y="102"/>
                        <a:pt x="2" y="87"/>
                        <a:pt x="18" y="82"/>
                      </a:cubicBezTo>
                      <a:cubicBezTo>
                        <a:pt x="34" y="93"/>
                        <a:pt x="40" y="94"/>
                        <a:pt x="57" y="100"/>
                      </a:cubicBezTo>
                      <a:cubicBezTo>
                        <a:pt x="52" y="86"/>
                        <a:pt x="53" y="73"/>
                        <a:pt x="69" y="73"/>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3" name="Freeform 43"/>
                <p:cNvSpPr/>
                <p:nvPr/>
              </p:nvSpPr>
              <p:spPr>
                <a:xfrm>
                  <a:off x="2980080" y="4671360"/>
                  <a:ext cx="363240" cy="175680"/>
                </a:xfrm>
                <a:custGeom>
                  <a:avLst/>
                  <a:gdLst/>
                  <a:ahLst/>
                  <a:rect l="l" t="t" r="r" b="b"/>
                  <a:pathLst>
                    <a:path w="384" h="144">
                      <a:moveTo>
                        <a:pt x="0" y="12"/>
                      </a:moveTo>
                      <a:cubicBezTo>
                        <a:pt x="18" y="0"/>
                        <a:pt x="27" y="5"/>
                        <a:pt x="48" y="12"/>
                      </a:cubicBezTo>
                      <a:cubicBezTo>
                        <a:pt x="57" y="15"/>
                        <a:pt x="75" y="21"/>
                        <a:pt x="75" y="21"/>
                      </a:cubicBezTo>
                      <a:cubicBezTo>
                        <a:pt x="83" y="33"/>
                        <a:pt x="95" y="39"/>
                        <a:pt x="108" y="45"/>
                      </a:cubicBezTo>
                      <a:cubicBezTo>
                        <a:pt x="114" y="48"/>
                        <a:pt x="126" y="51"/>
                        <a:pt x="126" y="51"/>
                      </a:cubicBezTo>
                      <a:cubicBezTo>
                        <a:pt x="138" y="43"/>
                        <a:pt x="141" y="40"/>
                        <a:pt x="153" y="48"/>
                      </a:cubicBezTo>
                      <a:cubicBezTo>
                        <a:pt x="164" y="65"/>
                        <a:pt x="182" y="64"/>
                        <a:pt x="201" y="66"/>
                      </a:cubicBezTo>
                      <a:cubicBezTo>
                        <a:pt x="222" y="73"/>
                        <a:pt x="214" y="68"/>
                        <a:pt x="228" y="78"/>
                      </a:cubicBezTo>
                      <a:cubicBezTo>
                        <a:pt x="214" y="88"/>
                        <a:pt x="222" y="91"/>
                        <a:pt x="234" y="99"/>
                      </a:cubicBezTo>
                      <a:cubicBezTo>
                        <a:pt x="261" y="95"/>
                        <a:pt x="273" y="109"/>
                        <a:pt x="297" y="117"/>
                      </a:cubicBezTo>
                      <a:cubicBezTo>
                        <a:pt x="306" y="120"/>
                        <a:pt x="324" y="126"/>
                        <a:pt x="324" y="126"/>
                      </a:cubicBezTo>
                      <a:cubicBezTo>
                        <a:pt x="344" y="121"/>
                        <a:pt x="364" y="128"/>
                        <a:pt x="384" y="135"/>
                      </a:cubicBezTo>
                      <a:cubicBezTo>
                        <a:pt x="370" y="144"/>
                        <a:pt x="359" y="137"/>
                        <a:pt x="342" y="135"/>
                      </a:cubicBezTo>
                      <a:cubicBezTo>
                        <a:pt x="328" y="140"/>
                        <a:pt x="281" y="126"/>
                        <a:pt x="267" y="117"/>
                      </a:cubicBezTo>
                      <a:cubicBezTo>
                        <a:pt x="259" y="112"/>
                        <a:pt x="240" y="105"/>
                        <a:pt x="240" y="105"/>
                      </a:cubicBezTo>
                      <a:cubicBezTo>
                        <a:pt x="226" y="110"/>
                        <a:pt x="203" y="103"/>
                        <a:pt x="189" y="102"/>
                      </a:cubicBezTo>
                      <a:cubicBezTo>
                        <a:pt x="174" y="107"/>
                        <a:pt x="158" y="94"/>
                        <a:pt x="144" y="87"/>
                      </a:cubicBezTo>
                      <a:cubicBezTo>
                        <a:pt x="122" y="76"/>
                        <a:pt x="99" y="68"/>
                        <a:pt x="75" y="63"/>
                      </a:cubicBezTo>
                      <a:cubicBezTo>
                        <a:pt x="51" y="47"/>
                        <a:pt x="10" y="43"/>
                        <a:pt x="0" y="1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4" name="Freeform 44"/>
                <p:cNvSpPr/>
                <p:nvPr/>
              </p:nvSpPr>
              <p:spPr>
                <a:xfrm>
                  <a:off x="3021480" y="4590360"/>
                  <a:ext cx="28440" cy="30240"/>
                </a:xfrm>
                <a:custGeom>
                  <a:avLst/>
                  <a:gdLst/>
                  <a:ahLst/>
                  <a:rect l="l" t="t" r="r" b="b"/>
                  <a:pathLst>
                    <a:path w="30" h="24">
                      <a:moveTo>
                        <a:pt x="18" y="24"/>
                      </a:moveTo>
                      <a:cubicBezTo>
                        <a:pt x="6" y="16"/>
                        <a:pt x="0" y="13"/>
                        <a:pt x="9" y="0"/>
                      </a:cubicBezTo>
                      <a:cubicBezTo>
                        <a:pt x="23" y="3"/>
                        <a:pt x="30" y="12"/>
                        <a:pt x="18" y="24"/>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25" name="Freeform 45"/>
                <p:cNvSpPr/>
                <p:nvPr/>
              </p:nvSpPr>
              <p:spPr>
                <a:xfrm>
                  <a:off x="3297240" y="4208040"/>
                  <a:ext cx="70560" cy="75600"/>
                </a:xfrm>
                <a:custGeom>
                  <a:avLst/>
                  <a:gdLst/>
                  <a:ahLst/>
                  <a:rect l="l" t="t" r="r" b="b"/>
                  <a:pathLst>
                    <a:path w="75" h="63">
                      <a:moveTo>
                        <a:pt x="8" y="51"/>
                      </a:moveTo>
                      <a:cubicBezTo>
                        <a:pt x="27" y="38"/>
                        <a:pt x="43" y="22"/>
                        <a:pt x="50" y="0"/>
                      </a:cubicBezTo>
                      <a:cubicBezTo>
                        <a:pt x="75" y="6"/>
                        <a:pt x="57" y="21"/>
                        <a:pt x="44" y="30"/>
                      </a:cubicBezTo>
                      <a:cubicBezTo>
                        <a:pt x="36" y="43"/>
                        <a:pt x="23" y="49"/>
                        <a:pt x="11" y="57"/>
                      </a:cubicBezTo>
                      <a:cubicBezTo>
                        <a:pt x="8" y="59"/>
                        <a:pt x="3" y="63"/>
                        <a:pt x="2" y="60"/>
                      </a:cubicBezTo>
                      <a:cubicBezTo>
                        <a:pt x="0" y="57"/>
                        <a:pt x="6" y="54"/>
                        <a:pt x="8" y="51"/>
                      </a:cubicBezTo>
                      <a:close/>
                    </a:path>
                  </a:pathLst>
                </a:custGeom>
                <a:solidFill>
                  <a:srgbClr val="80000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Black"/>
                  </a:endParaRPr>
                </a:p>
              </p:txBody>
            </p:sp>
            <p:sp>
              <p:nvSpPr>
                <p:cNvPr id="126" name="Freeform 46"/>
                <p:cNvSpPr/>
                <p:nvPr/>
              </p:nvSpPr>
              <p:spPr>
                <a:xfrm>
                  <a:off x="3366000" y="3956400"/>
                  <a:ext cx="151920" cy="341640"/>
                </a:xfrm>
                <a:custGeom>
                  <a:avLst/>
                  <a:gdLst/>
                  <a:ahLst/>
                  <a:rect l="l" t="t" r="r" b="b"/>
                  <a:pathLst>
                    <a:path w="163" h="279">
                      <a:moveTo>
                        <a:pt x="31" y="126"/>
                      </a:moveTo>
                      <a:cubicBezTo>
                        <a:pt x="18" y="122"/>
                        <a:pt x="15" y="118"/>
                        <a:pt x="19" y="105"/>
                      </a:cubicBezTo>
                      <a:cubicBezTo>
                        <a:pt x="0" y="99"/>
                        <a:pt x="0" y="83"/>
                        <a:pt x="16" y="72"/>
                      </a:cubicBezTo>
                      <a:cubicBezTo>
                        <a:pt x="24" y="47"/>
                        <a:pt x="31" y="22"/>
                        <a:pt x="46" y="0"/>
                      </a:cubicBezTo>
                      <a:cubicBezTo>
                        <a:pt x="60" y="3"/>
                        <a:pt x="71" y="1"/>
                        <a:pt x="76" y="15"/>
                      </a:cubicBezTo>
                      <a:cubicBezTo>
                        <a:pt x="74" y="32"/>
                        <a:pt x="75" y="65"/>
                        <a:pt x="64" y="81"/>
                      </a:cubicBezTo>
                      <a:cubicBezTo>
                        <a:pt x="55" y="95"/>
                        <a:pt x="56" y="84"/>
                        <a:pt x="49" y="99"/>
                      </a:cubicBezTo>
                      <a:cubicBezTo>
                        <a:pt x="46" y="105"/>
                        <a:pt x="43" y="117"/>
                        <a:pt x="43" y="117"/>
                      </a:cubicBezTo>
                      <a:cubicBezTo>
                        <a:pt x="47" y="129"/>
                        <a:pt x="53" y="128"/>
                        <a:pt x="64" y="135"/>
                      </a:cubicBezTo>
                      <a:cubicBezTo>
                        <a:pt x="79" y="130"/>
                        <a:pt x="86" y="139"/>
                        <a:pt x="100" y="144"/>
                      </a:cubicBezTo>
                      <a:cubicBezTo>
                        <a:pt x="105" y="143"/>
                        <a:pt x="110" y="141"/>
                        <a:pt x="115" y="141"/>
                      </a:cubicBezTo>
                      <a:cubicBezTo>
                        <a:pt x="117" y="141"/>
                        <a:pt x="140" y="144"/>
                        <a:pt x="124" y="153"/>
                      </a:cubicBezTo>
                      <a:cubicBezTo>
                        <a:pt x="119" y="156"/>
                        <a:pt x="112" y="155"/>
                        <a:pt x="106" y="156"/>
                      </a:cubicBezTo>
                      <a:cubicBezTo>
                        <a:pt x="117" y="173"/>
                        <a:pt x="126" y="181"/>
                        <a:pt x="145" y="186"/>
                      </a:cubicBezTo>
                      <a:cubicBezTo>
                        <a:pt x="155" y="193"/>
                        <a:pt x="159" y="198"/>
                        <a:pt x="163" y="210"/>
                      </a:cubicBezTo>
                      <a:cubicBezTo>
                        <a:pt x="156" y="231"/>
                        <a:pt x="163" y="226"/>
                        <a:pt x="148" y="231"/>
                      </a:cubicBezTo>
                      <a:cubicBezTo>
                        <a:pt x="142" y="267"/>
                        <a:pt x="143" y="234"/>
                        <a:pt x="124" y="228"/>
                      </a:cubicBezTo>
                      <a:cubicBezTo>
                        <a:pt x="116" y="241"/>
                        <a:pt x="109" y="252"/>
                        <a:pt x="127" y="258"/>
                      </a:cubicBezTo>
                      <a:cubicBezTo>
                        <a:pt x="120" y="279"/>
                        <a:pt x="111" y="256"/>
                        <a:pt x="100" y="252"/>
                      </a:cubicBezTo>
                      <a:cubicBezTo>
                        <a:pt x="99" y="256"/>
                        <a:pt x="100" y="261"/>
                        <a:pt x="97" y="264"/>
                      </a:cubicBezTo>
                      <a:cubicBezTo>
                        <a:pt x="92" y="268"/>
                        <a:pt x="79" y="270"/>
                        <a:pt x="79" y="270"/>
                      </a:cubicBezTo>
                      <a:cubicBezTo>
                        <a:pt x="74" y="256"/>
                        <a:pt x="80" y="246"/>
                        <a:pt x="88" y="234"/>
                      </a:cubicBezTo>
                      <a:cubicBezTo>
                        <a:pt x="120" y="240"/>
                        <a:pt x="91" y="239"/>
                        <a:pt x="109" y="228"/>
                      </a:cubicBezTo>
                      <a:cubicBezTo>
                        <a:pt x="117" y="223"/>
                        <a:pt x="136" y="219"/>
                        <a:pt x="136" y="219"/>
                      </a:cubicBezTo>
                      <a:cubicBezTo>
                        <a:pt x="137" y="216"/>
                        <a:pt x="140" y="213"/>
                        <a:pt x="139" y="210"/>
                      </a:cubicBezTo>
                      <a:cubicBezTo>
                        <a:pt x="137" y="203"/>
                        <a:pt x="127" y="192"/>
                        <a:pt x="127" y="192"/>
                      </a:cubicBezTo>
                      <a:cubicBezTo>
                        <a:pt x="124" y="193"/>
                        <a:pt x="119" y="192"/>
                        <a:pt x="118" y="195"/>
                      </a:cubicBezTo>
                      <a:cubicBezTo>
                        <a:pt x="117" y="198"/>
                        <a:pt x="124" y="203"/>
                        <a:pt x="121" y="204"/>
                      </a:cubicBezTo>
                      <a:cubicBezTo>
                        <a:pt x="111" y="209"/>
                        <a:pt x="88" y="195"/>
                        <a:pt x="88" y="195"/>
                      </a:cubicBezTo>
                      <a:cubicBezTo>
                        <a:pt x="95" y="173"/>
                        <a:pt x="106" y="166"/>
                        <a:pt x="76" y="156"/>
                      </a:cubicBezTo>
                      <a:cubicBezTo>
                        <a:pt x="64" y="160"/>
                        <a:pt x="61" y="154"/>
                        <a:pt x="49" y="150"/>
                      </a:cubicBezTo>
                      <a:cubicBezTo>
                        <a:pt x="42" y="172"/>
                        <a:pt x="45" y="162"/>
                        <a:pt x="40" y="180"/>
                      </a:cubicBezTo>
                      <a:cubicBezTo>
                        <a:pt x="25" y="176"/>
                        <a:pt x="25" y="170"/>
                        <a:pt x="13" y="162"/>
                      </a:cubicBezTo>
                      <a:cubicBezTo>
                        <a:pt x="14" y="158"/>
                        <a:pt x="14" y="154"/>
                        <a:pt x="16" y="150"/>
                      </a:cubicBezTo>
                      <a:cubicBezTo>
                        <a:pt x="18" y="146"/>
                        <a:pt x="23" y="145"/>
                        <a:pt x="25" y="141"/>
                      </a:cubicBezTo>
                      <a:cubicBezTo>
                        <a:pt x="27" y="135"/>
                        <a:pt x="26" y="129"/>
                        <a:pt x="28" y="123"/>
                      </a:cubicBezTo>
                      <a:cubicBezTo>
                        <a:pt x="29" y="122"/>
                        <a:pt x="30" y="125"/>
                        <a:pt x="31" y="126"/>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7" name="Freeform 47"/>
                <p:cNvSpPr/>
                <p:nvPr/>
              </p:nvSpPr>
              <p:spPr>
                <a:xfrm>
                  <a:off x="3403800" y="4293360"/>
                  <a:ext cx="146160" cy="120240"/>
                </a:xfrm>
                <a:custGeom>
                  <a:avLst/>
                  <a:gdLst/>
                  <a:ahLst/>
                  <a:rect l="l" t="t" r="r" b="b"/>
                  <a:pathLst>
                    <a:path w="153" h="99">
                      <a:moveTo>
                        <a:pt x="3" y="54"/>
                      </a:moveTo>
                      <a:cubicBezTo>
                        <a:pt x="9" y="35"/>
                        <a:pt x="17" y="34"/>
                        <a:pt x="36" y="30"/>
                      </a:cubicBezTo>
                      <a:cubicBezTo>
                        <a:pt x="47" y="23"/>
                        <a:pt x="51" y="20"/>
                        <a:pt x="63" y="24"/>
                      </a:cubicBezTo>
                      <a:cubicBezTo>
                        <a:pt x="65" y="27"/>
                        <a:pt x="66" y="32"/>
                        <a:pt x="69" y="33"/>
                      </a:cubicBezTo>
                      <a:cubicBezTo>
                        <a:pt x="69" y="33"/>
                        <a:pt x="100" y="15"/>
                        <a:pt x="105" y="12"/>
                      </a:cubicBezTo>
                      <a:cubicBezTo>
                        <a:pt x="111" y="8"/>
                        <a:pt x="123" y="0"/>
                        <a:pt x="123" y="0"/>
                      </a:cubicBezTo>
                      <a:cubicBezTo>
                        <a:pt x="136" y="9"/>
                        <a:pt x="134" y="21"/>
                        <a:pt x="147" y="30"/>
                      </a:cubicBezTo>
                      <a:cubicBezTo>
                        <a:pt x="153" y="47"/>
                        <a:pt x="142" y="69"/>
                        <a:pt x="132" y="84"/>
                      </a:cubicBezTo>
                      <a:cubicBezTo>
                        <a:pt x="116" y="60"/>
                        <a:pt x="114" y="91"/>
                        <a:pt x="102" y="99"/>
                      </a:cubicBezTo>
                      <a:cubicBezTo>
                        <a:pt x="92" y="96"/>
                        <a:pt x="75" y="84"/>
                        <a:pt x="75" y="84"/>
                      </a:cubicBezTo>
                      <a:cubicBezTo>
                        <a:pt x="70" y="70"/>
                        <a:pt x="82" y="54"/>
                        <a:pt x="63" y="48"/>
                      </a:cubicBezTo>
                      <a:cubicBezTo>
                        <a:pt x="57" y="50"/>
                        <a:pt x="52" y="57"/>
                        <a:pt x="45" y="57"/>
                      </a:cubicBezTo>
                      <a:cubicBezTo>
                        <a:pt x="39" y="57"/>
                        <a:pt x="27" y="51"/>
                        <a:pt x="27" y="51"/>
                      </a:cubicBezTo>
                      <a:cubicBezTo>
                        <a:pt x="16" y="55"/>
                        <a:pt x="11" y="62"/>
                        <a:pt x="0" y="66"/>
                      </a:cubicBezTo>
                      <a:cubicBezTo>
                        <a:pt x="0" y="65"/>
                        <a:pt x="11" y="29"/>
                        <a:pt x="3" y="54"/>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8" name="Freeform 48"/>
                <p:cNvSpPr/>
                <p:nvPr/>
              </p:nvSpPr>
              <p:spPr>
                <a:xfrm>
                  <a:off x="3418920" y="4195800"/>
                  <a:ext cx="28080" cy="50400"/>
                </a:xfrm>
                <a:custGeom>
                  <a:avLst/>
                  <a:gdLst/>
                  <a:ahLst/>
                  <a:rect l="l" t="t" r="r" b="b"/>
                  <a:pathLst>
                    <a:path w="29" h="43">
                      <a:moveTo>
                        <a:pt x="1" y="34"/>
                      </a:moveTo>
                      <a:cubicBezTo>
                        <a:pt x="4" y="13"/>
                        <a:pt x="2" y="0"/>
                        <a:pt x="22" y="13"/>
                      </a:cubicBezTo>
                      <a:cubicBezTo>
                        <a:pt x="24" y="20"/>
                        <a:pt x="29" y="25"/>
                        <a:pt x="19" y="31"/>
                      </a:cubicBezTo>
                      <a:cubicBezTo>
                        <a:pt x="0" y="43"/>
                        <a:pt x="1" y="42"/>
                        <a:pt x="1" y="34"/>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29" name="Freeform 49"/>
                <p:cNvSpPr/>
                <p:nvPr/>
              </p:nvSpPr>
              <p:spPr>
                <a:xfrm>
                  <a:off x="3569040" y="4539960"/>
                  <a:ext cx="45360" cy="94680"/>
                </a:xfrm>
                <a:custGeom>
                  <a:avLst/>
                  <a:gdLst/>
                  <a:ahLst/>
                  <a:rect l="l" t="t" r="r" b="b"/>
                  <a:pathLst>
                    <a:path w="48" h="81">
                      <a:moveTo>
                        <a:pt x="24" y="81"/>
                      </a:moveTo>
                      <a:cubicBezTo>
                        <a:pt x="13" y="77"/>
                        <a:pt x="10" y="70"/>
                        <a:pt x="0" y="63"/>
                      </a:cubicBezTo>
                      <a:cubicBezTo>
                        <a:pt x="4" y="50"/>
                        <a:pt x="23" y="41"/>
                        <a:pt x="0" y="33"/>
                      </a:cubicBezTo>
                      <a:cubicBezTo>
                        <a:pt x="3" y="19"/>
                        <a:pt x="4" y="11"/>
                        <a:pt x="12" y="0"/>
                      </a:cubicBezTo>
                      <a:cubicBezTo>
                        <a:pt x="25" y="4"/>
                        <a:pt x="25" y="9"/>
                        <a:pt x="21" y="21"/>
                      </a:cubicBezTo>
                      <a:cubicBezTo>
                        <a:pt x="43" y="25"/>
                        <a:pt x="46" y="35"/>
                        <a:pt x="24" y="42"/>
                      </a:cubicBezTo>
                      <a:cubicBezTo>
                        <a:pt x="15" y="69"/>
                        <a:pt x="48" y="44"/>
                        <a:pt x="24" y="60"/>
                      </a:cubicBezTo>
                      <a:cubicBezTo>
                        <a:pt x="21" y="70"/>
                        <a:pt x="24" y="71"/>
                        <a:pt x="24" y="8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0" name="Freeform 50"/>
                <p:cNvSpPr/>
                <p:nvPr/>
              </p:nvSpPr>
              <p:spPr>
                <a:xfrm>
                  <a:off x="3527640" y="4702320"/>
                  <a:ext cx="37440" cy="20160"/>
                </a:xfrm>
                <a:custGeom>
                  <a:avLst/>
                  <a:gdLst/>
                  <a:ahLst/>
                  <a:rect l="l" t="t" r="r" b="b"/>
                  <a:pathLst>
                    <a:path w="38" h="15">
                      <a:moveTo>
                        <a:pt x="24" y="15"/>
                      </a:moveTo>
                      <a:cubicBezTo>
                        <a:pt x="13" y="12"/>
                        <a:pt x="0" y="6"/>
                        <a:pt x="18" y="0"/>
                      </a:cubicBezTo>
                      <a:cubicBezTo>
                        <a:pt x="21" y="1"/>
                        <a:pt x="38" y="1"/>
                        <a:pt x="33" y="12"/>
                      </a:cubicBezTo>
                      <a:cubicBezTo>
                        <a:pt x="32" y="15"/>
                        <a:pt x="24" y="15"/>
                        <a:pt x="24" y="15"/>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31" name="Freeform 51"/>
                <p:cNvSpPr/>
                <p:nvPr/>
              </p:nvSpPr>
              <p:spPr>
                <a:xfrm>
                  <a:off x="3581280" y="4691880"/>
                  <a:ext cx="69840" cy="30960"/>
                </a:xfrm>
                <a:custGeom>
                  <a:avLst/>
                  <a:gdLst/>
                  <a:ahLst/>
                  <a:rect l="l" t="t" r="r" b="b"/>
                  <a:pathLst>
                    <a:path w="75" h="26">
                      <a:moveTo>
                        <a:pt x="9" y="18"/>
                      </a:moveTo>
                      <a:cubicBezTo>
                        <a:pt x="21" y="0"/>
                        <a:pt x="8" y="14"/>
                        <a:pt x="24" y="12"/>
                      </a:cubicBezTo>
                      <a:cubicBezTo>
                        <a:pt x="30" y="11"/>
                        <a:pt x="42" y="6"/>
                        <a:pt x="42" y="6"/>
                      </a:cubicBezTo>
                      <a:cubicBezTo>
                        <a:pt x="59" y="9"/>
                        <a:pt x="66" y="7"/>
                        <a:pt x="75" y="21"/>
                      </a:cubicBezTo>
                      <a:cubicBezTo>
                        <a:pt x="60" y="26"/>
                        <a:pt x="69" y="25"/>
                        <a:pt x="48" y="18"/>
                      </a:cubicBezTo>
                      <a:cubicBezTo>
                        <a:pt x="45" y="17"/>
                        <a:pt x="39" y="15"/>
                        <a:pt x="39" y="15"/>
                      </a:cubicBezTo>
                      <a:cubicBezTo>
                        <a:pt x="30" y="18"/>
                        <a:pt x="0" y="9"/>
                        <a:pt x="9" y="18"/>
                      </a:cubicBezTo>
                      <a:close/>
                    </a:path>
                  </a:pathLst>
                </a:custGeom>
                <a:solidFill>
                  <a:srgbClr val="80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Black"/>
                  </a:endParaRPr>
                </a:p>
              </p:txBody>
            </p:sp>
            <p:sp>
              <p:nvSpPr>
                <p:cNvPr id="132" name="Freeform 52"/>
                <p:cNvSpPr/>
                <p:nvPr/>
              </p:nvSpPr>
              <p:spPr>
                <a:xfrm>
                  <a:off x="3337560" y="4542480"/>
                  <a:ext cx="172440" cy="216360"/>
                </a:xfrm>
                <a:custGeom>
                  <a:avLst/>
                  <a:gdLst/>
                  <a:ahLst/>
                  <a:rect l="l" t="t" r="r" b="b"/>
                  <a:pathLst>
                    <a:path w="184" h="180">
                      <a:moveTo>
                        <a:pt x="21" y="12"/>
                      </a:moveTo>
                      <a:cubicBezTo>
                        <a:pt x="32" y="9"/>
                        <a:pt x="40" y="4"/>
                        <a:pt x="51" y="0"/>
                      </a:cubicBezTo>
                      <a:cubicBezTo>
                        <a:pt x="69" y="12"/>
                        <a:pt x="96" y="20"/>
                        <a:pt x="117" y="27"/>
                      </a:cubicBezTo>
                      <a:cubicBezTo>
                        <a:pt x="144" y="20"/>
                        <a:pt x="133" y="24"/>
                        <a:pt x="150" y="18"/>
                      </a:cubicBezTo>
                      <a:cubicBezTo>
                        <a:pt x="154" y="6"/>
                        <a:pt x="159" y="4"/>
                        <a:pt x="171" y="0"/>
                      </a:cubicBezTo>
                      <a:cubicBezTo>
                        <a:pt x="184" y="13"/>
                        <a:pt x="178" y="17"/>
                        <a:pt x="162" y="21"/>
                      </a:cubicBezTo>
                      <a:cubicBezTo>
                        <a:pt x="151" y="37"/>
                        <a:pt x="166" y="35"/>
                        <a:pt x="147" y="45"/>
                      </a:cubicBezTo>
                      <a:cubicBezTo>
                        <a:pt x="133" y="42"/>
                        <a:pt x="105" y="36"/>
                        <a:pt x="105" y="36"/>
                      </a:cubicBezTo>
                      <a:cubicBezTo>
                        <a:pt x="91" y="26"/>
                        <a:pt x="99" y="31"/>
                        <a:pt x="78" y="24"/>
                      </a:cubicBezTo>
                      <a:cubicBezTo>
                        <a:pt x="75" y="23"/>
                        <a:pt x="69" y="21"/>
                        <a:pt x="69" y="21"/>
                      </a:cubicBezTo>
                      <a:cubicBezTo>
                        <a:pt x="56" y="25"/>
                        <a:pt x="44" y="25"/>
                        <a:pt x="33" y="33"/>
                      </a:cubicBezTo>
                      <a:cubicBezTo>
                        <a:pt x="31" y="36"/>
                        <a:pt x="28" y="38"/>
                        <a:pt x="27" y="42"/>
                      </a:cubicBezTo>
                      <a:cubicBezTo>
                        <a:pt x="26" y="49"/>
                        <a:pt x="56" y="76"/>
                        <a:pt x="63" y="78"/>
                      </a:cubicBezTo>
                      <a:lnTo>
                        <a:pt x="120" y="72"/>
                      </a:lnTo>
                      <a:cubicBezTo>
                        <a:pt x="120" y="72"/>
                        <a:pt x="93" y="81"/>
                        <a:pt x="93" y="81"/>
                      </a:cubicBezTo>
                      <a:cubicBezTo>
                        <a:pt x="87" y="83"/>
                        <a:pt x="75" y="87"/>
                        <a:pt x="75" y="87"/>
                      </a:cubicBezTo>
                      <a:cubicBezTo>
                        <a:pt x="79" y="108"/>
                        <a:pt x="88" y="101"/>
                        <a:pt x="84" y="123"/>
                      </a:cubicBezTo>
                      <a:cubicBezTo>
                        <a:pt x="88" y="137"/>
                        <a:pt x="95" y="137"/>
                        <a:pt x="99" y="150"/>
                      </a:cubicBezTo>
                      <a:cubicBezTo>
                        <a:pt x="94" y="164"/>
                        <a:pt x="91" y="155"/>
                        <a:pt x="78" y="159"/>
                      </a:cubicBezTo>
                      <a:cubicBezTo>
                        <a:pt x="63" y="154"/>
                        <a:pt x="73" y="160"/>
                        <a:pt x="66" y="147"/>
                      </a:cubicBezTo>
                      <a:cubicBezTo>
                        <a:pt x="62" y="141"/>
                        <a:pt x="54" y="129"/>
                        <a:pt x="54" y="129"/>
                      </a:cubicBezTo>
                      <a:cubicBezTo>
                        <a:pt x="50" y="114"/>
                        <a:pt x="46" y="108"/>
                        <a:pt x="36" y="123"/>
                      </a:cubicBezTo>
                      <a:cubicBezTo>
                        <a:pt x="41" y="137"/>
                        <a:pt x="30" y="172"/>
                        <a:pt x="18" y="180"/>
                      </a:cubicBezTo>
                      <a:cubicBezTo>
                        <a:pt x="13" y="166"/>
                        <a:pt x="18" y="155"/>
                        <a:pt x="21" y="141"/>
                      </a:cubicBezTo>
                      <a:cubicBezTo>
                        <a:pt x="7" y="120"/>
                        <a:pt x="15" y="127"/>
                        <a:pt x="0" y="117"/>
                      </a:cubicBezTo>
                      <a:cubicBezTo>
                        <a:pt x="3" y="104"/>
                        <a:pt x="6" y="91"/>
                        <a:pt x="9" y="78"/>
                      </a:cubicBezTo>
                      <a:cubicBezTo>
                        <a:pt x="11" y="69"/>
                        <a:pt x="18" y="51"/>
                        <a:pt x="18" y="51"/>
                      </a:cubicBezTo>
                      <a:cubicBezTo>
                        <a:pt x="9" y="37"/>
                        <a:pt x="8" y="25"/>
                        <a:pt x="21" y="1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3" name="Freeform 53"/>
                <p:cNvSpPr/>
                <p:nvPr/>
              </p:nvSpPr>
              <p:spPr>
                <a:xfrm>
                  <a:off x="3337560" y="4833720"/>
                  <a:ext cx="107640" cy="55080"/>
                </a:xfrm>
                <a:custGeom>
                  <a:avLst/>
                  <a:gdLst/>
                  <a:ahLst/>
                  <a:rect l="l" t="t" r="r" b="b"/>
                  <a:pathLst>
                    <a:path w="114" h="48">
                      <a:moveTo>
                        <a:pt x="27" y="0"/>
                      </a:moveTo>
                      <a:cubicBezTo>
                        <a:pt x="33" y="1"/>
                        <a:pt x="39" y="2"/>
                        <a:pt x="45" y="3"/>
                      </a:cubicBezTo>
                      <a:cubicBezTo>
                        <a:pt x="51" y="5"/>
                        <a:pt x="63" y="9"/>
                        <a:pt x="63" y="9"/>
                      </a:cubicBezTo>
                      <a:cubicBezTo>
                        <a:pt x="81" y="5"/>
                        <a:pt x="96" y="2"/>
                        <a:pt x="114" y="6"/>
                      </a:cubicBezTo>
                      <a:cubicBezTo>
                        <a:pt x="113" y="9"/>
                        <a:pt x="114" y="13"/>
                        <a:pt x="111" y="15"/>
                      </a:cubicBezTo>
                      <a:cubicBezTo>
                        <a:pt x="106" y="19"/>
                        <a:pt x="93" y="21"/>
                        <a:pt x="93" y="21"/>
                      </a:cubicBezTo>
                      <a:cubicBezTo>
                        <a:pt x="79" y="20"/>
                        <a:pt x="65" y="18"/>
                        <a:pt x="51" y="18"/>
                      </a:cubicBezTo>
                      <a:cubicBezTo>
                        <a:pt x="47" y="18"/>
                        <a:pt x="40" y="17"/>
                        <a:pt x="39" y="21"/>
                      </a:cubicBezTo>
                      <a:cubicBezTo>
                        <a:pt x="38" y="24"/>
                        <a:pt x="45" y="25"/>
                        <a:pt x="48" y="27"/>
                      </a:cubicBezTo>
                      <a:cubicBezTo>
                        <a:pt x="53" y="42"/>
                        <a:pt x="47" y="44"/>
                        <a:pt x="33" y="48"/>
                      </a:cubicBezTo>
                      <a:cubicBezTo>
                        <a:pt x="20" y="39"/>
                        <a:pt x="15" y="29"/>
                        <a:pt x="0" y="24"/>
                      </a:cubicBezTo>
                      <a:cubicBezTo>
                        <a:pt x="14" y="15"/>
                        <a:pt x="15" y="26"/>
                        <a:pt x="24" y="12"/>
                      </a:cubicBezTo>
                      <a:cubicBezTo>
                        <a:pt x="20" y="1"/>
                        <a:pt x="18" y="4"/>
                        <a:pt x="27" y="0"/>
                      </a:cubicBezTo>
                      <a:close/>
                    </a:path>
                  </a:pathLst>
                </a:custGeom>
                <a:solidFill>
                  <a:srgbClr val="80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134" name="Freeform 54"/>
                <p:cNvSpPr/>
                <p:nvPr/>
              </p:nvSpPr>
              <p:spPr>
                <a:xfrm>
                  <a:off x="3465360" y="4842000"/>
                  <a:ext cx="95040" cy="65880"/>
                </a:xfrm>
                <a:custGeom>
                  <a:avLst/>
                  <a:gdLst/>
                  <a:ahLst/>
                  <a:rect l="l" t="t" r="r" b="b"/>
                  <a:pathLst>
                    <a:path w="97" h="56">
                      <a:moveTo>
                        <a:pt x="3" y="50"/>
                      </a:moveTo>
                      <a:cubicBezTo>
                        <a:pt x="4" y="45"/>
                        <a:pt x="3" y="39"/>
                        <a:pt x="6" y="35"/>
                      </a:cubicBezTo>
                      <a:cubicBezTo>
                        <a:pt x="11" y="26"/>
                        <a:pt x="67" y="10"/>
                        <a:pt x="78" y="8"/>
                      </a:cubicBezTo>
                      <a:cubicBezTo>
                        <a:pt x="56" y="1"/>
                        <a:pt x="84" y="0"/>
                        <a:pt x="90" y="2"/>
                      </a:cubicBezTo>
                      <a:cubicBezTo>
                        <a:pt x="92" y="8"/>
                        <a:pt x="94" y="14"/>
                        <a:pt x="96" y="20"/>
                      </a:cubicBezTo>
                      <a:cubicBezTo>
                        <a:pt x="97" y="23"/>
                        <a:pt x="90" y="22"/>
                        <a:pt x="87" y="23"/>
                      </a:cubicBezTo>
                      <a:cubicBezTo>
                        <a:pt x="84" y="25"/>
                        <a:pt x="81" y="28"/>
                        <a:pt x="78" y="29"/>
                      </a:cubicBezTo>
                      <a:cubicBezTo>
                        <a:pt x="72" y="32"/>
                        <a:pt x="66" y="33"/>
                        <a:pt x="60" y="35"/>
                      </a:cubicBezTo>
                      <a:cubicBezTo>
                        <a:pt x="44" y="40"/>
                        <a:pt x="31" y="51"/>
                        <a:pt x="15" y="56"/>
                      </a:cubicBezTo>
                      <a:cubicBezTo>
                        <a:pt x="11" y="55"/>
                        <a:pt x="6" y="56"/>
                        <a:pt x="3" y="53"/>
                      </a:cubicBezTo>
                      <a:cubicBezTo>
                        <a:pt x="1" y="51"/>
                        <a:pt x="0" y="47"/>
                        <a:pt x="0" y="44"/>
                      </a:cubicBezTo>
                      <a:cubicBezTo>
                        <a:pt x="0" y="42"/>
                        <a:pt x="2" y="48"/>
                        <a:pt x="3" y="50"/>
                      </a:cubicBezTo>
                      <a:close/>
                    </a:path>
                  </a:pathLst>
                </a:custGeom>
                <a:solidFill>
                  <a:srgbClr val="800000"/>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Black"/>
                  </a:endParaRPr>
                </a:p>
              </p:txBody>
            </p:sp>
            <p:sp>
              <p:nvSpPr>
                <p:cNvPr id="135" name="Freeform 55"/>
                <p:cNvSpPr/>
                <p:nvPr/>
              </p:nvSpPr>
              <p:spPr>
                <a:xfrm>
                  <a:off x="3672000" y="4832640"/>
                  <a:ext cx="20520" cy="29880"/>
                </a:xfrm>
                <a:custGeom>
                  <a:avLst/>
                  <a:gdLst/>
                  <a:ahLst/>
                  <a:rect l="l" t="t" r="r" b="b"/>
                  <a:pathLst>
                    <a:path w="22" h="25">
                      <a:moveTo>
                        <a:pt x="7" y="18"/>
                      </a:moveTo>
                      <a:cubicBezTo>
                        <a:pt x="11" y="7"/>
                        <a:pt x="17" y="0"/>
                        <a:pt x="22" y="15"/>
                      </a:cubicBezTo>
                      <a:cubicBezTo>
                        <a:pt x="3" y="21"/>
                        <a:pt x="0" y="25"/>
                        <a:pt x="7" y="18"/>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36" name="Freeform 56"/>
                <p:cNvSpPr/>
                <p:nvPr/>
              </p:nvSpPr>
              <p:spPr>
                <a:xfrm>
                  <a:off x="3755880" y="4768560"/>
                  <a:ext cx="29160" cy="40680"/>
                </a:xfrm>
                <a:custGeom>
                  <a:avLst/>
                  <a:gdLst/>
                  <a:ahLst/>
                  <a:rect l="l" t="t" r="r" b="b"/>
                  <a:pathLst>
                    <a:path w="29" h="33">
                      <a:moveTo>
                        <a:pt x="12" y="28"/>
                      </a:moveTo>
                      <a:cubicBezTo>
                        <a:pt x="10" y="23"/>
                        <a:pt x="0" y="0"/>
                        <a:pt x="27" y="22"/>
                      </a:cubicBezTo>
                      <a:cubicBezTo>
                        <a:pt x="29" y="24"/>
                        <a:pt x="27" y="30"/>
                        <a:pt x="24" y="31"/>
                      </a:cubicBezTo>
                      <a:cubicBezTo>
                        <a:pt x="20" y="33"/>
                        <a:pt x="16" y="29"/>
                        <a:pt x="12" y="28"/>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37" name="Freeform 57"/>
                <p:cNvSpPr/>
                <p:nvPr/>
              </p:nvSpPr>
              <p:spPr>
                <a:xfrm>
                  <a:off x="3741840" y="4814280"/>
                  <a:ext cx="29160" cy="30240"/>
                </a:xfrm>
                <a:custGeom>
                  <a:avLst/>
                  <a:gdLst/>
                  <a:ahLst/>
                  <a:rect l="l" t="t" r="r" b="b"/>
                  <a:pathLst>
                    <a:path w="33" h="24">
                      <a:moveTo>
                        <a:pt x="25" y="0"/>
                      </a:moveTo>
                      <a:cubicBezTo>
                        <a:pt x="33" y="24"/>
                        <a:pt x="0" y="17"/>
                        <a:pt x="25" y="0"/>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38" name="Freeform 58"/>
                <p:cNvSpPr/>
                <p:nvPr/>
              </p:nvSpPr>
              <p:spPr>
                <a:xfrm>
                  <a:off x="3663360" y="4626720"/>
                  <a:ext cx="573840" cy="272880"/>
                </a:xfrm>
                <a:custGeom>
                  <a:avLst/>
                  <a:gdLst/>
                  <a:ahLst/>
                  <a:rect l="l" t="t" r="r" b="b"/>
                  <a:pathLst>
                    <a:path w="607" h="228">
                      <a:moveTo>
                        <a:pt x="238" y="186"/>
                      </a:moveTo>
                      <a:cubicBezTo>
                        <a:pt x="234" y="173"/>
                        <a:pt x="229" y="173"/>
                        <a:pt x="217" y="177"/>
                      </a:cubicBezTo>
                      <a:cubicBezTo>
                        <a:pt x="209" y="189"/>
                        <a:pt x="208" y="196"/>
                        <a:pt x="223" y="201"/>
                      </a:cubicBezTo>
                      <a:cubicBezTo>
                        <a:pt x="230" y="199"/>
                        <a:pt x="236" y="192"/>
                        <a:pt x="244" y="192"/>
                      </a:cubicBezTo>
                      <a:cubicBezTo>
                        <a:pt x="250" y="192"/>
                        <a:pt x="262" y="198"/>
                        <a:pt x="262" y="198"/>
                      </a:cubicBezTo>
                      <a:cubicBezTo>
                        <a:pt x="291" y="192"/>
                        <a:pt x="307" y="211"/>
                        <a:pt x="334" y="216"/>
                      </a:cubicBezTo>
                      <a:cubicBezTo>
                        <a:pt x="350" y="212"/>
                        <a:pt x="364" y="215"/>
                        <a:pt x="382" y="213"/>
                      </a:cubicBezTo>
                      <a:cubicBezTo>
                        <a:pt x="383" y="210"/>
                        <a:pt x="387" y="207"/>
                        <a:pt x="385" y="204"/>
                      </a:cubicBezTo>
                      <a:cubicBezTo>
                        <a:pt x="381" y="198"/>
                        <a:pt x="367" y="192"/>
                        <a:pt x="367" y="192"/>
                      </a:cubicBezTo>
                      <a:cubicBezTo>
                        <a:pt x="365" y="189"/>
                        <a:pt x="358" y="184"/>
                        <a:pt x="361" y="183"/>
                      </a:cubicBezTo>
                      <a:cubicBezTo>
                        <a:pt x="367" y="181"/>
                        <a:pt x="379" y="189"/>
                        <a:pt x="379" y="189"/>
                      </a:cubicBezTo>
                      <a:cubicBezTo>
                        <a:pt x="398" y="183"/>
                        <a:pt x="413" y="175"/>
                        <a:pt x="433" y="171"/>
                      </a:cubicBezTo>
                      <a:cubicBezTo>
                        <a:pt x="447" y="176"/>
                        <a:pt x="457" y="178"/>
                        <a:pt x="469" y="186"/>
                      </a:cubicBezTo>
                      <a:cubicBezTo>
                        <a:pt x="478" y="200"/>
                        <a:pt x="497" y="207"/>
                        <a:pt x="511" y="216"/>
                      </a:cubicBezTo>
                      <a:cubicBezTo>
                        <a:pt x="519" y="221"/>
                        <a:pt x="538" y="228"/>
                        <a:pt x="538" y="228"/>
                      </a:cubicBezTo>
                      <a:cubicBezTo>
                        <a:pt x="563" y="220"/>
                        <a:pt x="550" y="221"/>
                        <a:pt x="577" y="225"/>
                      </a:cubicBezTo>
                      <a:cubicBezTo>
                        <a:pt x="585" y="224"/>
                        <a:pt x="594" y="226"/>
                        <a:pt x="601" y="222"/>
                      </a:cubicBezTo>
                      <a:cubicBezTo>
                        <a:pt x="607" y="219"/>
                        <a:pt x="598" y="207"/>
                        <a:pt x="592" y="204"/>
                      </a:cubicBezTo>
                      <a:cubicBezTo>
                        <a:pt x="586" y="201"/>
                        <a:pt x="578" y="202"/>
                        <a:pt x="571" y="201"/>
                      </a:cubicBezTo>
                      <a:cubicBezTo>
                        <a:pt x="565" y="197"/>
                        <a:pt x="560" y="191"/>
                        <a:pt x="553" y="189"/>
                      </a:cubicBezTo>
                      <a:cubicBezTo>
                        <a:pt x="547" y="187"/>
                        <a:pt x="535" y="183"/>
                        <a:pt x="535" y="183"/>
                      </a:cubicBezTo>
                      <a:cubicBezTo>
                        <a:pt x="531" y="170"/>
                        <a:pt x="517" y="161"/>
                        <a:pt x="505" y="153"/>
                      </a:cubicBezTo>
                      <a:cubicBezTo>
                        <a:pt x="504" y="150"/>
                        <a:pt x="501" y="147"/>
                        <a:pt x="502" y="144"/>
                      </a:cubicBezTo>
                      <a:cubicBezTo>
                        <a:pt x="503" y="141"/>
                        <a:pt x="510" y="144"/>
                        <a:pt x="511" y="141"/>
                      </a:cubicBezTo>
                      <a:cubicBezTo>
                        <a:pt x="512" y="138"/>
                        <a:pt x="503" y="124"/>
                        <a:pt x="502" y="123"/>
                      </a:cubicBezTo>
                      <a:cubicBezTo>
                        <a:pt x="502" y="123"/>
                        <a:pt x="480" y="116"/>
                        <a:pt x="475" y="114"/>
                      </a:cubicBezTo>
                      <a:cubicBezTo>
                        <a:pt x="472" y="113"/>
                        <a:pt x="466" y="111"/>
                        <a:pt x="466" y="111"/>
                      </a:cubicBezTo>
                      <a:cubicBezTo>
                        <a:pt x="437" y="82"/>
                        <a:pt x="395" y="70"/>
                        <a:pt x="355" y="66"/>
                      </a:cubicBezTo>
                      <a:cubicBezTo>
                        <a:pt x="330" y="58"/>
                        <a:pt x="305" y="48"/>
                        <a:pt x="280" y="42"/>
                      </a:cubicBezTo>
                      <a:cubicBezTo>
                        <a:pt x="264" y="47"/>
                        <a:pt x="255" y="39"/>
                        <a:pt x="241" y="33"/>
                      </a:cubicBezTo>
                      <a:cubicBezTo>
                        <a:pt x="235" y="30"/>
                        <a:pt x="223" y="27"/>
                        <a:pt x="223" y="27"/>
                      </a:cubicBezTo>
                      <a:cubicBezTo>
                        <a:pt x="205" y="30"/>
                        <a:pt x="195" y="36"/>
                        <a:pt x="178" y="42"/>
                      </a:cubicBezTo>
                      <a:cubicBezTo>
                        <a:pt x="170" y="31"/>
                        <a:pt x="161" y="32"/>
                        <a:pt x="166" y="18"/>
                      </a:cubicBezTo>
                      <a:cubicBezTo>
                        <a:pt x="158" y="7"/>
                        <a:pt x="155" y="5"/>
                        <a:pt x="142" y="9"/>
                      </a:cubicBezTo>
                      <a:cubicBezTo>
                        <a:pt x="148" y="27"/>
                        <a:pt x="165" y="18"/>
                        <a:pt x="142" y="24"/>
                      </a:cubicBezTo>
                      <a:cubicBezTo>
                        <a:pt x="146" y="37"/>
                        <a:pt x="153" y="36"/>
                        <a:pt x="166" y="39"/>
                      </a:cubicBezTo>
                      <a:cubicBezTo>
                        <a:pt x="168" y="42"/>
                        <a:pt x="173" y="45"/>
                        <a:pt x="172" y="48"/>
                      </a:cubicBezTo>
                      <a:cubicBezTo>
                        <a:pt x="171" y="51"/>
                        <a:pt x="165" y="49"/>
                        <a:pt x="163" y="51"/>
                      </a:cubicBezTo>
                      <a:cubicBezTo>
                        <a:pt x="147" y="67"/>
                        <a:pt x="175" y="55"/>
                        <a:pt x="151" y="63"/>
                      </a:cubicBezTo>
                      <a:cubicBezTo>
                        <a:pt x="142" y="76"/>
                        <a:pt x="139" y="76"/>
                        <a:pt x="124" y="72"/>
                      </a:cubicBezTo>
                      <a:cubicBezTo>
                        <a:pt x="117" y="51"/>
                        <a:pt x="123" y="58"/>
                        <a:pt x="109" y="48"/>
                      </a:cubicBezTo>
                      <a:cubicBezTo>
                        <a:pt x="99" y="33"/>
                        <a:pt x="104" y="17"/>
                        <a:pt x="88" y="6"/>
                      </a:cubicBezTo>
                      <a:cubicBezTo>
                        <a:pt x="73" y="11"/>
                        <a:pt x="82" y="10"/>
                        <a:pt x="61" y="3"/>
                      </a:cubicBezTo>
                      <a:cubicBezTo>
                        <a:pt x="58" y="2"/>
                        <a:pt x="52" y="0"/>
                        <a:pt x="52" y="0"/>
                      </a:cubicBezTo>
                      <a:cubicBezTo>
                        <a:pt x="38" y="4"/>
                        <a:pt x="25" y="7"/>
                        <a:pt x="13" y="15"/>
                      </a:cubicBezTo>
                      <a:cubicBezTo>
                        <a:pt x="0" y="35"/>
                        <a:pt x="17" y="36"/>
                        <a:pt x="34" y="39"/>
                      </a:cubicBezTo>
                      <a:cubicBezTo>
                        <a:pt x="37" y="43"/>
                        <a:pt x="42" y="54"/>
                        <a:pt x="49" y="54"/>
                      </a:cubicBezTo>
                      <a:cubicBezTo>
                        <a:pt x="55" y="54"/>
                        <a:pt x="67" y="48"/>
                        <a:pt x="67" y="48"/>
                      </a:cubicBezTo>
                      <a:cubicBezTo>
                        <a:pt x="76" y="49"/>
                        <a:pt x="88" y="45"/>
                        <a:pt x="94" y="51"/>
                      </a:cubicBezTo>
                      <a:cubicBezTo>
                        <a:pt x="98" y="55"/>
                        <a:pt x="82" y="55"/>
                        <a:pt x="76" y="57"/>
                      </a:cubicBezTo>
                      <a:cubicBezTo>
                        <a:pt x="67" y="60"/>
                        <a:pt x="49" y="66"/>
                        <a:pt x="49" y="66"/>
                      </a:cubicBezTo>
                      <a:cubicBezTo>
                        <a:pt x="53" y="81"/>
                        <a:pt x="58" y="85"/>
                        <a:pt x="70" y="93"/>
                      </a:cubicBezTo>
                      <a:cubicBezTo>
                        <a:pt x="88" y="87"/>
                        <a:pt x="81" y="71"/>
                        <a:pt x="97" y="66"/>
                      </a:cubicBezTo>
                      <a:cubicBezTo>
                        <a:pt x="97" y="68"/>
                        <a:pt x="90" y="88"/>
                        <a:pt x="97" y="93"/>
                      </a:cubicBezTo>
                      <a:cubicBezTo>
                        <a:pt x="102" y="97"/>
                        <a:pt x="115" y="99"/>
                        <a:pt x="115" y="99"/>
                      </a:cubicBezTo>
                      <a:cubicBezTo>
                        <a:pt x="120" y="91"/>
                        <a:pt x="121" y="84"/>
                        <a:pt x="133" y="93"/>
                      </a:cubicBezTo>
                      <a:cubicBezTo>
                        <a:pt x="135" y="95"/>
                        <a:pt x="134" y="100"/>
                        <a:pt x="136" y="102"/>
                      </a:cubicBezTo>
                      <a:cubicBezTo>
                        <a:pt x="150" y="120"/>
                        <a:pt x="199" y="125"/>
                        <a:pt x="220" y="132"/>
                      </a:cubicBezTo>
                      <a:cubicBezTo>
                        <a:pt x="226" y="138"/>
                        <a:pt x="233" y="141"/>
                        <a:pt x="238" y="147"/>
                      </a:cubicBezTo>
                      <a:cubicBezTo>
                        <a:pt x="254" y="167"/>
                        <a:pt x="238" y="198"/>
                        <a:pt x="274" y="198"/>
                      </a:cubicBezTo>
                      <a:lnTo>
                        <a:pt x="238" y="186"/>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9" name="Freeform 59"/>
                <p:cNvSpPr/>
                <p:nvPr/>
              </p:nvSpPr>
              <p:spPr>
                <a:xfrm>
                  <a:off x="4107240" y="4641120"/>
                  <a:ext cx="57240" cy="34920"/>
                </a:xfrm>
                <a:custGeom>
                  <a:avLst/>
                  <a:gdLst/>
                  <a:ahLst/>
                  <a:rect l="l" t="t" r="r" b="b"/>
                  <a:pathLst>
                    <a:path w="58" h="27">
                      <a:moveTo>
                        <a:pt x="6" y="9"/>
                      </a:moveTo>
                      <a:cubicBezTo>
                        <a:pt x="12" y="7"/>
                        <a:pt x="18" y="5"/>
                        <a:pt x="24" y="3"/>
                      </a:cubicBezTo>
                      <a:cubicBezTo>
                        <a:pt x="27" y="2"/>
                        <a:pt x="33" y="0"/>
                        <a:pt x="33" y="0"/>
                      </a:cubicBezTo>
                      <a:cubicBezTo>
                        <a:pt x="58" y="8"/>
                        <a:pt x="19" y="14"/>
                        <a:pt x="12" y="18"/>
                      </a:cubicBezTo>
                      <a:cubicBezTo>
                        <a:pt x="9" y="20"/>
                        <a:pt x="5" y="27"/>
                        <a:pt x="3" y="24"/>
                      </a:cubicBezTo>
                      <a:cubicBezTo>
                        <a:pt x="0" y="20"/>
                        <a:pt x="5" y="14"/>
                        <a:pt x="6" y="9"/>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40" name="Freeform 60"/>
                <p:cNvSpPr/>
                <p:nvPr/>
              </p:nvSpPr>
              <p:spPr>
                <a:xfrm>
                  <a:off x="4212720" y="4641120"/>
                  <a:ext cx="12240" cy="25200"/>
                </a:xfrm>
                <a:custGeom>
                  <a:avLst/>
                  <a:gdLst/>
                  <a:ahLst/>
                  <a:rect l="l" t="t" r="r" b="b"/>
                  <a:pathLst>
                    <a:path w="13" h="21">
                      <a:moveTo>
                        <a:pt x="0" y="18"/>
                      </a:moveTo>
                      <a:cubicBezTo>
                        <a:pt x="5" y="0"/>
                        <a:pt x="13" y="5"/>
                        <a:pt x="9" y="21"/>
                      </a:cubicBezTo>
                      <a:cubicBezTo>
                        <a:pt x="6" y="20"/>
                        <a:pt x="0" y="18"/>
                        <a:pt x="0" y="1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41" name="Freeform 61"/>
                <p:cNvSpPr/>
                <p:nvPr/>
              </p:nvSpPr>
              <p:spPr>
                <a:xfrm>
                  <a:off x="4166640" y="4650840"/>
                  <a:ext cx="137520" cy="130680"/>
                </a:xfrm>
                <a:custGeom>
                  <a:avLst/>
                  <a:gdLst/>
                  <a:ahLst/>
                  <a:rect l="l" t="t" r="r" b="b"/>
                  <a:pathLst>
                    <a:path w="146" h="107">
                      <a:moveTo>
                        <a:pt x="93" y="20"/>
                      </a:moveTo>
                      <a:cubicBezTo>
                        <a:pt x="90" y="16"/>
                        <a:pt x="78" y="0"/>
                        <a:pt x="90" y="2"/>
                      </a:cubicBezTo>
                      <a:cubicBezTo>
                        <a:pt x="90" y="2"/>
                        <a:pt x="112" y="17"/>
                        <a:pt x="117" y="20"/>
                      </a:cubicBezTo>
                      <a:cubicBezTo>
                        <a:pt x="123" y="24"/>
                        <a:pt x="135" y="32"/>
                        <a:pt x="135" y="32"/>
                      </a:cubicBezTo>
                      <a:cubicBezTo>
                        <a:pt x="142" y="53"/>
                        <a:pt x="146" y="46"/>
                        <a:pt x="132" y="56"/>
                      </a:cubicBezTo>
                      <a:cubicBezTo>
                        <a:pt x="120" y="48"/>
                        <a:pt x="125" y="39"/>
                        <a:pt x="111" y="44"/>
                      </a:cubicBezTo>
                      <a:cubicBezTo>
                        <a:pt x="117" y="61"/>
                        <a:pt x="114" y="46"/>
                        <a:pt x="108" y="62"/>
                      </a:cubicBezTo>
                      <a:cubicBezTo>
                        <a:pt x="106" y="67"/>
                        <a:pt x="108" y="73"/>
                        <a:pt x="105" y="77"/>
                      </a:cubicBezTo>
                      <a:cubicBezTo>
                        <a:pt x="101" y="84"/>
                        <a:pt x="92" y="83"/>
                        <a:pt x="87" y="86"/>
                      </a:cubicBezTo>
                      <a:cubicBezTo>
                        <a:pt x="76" y="92"/>
                        <a:pt x="62" y="100"/>
                        <a:pt x="51" y="107"/>
                      </a:cubicBezTo>
                      <a:cubicBezTo>
                        <a:pt x="45" y="105"/>
                        <a:pt x="39" y="102"/>
                        <a:pt x="33" y="101"/>
                      </a:cubicBezTo>
                      <a:cubicBezTo>
                        <a:pt x="28" y="100"/>
                        <a:pt x="23" y="99"/>
                        <a:pt x="18" y="98"/>
                      </a:cubicBezTo>
                      <a:cubicBezTo>
                        <a:pt x="12" y="96"/>
                        <a:pt x="0" y="92"/>
                        <a:pt x="0" y="92"/>
                      </a:cubicBezTo>
                      <a:cubicBezTo>
                        <a:pt x="2" y="86"/>
                        <a:pt x="3" y="77"/>
                        <a:pt x="12" y="77"/>
                      </a:cubicBezTo>
                      <a:cubicBezTo>
                        <a:pt x="18" y="77"/>
                        <a:pt x="30" y="83"/>
                        <a:pt x="30" y="83"/>
                      </a:cubicBezTo>
                      <a:cubicBezTo>
                        <a:pt x="45" y="79"/>
                        <a:pt x="47" y="71"/>
                        <a:pt x="60" y="80"/>
                      </a:cubicBezTo>
                      <a:cubicBezTo>
                        <a:pt x="71" y="76"/>
                        <a:pt x="87" y="59"/>
                        <a:pt x="87" y="59"/>
                      </a:cubicBezTo>
                      <a:cubicBezTo>
                        <a:pt x="93" y="30"/>
                        <a:pt x="103" y="54"/>
                        <a:pt x="93" y="2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42" name="Freeform 62"/>
                <p:cNvSpPr/>
                <p:nvPr/>
              </p:nvSpPr>
              <p:spPr>
                <a:xfrm>
                  <a:off x="4341240" y="4716720"/>
                  <a:ext cx="32760" cy="51840"/>
                </a:xfrm>
                <a:custGeom>
                  <a:avLst/>
                  <a:gdLst/>
                  <a:ahLst/>
                  <a:rect l="l" t="t" r="r" b="b"/>
                  <a:pathLst>
                    <a:path w="34" h="41">
                      <a:moveTo>
                        <a:pt x="13" y="24"/>
                      </a:moveTo>
                      <a:cubicBezTo>
                        <a:pt x="5" y="12"/>
                        <a:pt x="0" y="9"/>
                        <a:pt x="13" y="0"/>
                      </a:cubicBezTo>
                      <a:cubicBezTo>
                        <a:pt x="24" y="7"/>
                        <a:pt x="25" y="15"/>
                        <a:pt x="34" y="24"/>
                      </a:cubicBezTo>
                      <a:cubicBezTo>
                        <a:pt x="29" y="38"/>
                        <a:pt x="26" y="41"/>
                        <a:pt x="13" y="33"/>
                      </a:cubicBezTo>
                      <a:cubicBezTo>
                        <a:pt x="10" y="23"/>
                        <a:pt x="7" y="24"/>
                        <a:pt x="13" y="24"/>
                      </a:cubicBezTo>
                      <a:close/>
                    </a:path>
                  </a:pathLst>
                </a:custGeom>
                <a:solidFill>
                  <a:srgbClr val="800000"/>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Black"/>
                  </a:endParaRPr>
                </a:p>
              </p:txBody>
            </p:sp>
            <p:sp>
              <p:nvSpPr>
                <p:cNvPr id="143" name="Freeform 63"/>
                <p:cNvSpPr/>
                <p:nvPr/>
              </p:nvSpPr>
              <p:spPr>
                <a:xfrm>
                  <a:off x="4380120" y="4731480"/>
                  <a:ext cx="36720" cy="50400"/>
                </a:xfrm>
                <a:custGeom>
                  <a:avLst/>
                  <a:gdLst/>
                  <a:ahLst/>
                  <a:rect l="l" t="t" r="r" b="b"/>
                  <a:pathLst>
                    <a:path w="39" h="41">
                      <a:moveTo>
                        <a:pt x="7" y="20"/>
                      </a:moveTo>
                      <a:cubicBezTo>
                        <a:pt x="0" y="0"/>
                        <a:pt x="20" y="13"/>
                        <a:pt x="31" y="17"/>
                      </a:cubicBezTo>
                      <a:cubicBezTo>
                        <a:pt x="39" y="41"/>
                        <a:pt x="2" y="25"/>
                        <a:pt x="1" y="23"/>
                      </a:cubicBezTo>
                      <a:cubicBezTo>
                        <a:pt x="0" y="21"/>
                        <a:pt x="5" y="21"/>
                        <a:pt x="7" y="20"/>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44" name="Freeform 64"/>
                <p:cNvSpPr/>
                <p:nvPr/>
              </p:nvSpPr>
              <p:spPr>
                <a:xfrm>
                  <a:off x="4442400" y="4751640"/>
                  <a:ext cx="24480" cy="29880"/>
                </a:xfrm>
                <a:custGeom>
                  <a:avLst/>
                  <a:gdLst/>
                  <a:ahLst/>
                  <a:rect l="l" t="t" r="r" b="b"/>
                  <a:pathLst>
                    <a:path w="26" h="24">
                      <a:moveTo>
                        <a:pt x="16" y="21"/>
                      </a:moveTo>
                      <a:cubicBezTo>
                        <a:pt x="4" y="13"/>
                        <a:pt x="0" y="9"/>
                        <a:pt x="13" y="0"/>
                      </a:cubicBezTo>
                      <a:cubicBezTo>
                        <a:pt x="24" y="8"/>
                        <a:pt x="26" y="11"/>
                        <a:pt x="22" y="24"/>
                      </a:cubicBezTo>
                      <a:cubicBezTo>
                        <a:pt x="8" y="21"/>
                        <a:pt x="6" y="21"/>
                        <a:pt x="16" y="21"/>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45" name="Freeform 65"/>
                <p:cNvSpPr/>
                <p:nvPr/>
              </p:nvSpPr>
              <p:spPr>
                <a:xfrm>
                  <a:off x="4475160" y="4753080"/>
                  <a:ext cx="24480" cy="24840"/>
                </a:xfrm>
                <a:custGeom>
                  <a:avLst/>
                  <a:gdLst/>
                  <a:ahLst/>
                  <a:rect l="l" t="t" r="r" b="b"/>
                  <a:pathLst>
                    <a:path w="28" h="21">
                      <a:moveTo>
                        <a:pt x="16" y="21"/>
                      </a:moveTo>
                      <a:cubicBezTo>
                        <a:pt x="4" y="13"/>
                        <a:pt x="0" y="9"/>
                        <a:pt x="13" y="0"/>
                      </a:cubicBezTo>
                      <a:cubicBezTo>
                        <a:pt x="18" y="2"/>
                        <a:pt x="28" y="2"/>
                        <a:pt x="25" y="12"/>
                      </a:cubicBezTo>
                      <a:cubicBezTo>
                        <a:pt x="24" y="16"/>
                        <a:pt x="16" y="21"/>
                        <a:pt x="16" y="21"/>
                      </a:cubicBezTo>
                      <a:close/>
                    </a:path>
                  </a:pathLst>
                </a:custGeom>
                <a:solidFill>
                  <a:srgbClr val="80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146" name="Freeform 66"/>
                <p:cNvSpPr/>
                <p:nvPr/>
              </p:nvSpPr>
              <p:spPr>
                <a:xfrm>
                  <a:off x="4465800" y="4784400"/>
                  <a:ext cx="20520" cy="25200"/>
                </a:xfrm>
                <a:custGeom>
                  <a:avLst/>
                  <a:gdLst/>
                  <a:ahLst/>
                  <a:rect l="l" t="t" r="r" b="b"/>
                  <a:pathLst>
                    <a:path w="24" h="20">
                      <a:moveTo>
                        <a:pt x="0" y="8"/>
                      </a:moveTo>
                      <a:cubicBezTo>
                        <a:pt x="13" y="0"/>
                        <a:pt x="16" y="2"/>
                        <a:pt x="24" y="14"/>
                      </a:cubicBezTo>
                      <a:cubicBezTo>
                        <a:pt x="17" y="16"/>
                        <a:pt x="11" y="20"/>
                        <a:pt x="3" y="14"/>
                      </a:cubicBezTo>
                      <a:cubicBezTo>
                        <a:pt x="0" y="11"/>
                        <a:pt x="0" y="0"/>
                        <a:pt x="0" y="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47" name="Freeform 67"/>
                <p:cNvSpPr/>
                <p:nvPr/>
              </p:nvSpPr>
              <p:spPr>
                <a:xfrm>
                  <a:off x="4521600" y="5036040"/>
                  <a:ext cx="78120" cy="65880"/>
                </a:xfrm>
                <a:custGeom>
                  <a:avLst/>
                  <a:gdLst/>
                  <a:ahLst/>
                  <a:rect l="l" t="t" r="r" b="b"/>
                  <a:pathLst>
                    <a:path w="81" h="54">
                      <a:moveTo>
                        <a:pt x="39" y="27"/>
                      </a:moveTo>
                      <a:cubicBezTo>
                        <a:pt x="27" y="9"/>
                        <a:pt x="0" y="0"/>
                        <a:pt x="45" y="6"/>
                      </a:cubicBezTo>
                      <a:cubicBezTo>
                        <a:pt x="59" y="15"/>
                        <a:pt x="70" y="22"/>
                        <a:pt x="81" y="33"/>
                      </a:cubicBezTo>
                      <a:cubicBezTo>
                        <a:pt x="74" y="54"/>
                        <a:pt x="50" y="38"/>
                        <a:pt x="39" y="27"/>
                      </a:cubicBezTo>
                      <a:close/>
                    </a:path>
                  </a:pathLst>
                </a:custGeom>
                <a:solidFill>
                  <a:srgbClr val="800000"/>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Black"/>
                  </a:endParaRPr>
                </a:p>
              </p:txBody>
            </p:sp>
            <p:sp>
              <p:nvSpPr>
                <p:cNvPr id="148" name="Freeform 68"/>
                <p:cNvSpPr/>
                <p:nvPr/>
              </p:nvSpPr>
              <p:spPr>
                <a:xfrm>
                  <a:off x="3227400" y="4931280"/>
                  <a:ext cx="1018440" cy="583560"/>
                </a:xfrm>
                <a:custGeom>
                  <a:avLst/>
                  <a:gdLst/>
                  <a:ahLst/>
                  <a:rect l="l" t="t" r="r" b="b"/>
                  <a:pathLst>
                    <a:path w="1079" h="486">
                      <a:moveTo>
                        <a:pt x="449" y="60"/>
                      </a:moveTo>
                      <a:cubicBezTo>
                        <a:pt x="453" y="48"/>
                        <a:pt x="458" y="46"/>
                        <a:pt x="470" y="42"/>
                      </a:cubicBezTo>
                      <a:cubicBezTo>
                        <a:pt x="474" y="30"/>
                        <a:pt x="471" y="26"/>
                        <a:pt x="464" y="15"/>
                      </a:cubicBezTo>
                      <a:cubicBezTo>
                        <a:pt x="487" y="7"/>
                        <a:pt x="476" y="8"/>
                        <a:pt x="497" y="12"/>
                      </a:cubicBezTo>
                      <a:cubicBezTo>
                        <a:pt x="496" y="15"/>
                        <a:pt x="496" y="19"/>
                        <a:pt x="494" y="21"/>
                      </a:cubicBezTo>
                      <a:cubicBezTo>
                        <a:pt x="492" y="23"/>
                        <a:pt x="486" y="21"/>
                        <a:pt x="485" y="24"/>
                      </a:cubicBezTo>
                      <a:cubicBezTo>
                        <a:pt x="480" y="33"/>
                        <a:pt x="494" y="35"/>
                        <a:pt x="497" y="36"/>
                      </a:cubicBezTo>
                      <a:cubicBezTo>
                        <a:pt x="535" y="31"/>
                        <a:pt x="514" y="37"/>
                        <a:pt x="521" y="15"/>
                      </a:cubicBezTo>
                      <a:cubicBezTo>
                        <a:pt x="534" y="19"/>
                        <a:pt x="544" y="26"/>
                        <a:pt x="557" y="30"/>
                      </a:cubicBezTo>
                      <a:cubicBezTo>
                        <a:pt x="569" y="34"/>
                        <a:pt x="593" y="36"/>
                        <a:pt x="593" y="36"/>
                      </a:cubicBezTo>
                      <a:cubicBezTo>
                        <a:pt x="607" y="31"/>
                        <a:pt x="619" y="35"/>
                        <a:pt x="632" y="39"/>
                      </a:cubicBezTo>
                      <a:cubicBezTo>
                        <a:pt x="628" y="55"/>
                        <a:pt x="622" y="74"/>
                        <a:pt x="608" y="84"/>
                      </a:cubicBezTo>
                      <a:cubicBezTo>
                        <a:pt x="604" y="96"/>
                        <a:pt x="599" y="98"/>
                        <a:pt x="587" y="102"/>
                      </a:cubicBezTo>
                      <a:cubicBezTo>
                        <a:pt x="598" y="106"/>
                        <a:pt x="603" y="101"/>
                        <a:pt x="614" y="105"/>
                      </a:cubicBezTo>
                      <a:cubicBezTo>
                        <a:pt x="625" y="122"/>
                        <a:pt x="643" y="121"/>
                        <a:pt x="662" y="123"/>
                      </a:cubicBezTo>
                      <a:cubicBezTo>
                        <a:pt x="673" y="130"/>
                        <a:pt x="677" y="133"/>
                        <a:pt x="689" y="129"/>
                      </a:cubicBezTo>
                      <a:cubicBezTo>
                        <a:pt x="701" y="133"/>
                        <a:pt x="711" y="134"/>
                        <a:pt x="722" y="141"/>
                      </a:cubicBezTo>
                      <a:cubicBezTo>
                        <a:pt x="756" y="138"/>
                        <a:pt x="755" y="136"/>
                        <a:pt x="779" y="120"/>
                      </a:cubicBezTo>
                      <a:cubicBezTo>
                        <a:pt x="789" y="91"/>
                        <a:pt x="773" y="13"/>
                        <a:pt x="812" y="0"/>
                      </a:cubicBezTo>
                      <a:cubicBezTo>
                        <a:pt x="828" y="5"/>
                        <a:pt x="822" y="18"/>
                        <a:pt x="830" y="30"/>
                      </a:cubicBezTo>
                      <a:cubicBezTo>
                        <a:pt x="839" y="43"/>
                        <a:pt x="849" y="53"/>
                        <a:pt x="857" y="66"/>
                      </a:cubicBezTo>
                      <a:cubicBezTo>
                        <a:pt x="863" y="111"/>
                        <a:pt x="856" y="76"/>
                        <a:pt x="878" y="69"/>
                      </a:cubicBezTo>
                      <a:cubicBezTo>
                        <a:pt x="881" y="70"/>
                        <a:pt x="885" y="69"/>
                        <a:pt x="887" y="72"/>
                      </a:cubicBezTo>
                      <a:cubicBezTo>
                        <a:pt x="897" y="86"/>
                        <a:pt x="896" y="108"/>
                        <a:pt x="902" y="123"/>
                      </a:cubicBezTo>
                      <a:cubicBezTo>
                        <a:pt x="903" y="126"/>
                        <a:pt x="906" y="129"/>
                        <a:pt x="908" y="132"/>
                      </a:cubicBezTo>
                      <a:cubicBezTo>
                        <a:pt x="909" y="135"/>
                        <a:pt x="910" y="138"/>
                        <a:pt x="911" y="141"/>
                      </a:cubicBezTo>
                      <a:cubicBezTo>
                        <a:pt x="911" y="141"/>
                        <a:pt x="916" y="161"/>
                        <a:pt x="917" y="162"/>
                      </a:cubicBezTo>
                      <a:cubicBezTo>
                        <a:pt x="930" y="175"/>
                        <a:pt x="962" y="177"/>
                        <a:pt x="980" y="189"/>
                      </a:cubicBezTo>
                      <a:cubicBezTo>
                        <a:pt x="987" y="199"/>
                        <a:pt x="992" y="203"/>
                        <a:pt x="998" y="213"/>
                      </a:cubicBezTo>
                      <a:cubicBezTo>
                        <a:pt x="1002" y="219"/>
                        <a:pt x="1006" y="225"/>
                        <a:pt x="1010" y="231"/>
                      </a:cubicBezTo>
                      <a:cubicBezTo>
                        <a:pt x="1012" y="234"/>
                        <a:pt x="1016" y="240"/>
                        <a:pt x="1016" y="240"/>
                      </a:cubicBezTo>
                      <a:cubicBezTo>
                        <a:pt x="1023" y="220"/>
                        <a:pt x="999" y="219"/>
                        <a:pt x="1028" y="225"/>
                      </a:cubicBezTo>
                      <a:cubicBezTo>
                        <a:pt x="1030" y="231"/>
                        <a:pt x="1032" y="237"/>
                        <a:pt x="1034" y="243"/>
                      </a:cubicBezTo>
                      <a:cubicBezTo>
                        <a:pt x="1036" y="249"/>
                        <a:pt x="1052" y="249"/>
                        <a:pt x="1052" y="249"/>
                      </a:cubicBezTo>
                      <a:cubicBezTo>
                        <a:pt x="1073" y="270"/>
                        <a:pt x="1063" y="262"/>
                        <a:pt x="1079" y="273"/>
                      </a:cubicBezTo>
                      <a:cubicBezTo>
                        <a:pt x="1072" y="310"/>
                        <a:pt x="1079" y="264"/>
                        <a:pt x="1079" y="306"/>
                      </a:cubicBezTo>
                      <a:cubicBezTo>
                        <a:pt x="1079" y="330"/>
                        <a:pt x="1061" y="353"/>
                        <a:pt x="1049" y="372"/>
                      </a:cubicBezTo>
                      <a:cubicBezTo>
                        <a:pt x="1044" y="380"/>
                        <a:pt x="1011" y="394"/>
                        <a:pt x="1004" y="399"/>
                      </a:cubicBezTo>
                      <a:cubicBezTo>
                        <a:pt x="996" y="404"/>
                        <a:pt x="977" y="411"/>
                        <a:pt x="977" y="411"/>
                      </a:cubicBezTo>
                      <a:cubicBezTo>
                        <a:pt x="966" y="422"/>
                        <a:pt x="960" y="435"/>
                        <a:pt x="947" y="444"/>
                      </a:cubicBezTo>
                      <a:cubicBezTo>
                        <a:pt x="930" y="469"/>
                        <a:pt x="885" y="463"/>
                        <a:pt x="860" y="480"/>
                      </a:cubicBezTo>
                      <a:cubicBezTo>
                        <a:pt x="854" y="476"/>
                        <a:pt x="850" y="465"/>
                        <a:pt x="842" y="465"/>
                      </a:cubicBezTo>
                      <a:cubicBezTo>
                        <a:pt x="838" y="465"/>
                        <a:pt x="839" y="472"/>
                        <a:pt x="836" y="474"/>
                      </a:cubicBezTo>
                      <a:cubicBezTo>
                        <a:pt x="831" y="477"/>
                        <a:pt x="818" y="480"/>
                        <a:pt x="818" y="480"/>
                      </a:cubicBezTo>
                      <a:cubicBezTo>
                        <a:pt x="799" y="474"/>
                        <a:pt x="758" y="486"/>
                        <a:pt x="758" y="486"/>
                      </a:cubicBezTo>
                      <a:cubicBezTo>
                        <a:pt x="741" y="480"/>
                        <a:pt x="743" y="476"/>
                        <a:pt x="722" y="480"/>
                      </a:cubicBezTo>
                      <a:cubicBezTo>
                        <a:pt x="710" y="476"/>
                        <a:pt x="707" y="468"/>
                        <a:pt x="698" y="459"/>
                      </a:cubicBezTo>
                      <a:cubicBezTo>
                        <a:pt x="693" y="440"/>
                        <a:pt x="687" y="447"/>
                        <a:pt x="674" y="456"/>
                      </a:cubicBezTo>
                      <a:cubicBezTo>
                        <a:pt x="658" y="455"/>
                        <a:pt x="622" y="451"/>
                        <a:pt x="653" y="441"/>
                      </a:cubicBezTo>
                      <a:cubicBezTo>
                        <a:pt x="656" y="431"/>
                        <a:pt x="669" y="407"/>
                        <a:pt x="677" y="402"/>
                      </a:cubicBezTo>
                      <a:cubicBezTo>
                        <a:pt x="674" y="388"/>
                        <a:pt x="677" y="377"/>
                        <a:pt x="662" y="387"/>
                      </a:cubicBezTo>
                      <a:cubicBezTo>
                        <a:pt x="657" y="403"/>
                        <a:pt x="661" y="393"/>
                        <a:pt x="647" y="414"/>
                      </a:cubicBezTo>
                      <a:cubicBezTo>
                        <a:pt x="643" y="420"/>
                        <a:pt x="629" y="426"/>
                        <a:pt x="629" y="426"/>
                      </a:cubicBezTo>
                      <a:cubicBezTo>
                        <a:pt x="620" y="439"/>
                        <a:pt x="619" y="445"/>
                        <a:pt x="602" y="441"/>
                      </a:cubicBezTo>
                      <a:cubicBezTo>
                        <a:pt x="596" y="423"/>
                        <a:pt x="562" y="414"/>
                        <a:pt x="545" y="408"/>
                      </a:cubicBezTo>
                      <a:cubicBezTo>
                        <a:pt x="534" y="404"/>
                        <a:pt x="512" y="399"/>
                        <a:pt x="512" y="399"/>
                      </a:cubicBezTo>
                      <a:cubicBezTo>
                        <a:pt x="500" y="403"/>
                        <a:pt x="492" y="399"/>
                        <a:pt x="479" y="396"/>
                      </a:cubicBezTo>
                      <a:cubicBezTo>
                        <a:pt x="457" y="400"/>
                        <a:pt x="438" y="397"/>
                        <a:pt x="416" y="402"/>
                      </a:cubicBezTo>
                      <a:cubicBezTo>
                        <a:pt x="400" y="398"/>
                        <a:pt x="385" y="401"/>
                        <a:pt x="368" y="399"/>
                      </a:cubicBezTo>
                      <a:cubicBezTo>
                        <a:pt x="352" y="403"/>
                        <a:pt x="336" y="406"/>
                        <a:pt x="320" y="411"/>
                      </a:cubicBezTo>
                      <a:cubicBezTo>
                        <a:pt x="314" y="413"/>
                        <a:pt x="302" y="417"/>
                        <a:pt x="302" y="417"/>
                      </a:cubicBezTo>
                      <a:cubicBezTo>
                        <a:pt x="275" y="408"/>
                        <a:pt x="271" y="408"/>
                        <a:pt x="239" y="405"/>
                      </a:cubicBezTo>
                      <a:cubicBezTo>
                        <a:pt x="227" y="407"/>
                        <a:pt x="206" y="420"/>
                        <a:pt x="206" y="420"/>
                      </a:cubicBezTo>
                      <a:cubicBezTo>
                        <a:pt x="197" y="417"/>
                        <a:pt x="179" y="423"/>
                        <a:pt x="179" y="423"/>
                      </a:cubicBezTo>
                      <a:cubicBezTo>
                        <a:pt x="158" y="420"/>
                        <a:pt x="154" y="417"/>
                        <a:pt x="137" y="411"/>
                      </a:cubicBezTo>
                      <a:cubicBezTo>
                        <a:pt x="97" y="371"/>
                        <a:pt x="132" y="412"/>
                        <a:pt x="116" y="378"/>
                      </a:cubicBezTo>
                      <a:cubicBezTo>
                        <a:pt x="101" y="346"/>
                        <a:pt x="67" y="310"/>
                        <a:pt x="38" y="291"/>
                      </a:cubicBezTo>
                      <a:cubicBezTo>
                        <a:pt x="31" y="271"/>
                        <a:pt x="18" y="272"/>
                        <a:pt x="2" y="261"/>
                      </a:cubicBezTo>
                      <a:cubicBezTo>
                        <a:pt x="3" y="258"/>
                        <a:pt x="3" y="254"/>
                        <a:pt x="5" y="252"/>
                      </a:cubicBezTo>
                      <a:cubicBezTo>
                        <a:pt x="8" y="249"/>
                        <a:pt x="17" y="253"/>
                        <a:pt x="17" y="249"/>
                      </a:cubicBezTo>
                      <a:cubicBezTo>
                        <a:pt x="17" y="242"/>
                        <a:pt x="5" y="231"/>
                        <a:pt x="5" y="231"/>
                      </a:cubicBezTo>
                      <a:cubicBezTo>
                        <a:pt x="8" y="222"/>
                        <a:pt x="2" y="204"/>
                        <a:pt x="2" y="204"/>
                      </a:cubicBezTo>
                      <a:cubicBezTo>
                        <a:pt x="5" y="196"/>
                        <a:pt x="0" y="178"/>
                        <a:pt x="8" y="180"/>
                      </a:cubicBezTo>
                      <a:cubicBezTo>
                        <a:pt x="15" y="181"/>
                        <a:pt x="20" y="198"/>
                        <a:pt x="20" y="198"/>
                      </a:cubicBezTo>
                      <a:cubicBezTo>
                        <a:pt x="43" y="190"/>
                        <a:pt x="64" y="179"/>
                        <a:pt x="89" y="174"/>
                      </a:cubicBezTo>
                      <a:cubicBezTo>
                        <a:pt x="137" y="176"/>
                        <a:pt x="142" y="178"/>
                        <a:pt x="179" y="171"/>
                      </a:cubicBezTo>
                      <a:cubicBezTo>
                        <a:pt x="193" y="168"/>
                        <a:pt x="218" y="153"/>
                        <a:pt x="218" y="153"/>
                      </a:cubicBezTo>
                      <a:cubicBezTo>
                        <a:pt x="227" y="140"/>
                        <a:pt x="215" y="129"/>
                        <a:pt x="233" y="123"/>
                      </a:cubicBezTo>
                      <a:cubicBezTo>
                        <a:pt x="255" y="91"/>
                        <a:pt x="249" y="118"/>
                        <a:pt x="260" y="135"/>
                      </a:cubicBezTo>
                      <a:cubicBezTo>
                        <a:pt x="269" y="121"/>
                        <a:pt x="258" y="120"/>
                        <a:pt x="272" y="111"/>
                      </a:cubicBezTo>
                      <a:cubicBezTo>
                        <a:pt x="276" y="99"/>
                        <a:pt x="280" y="94"/>
                        <a:pt x="290" y="87"/>
                      </a:cubicBezTo>
                      <a:cubicBezTo>
                        <a:pt x="308" y="93"/>
                        <a:pt x="302" y="74"/>
                        <a:pt x="317" y="69"/>
                      </a:cubicBezTo>
                      <a:cubicBezTo>
                        <a:pt x="335" y="73"/>
                        <a:pt x="334" y="68"/>
                        <a:pt x="350" y="63"/>
                      </a:cubicBezTo>
                      <a:cubicBezTo>
                        <a:pt x="371" y="68"/>
                        <a:pt x="369" y="73"/>
                        <a:pt x="386" y="84"/>
                      </a:cubicBezTo>
                      <a:cubicBezTo>
                        <a:pt x="388" y="87"/>
                        <a:pt x="395" y="100"/>
                        <a:pt x="401" y="99"/>
                      </a:cubicBezTo>
                      <a:cubicBezTo>
                        <a:pt x="404" y="98"/>
                        <a:pt x="402" y="92"/>
                        <a:pt x="404" y="90"/>
                      </a:cubicBezTo>
                      <a:cubicBezTo>
                        <a:pt x="406" y="88"/>
                        <a:pt x="410" y="88"/>
                        <a:pt x="413" y="87"/>
                      </a:cubicBezTo>
                      <a:cubicBezTo>
                        <a:pt x="425" y="91"/>
                        <a:pt x="425" y="98"/>
                        <a:pt x="437" y="102"/>
                      </a:cubicBezTo>
                      <a:cubicBezTo>
                        <a:pt x="440" y="93"/>
                        <a:pt x="434" y="75"/>
                        <a:pt x="434" y="75"/>
                      </a:cubicBezTo>
                      <a:cubicBezTo>
                        <a:pt x="438" y="69"/>
                        <a:pt x="449" y="60"/>
                        <a:pt x="449"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49" name="Freeform 69"/>
                <p:cNvSpPr/>
                <p:nvPr/>
              </p:nvSpPr>
              <p:spPr>
                <a:xfrm>
                  <a:off x="4001400" y="5523480"/>
                  <a:ext cx="74160" cy="50400"/>
                </a:xfrm>
                <a:custGeom>
                  <a:avLst/>
                  <a:gdLst/>
                  <a:ahLst/>
                  <a:rect l="l" t="t" r="r" b="b"/>
                  <a:pathLst>
                    <a:path w="77" h="42">
                      <a:moveTo>
                        <a:pt x="12" y="3"/>
                      </a:moveTo>
                      <a:cubicBezTo>
                        <a:pt x="28" y="8"/>
                        <a:pt x="44" y="4"/>
                        <a:pt x="60" y="0"/>
                      </a:cubicBezTo>
                      <a:cubicBezTo>
                        <a:pt x="77" y="6"/>
                        <a:pt x="71" y="14"/>
                        <a:pt x="66" y="30"/>
                      </a:cubicBezTo>
                      <a:cubicBezTo>
                        <a:pt x="63" y="39"/>
                        <a:pt x="35" y="41"/>
                        <a:pt x="30" y="42"/>
                      </a:cubicBezTo>
                      <a:cubicBezTo>
                        <a:pt x="24" y="41"/>
                        <a:pt x="13" y="39"/>
                        <a:pt x="9" y="33"/>
                      </a:cubicBezTo>
                      <a:cubicBezTo>
                        <a:pt x="6" y="28"/>
                        <a:pt x="5" y="21"/>
                        <a:pt x="3" y="15"/>
                      </a:cubicBezTo>
                      <a:cubicBezTo>
                        <a:pt x="2" y="12"/>
                        <a:pt x="0" y="6"/>
                        <a:pt x="0" y="6"/>
                      </a:cubicBezTo>
                      <a:cubicBezTo>
                        <a:pt x="10" y="3"/>
                        <a:pt x="6" y="3"/>
                        <a:pt x="12" y="3"/>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50" name="Freeform 70"/>
                <p:cNvSpPr/>
                <p:nvPr/>
              </p:nvSpPr>
              <p:spPr>
                <a:xfrm>
                  <a:off x="4651920" y="4927680"/>
                  <a:ext cx="28080" cy="20160"/>
                </a:xfrm>
                <a:custGeom>
                  <a:avLst/>
                  <a:gdLst/>
                  <a:ahLst/>
                  <a:rect l="l" t="t" r="r" b="b"/>
                  <a:pathLst>
                    <a:path w="29" h="18">
                      <a:moveTo>
                        <a:pt x="2" y="9"/>
                      </a:moveTo>
                      <a:cubicBezTo>
                        <a:pt x="14" y="1"/>
                        <a:pt x="29" y="0"/>
                        <a:pt x="11" y="18"/>
                      </a:cubicBezTo>
                      <a:cubicBezTo>
                        <a:pt x="0" y="14"/>
                        <a:pt x="2" y="18"/>
                        <a:pt x="2" y="9"/>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51" name="Freeform 71"/>
                <p:cNvSpPr/>
                <p:nvPr/>
              </p:nvSpPr>
              <p:spPr>
                <a:xfrm>
                  <a:off x="4618800" y="4872240"/>
                  <a:ext cx="33120" cy="61200"/>
                </a:xfrm>
                <a:custGeom>
                  <a:avLst/>
                  <a:gdLst/>
                  <a:ahLst/>
                  <a:rect l="l" t="t" r="r" b="b"/>
                  <a:pathLst>
                    <a:path w="36" h="49">
                      <a:moveTo>
                        <a:pt x="27" y="49"/>
                      </a:moveTo>
                      <a:cubicBezTo>
                        <a:pt x="3" y="44"/>
                        <a:pt x="11" y="36"/>
                        <a:pt x="0" y="19"/>
                      </a:cubicBezTo>
                      <a:cubicBezTo>
                        <a:pt x="6" y="0"/>
                        <a:pt x="21" y="10"/>
                        <a:pt x="36" y="13"/>
                      </a:cubicBezTo>
                      <a:cubicBezTo>
                        <a:pt x="21" y="35"/>
                        <a:pt x="17" y="4"/>
                        <a:pt x="24" y="31"/>
                      </a:cubicBezTo>
                      <a:cubicBezTo>
                        <a:pt x="20" y="43"/>
                        <a:pt x="19" y="37"/>
                        <a:pt x="27" y="49"/>
                      </a:cubicBezTo>
                      <a:close/>
                    </a:path>
                  </a:pathLst>
                </a:custGeom>
                <a:solidFill>
                  <a:srgbClr val="80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Black"/>
                  </a:endParaRPr>
                </a:p>
              </p:txBody>
            </p:sp>
            <p:sp>
              <p:nvSpPr>
                <p:cNvPr id="152" name="Freeform 72"/>
                <p:cNvSpPr/>
                <p:nvPr/>
              </p:nvSpPr>
              <p:spPr>
                <a:xfrm>
                  <a:off x="4838040" y="4837320"/>
                  <a:ext cx="37440" cy="29880"/>
                </a:xfrm>
                <a:custGeom>
                  <a:avLst/>
                  <a:gdLst/>
                  <a:ahLst/>
                  <a:rect l="l" t="t" r="r" b="b"/>
                  <a:pathLst>
                    <a:path w="39" h="25">
                      <a:moveTo>
                        <a:pt x="9" y="19"/>
                      </a:moveTo>
                      <a:cubicBezTo>
                        <a:pt x="14" y="0"/>
                        <a:pt x="20" y="4"/>
                        <a:pt x="39" y="7"/>
                      </a:cubicBezTo>
                      <a:cubicBezTo>
                        <a:pt x="34" y="22"/>
                        <a:pt x="39" y="15"/>
                        <a:pt x="18" y="22"/>
                      </a:cubicBezTo>
                      <a:cubicBezTo>
                        <a:pt x="15" y="23"/>
                        <a:pt x="9" y="25"/>
                        <a:pt x="9" y="25"/>
                      </a:cubicBezTo>
                      <a:cubicBezTo>
                        <a:pt x="2" y="14"/>
                        <a:pt x="0" y="14"/>
                        <a:pt x="9" y="19"/>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53" name="Freeform 73"/>
                <p:cNvSpPr/>
                <p:nvPr/>
              </p:nvSpPr>
              <p:spPr>
                <a:xfrm>
                  <a:off x="4877640" y="4774680"/>
                  <a:ext cx="40320" cy="40680"/>
                </a:xfrm>
                <a:custGeom>
                  <a:avLst/>
                  <a:gdLst/>
                  <a:ahLst/>
                  <a:rect l="l" t="t" r="r" b="b"/>
                  <a:pathLst>
                    <a:path w="44" h="33">
                      <a:moveTo>
                        <a:pt x="20" y="33"/>
                      </a:moveTo>
                      <a:cubicBezTo>
                        <a:pt x="13" y="32"/>
                        <a:pt x="0" y="33"/>
                        <a:pt x="2" y="21"/>
                      </a:cubicBezTo>
                      <a:cubicBezTo>
                        <a:pt x="4" y="11"/>
                        <a:pt x="26" y="0"/>
                        <a:pt x="26" y="0"/>
                      </a:cubicBezTo>
                      <a:cubicBezTo>
                        <a:pt x="44" y="6"/>
                        <a:pt x="35" y="33"/>
                        <a:pt x="20" y="33"/>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54" name="Freeform 74"/>
                <p:cNvSpPr/>
                <p:nvPr/>
              </p:nvSpPr>
              <p:spPr>
                <a:xfrm>
                  <a:off x="5055840" y="4696560"/>
                  <a:ext cx="11880" cy="30240"/>
                </a:xfrm>
                <a:custGeom>
                  <a:avLst/>
                  <a:gdLst/>
                  <a:ahLst/>
                  <a:rect l="l" t="t" r="r" b="b"/>
                  <a:pathLst>
                    <a:path w="15" h="25">
                      <a:moveTo>
                        <a:pt x="0" y="24"/>
                      </a:moveTo>
                      <a:cubicBezTo>
                        <a:pt x="3" y="13"/>
                        <a:pt x="9" y="0"/>
                        <a:pt x="15" y="18"/>
                      </a:cubicBezTo>
                      <a:cubicBezTo>
                        <a:pt x="4" y="25"/>
                        <a:pt x="10" y="24"/>
                        <a:pt x="0" y="24"/>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55" name="Freeform 75"/>
                <p:cNvSpPr/>
                <p:nvPr/>
              </p:nvSpPr>
              <p:spPr>
                <a:xfrm>
                  <a:off x="5159880" y="3283560"/>
                  <a:ext cx="21600" cy="20160"/>
                </a:xfrm>
                <a:custGeom>
                  <a:avLst/>
                  <a:gdLst/>
                  <a:ahLst/>
                  <a:rect l="l" t="t" r="r" b="b"/>
                  <a:pathLst>
                    <a:path w="23" h="15">
                      <a:moveTo>
                        <a:pt x="5" y="0"/>
                      </a:moveTo>
                      <a:cubicBezTo>
                        <a:pt x="16" y="4"/>
                        <a:pt x="23" y="10"/>
                        <a:pt x="8" y="15"/>
                      </a:cubicBezTo>
                      <a:cubicBezTo>
                        <a:pt x="1" y="4"/>
                        <a:pt x="0" y="9"/>
                        <a:pt x="5" y="0"/>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56" name="Freeform 76"/>
                <p:cNvSpPr/>
                <p:nvPr/>
              </p:nvSpPr>
              <p:spPr>
                <a:xfrm>
                  <a:off x="5188320" y="3276360"/>
                  <a:ext cx="28800" cy="24840"/>
                </a:xfrm>
                <a:custGeom>
                  <a:avLst/>
                  <a:gdLst/>
                  <a:ahLst/>
                  <a:rect l="l" t="t" r="r" b="b"/>
                  <a:pathLst>
                    <a:path w="31" h="20">
                      <a:moveTo>
                        <a:pt x="16" y="15"/>
                      </a:moveTo>
                      <a:cubicBezTo>
                        <a:pt x="2" y="20"/>
                        <a:pt x="0" y="12"/>
                        <a:pt x="4" y="0"/>
                      </a:cubicBezTo>
                      <a:cubicBezTo>
                        <a:pt x="11" y="2"/>
                        <a:pt x="31" y="7"/>
                        <a:pt x="16" y="15"/>
                      </a:cubicBezTo>
                      <a:close/>
                    </a:path>
                  </a:pathLst>
                </a:custGeom>
                <a:solidFill>
                  <a:srgbClr val="80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157" name="Freeform 77"/>
                <p:cNvSpPr/>
                <p:nvPr/>
              </p:nvSpPr>
              <p:spPr>
                <a:xfrm>
                  <a:off x="5200560" y="3276360"/>
                  <a:ext cx="59400" cy="59760"/>
                </a:xfrm>
                <a:custGeom>
                  <a:avLst/>
                  <a:gdLst/>
                  <a:ahLst/>
                  <a:rect l="l" t="t" r="r" b="b"/>
                  <a:pathLst>
                    <a:path w="64" h="51">
                      <a:moveTo>
                        <a:pt x="24" y="15"/>
                      </a:moveTo>
                      <a:cubicBezTo>
                        <a:pt x="13" y="12"/>
                        <a:pt x="0" y="6"/>
                        <a:pt x="18" y="0"/>
                      </a:cubicBezTo>
                      <a:cubicBezTo>
                        <a:pt x="28" y="3"/>
                        <a:pt x="35" y="9"/>
                        <a:pt x="45" y="12"/>
                      </a:cubicBezTo>
                      <a:cubicBezTo>
                        <a:pt x="56" y="28"/>
                        <a:pt x="64" y="43"/>
                        <a:pt x="39" y="51"/>
                      </a:cubicBezTo>
                      <a:cubicBezTo>
                        <a:pt x="26" y="42"/>
                        <a:pt x="24" y="30"/>
                        <a:pt x="24" y="15"/>
                      </a:cubicBezTo>
                      <a:close/>
                    </a:path>
                  </a:pathLst>
                </a:custGeom>
                <a:solidFill>
                  <a:srgbClr val="8000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Black"/>
                  </a:endParaRPr>
                </a:p>
              </p:txBody>
            </p:sp>
            <p:sp>
              <p:nvSpPr>
                <p:cNvPr id="158" name="Freeform 78"/>
                <p:cNvSpPr/>
                <p:nvPr/>
              </p:nvSpPr>
              <p:spPr>
                <a:xfrm>
                  <a:off x="4264920" y="1706040"/>
                  <a:ext cx="855000" cy="754560"/>
                </a:xfrm>
                <a:custGeom>
                  <a:avLst/>
                  <a:gdLst/>
                  <a:ahLst/>
                  <a:rect l="l" t="t" r="r" b="b"/>
                  <a:pathLst>
                    <a:path w="906" h="630">
                      <a:moveTo>
                        <a:pt x="906" y="531"/>
                      </a:moveTo>
                      <a:cubicBezTo>
                        <a:pt x="901" y="524"/>
                        <a:pt x="892" y="508"/>
                        <a:pt x="885" y="504"/>
                      </a:cubicBezTo>
                      <a:cubicBezTo>
                        <a:pt x="877" y="499"/>
                        <a:pt x="866" y="500"/>
                        <a:pt x="858" y="495"/>
                      </a:cubicBezTo>
                      <a:cubicBezTo>
                        <a:pt x="847" y="488"/>
                        <a:pt x="834" y="481"/>
                        <a:pt x="822" y="477"/>
                      </a:cubicBezTo>
                      <a:cubicBezTo>
                        <a:pt x="812" y="462"/>
                        <a:pt x="793" y="460"/>
                        <a:pt x="780" y="447"/>
                      </a:cubicBezTo>
                      <a:cubicBezTo>
                        <a:pt x="757" y="424"/>
                        <a:pt x="769" y="434"/>
                        <a:pt x="744" y="417"/>
                      </a:cubicBezTo>
                      <a:cubicBezTo>
                        <a:pt x="712" y="396"/>
                        <a:pt x="761" y="429"/>
                        <a:pt x="726" y="402"/>
                      </a:cubicBezTo>
                      <a:cubicBezTo>
                        <a:pt x="720" y="398"/>
                        <a:pt x="708" y="390"/>
                        <a:pt x="708" y="390"/>
                      </a:cubicBezTo>
                      <a:cubicBezTo>
                        <a:pt x="698" y="375"/>
                        <a:pt x="705" y="383"/>
                        <a:pt x="684" y="369"/>
                      </a:cubicBezTo>
                      <a:cubicBezTo>
                        <a:pt x="681" y="367"/>
                        <a:pt x="675" y="363"/>
                        <a:pt x="675" y="363"/>
                      </a:cubicBezTo>
                      <a:cubicBezTo>
                        <a:pt x="669" y="354"/>
                        <a:pt x="652" y="341"/>
                        <a:pt x="642" y="336"/>
                      </a:cubicBezTo>
                      <a:cubicBezTo>
                        <a:pt x="636" y="333"/>
                        <a:pt x="624" y="330"/>
                        <a:pt x="624" y="330"/>
                      </a:cubicBezTo>
                      <a:cubicBezTo>
                        <a:pt x="613" y="314"/>
                        <a:pt x="618" y="304"/>
                        <a:pt x="597" y="297"/>
                      </a:cubicBezTo>
                      <a:cubicBezTo>
                        <a:pt x="588" y="325"/>
                        <a:pt x="596" y="289"/>
                        <a:pt x="603" y="309"/>
                      </a:cubicBezTo>
                      <a:cubicBezTo>
                        <a:pt x="605" y="314"/>
                        <a:pt x="601" y="319"/>
                        <a:pt x="600" y="324"/>
                      </a:cubicBezTo>
                      <a:cubicBezTo>
                        <a:pt x="582" y="320"/>
                        <a:pt x="581" y="311"/>
                        <a:pt x="564" y="303"/>
                      </a:cubicBezTo>
                      <a:cubicBezTo>
                        <a:pt x="543" y="294"/>
                        <a:pt x="520" y="294"/>
                        <a:pt x="498" y="291"/>
                      </a:cubicBezTo>
                      <a:cubicBezTo>
                        <a:pt x="479" y="294"/>
                        <a:pt x="459" y="288"/>
                        <a:pt x="441" y="294"/>
                      </a:cubicBezTo>
                      <a:cubicBezTo>
                        <a:pt x="435" y="290"/>
                        <a:pt x="432" y="283"/>
                        <a:pt x="426" y="279"/>
                      </a:cubicBezTo>
                      <a:cubicBezTo>
                        <a:pt x="421" y="276"/>
                        <a:pt x="414" y="275"/>
                        <a:pt x="408" y="273"/>
                      </a:cubicBezTo>
                      <a:cubicBezTo>
                        <a:pt x="405" y="272"/>
                        <a:pt x="402" y="269"/>
                        <a:pt x="399" y="267"/>
                      </a:cubicBezTo>
                      <a:cubicBezTo>
                        <a:pt x="392" y="278"/>
                        <a:pt x="394" y="287"/>
                        <a:pt x="381" y="291"/>
                      </a:cubicBezTo>
                      <a:cubicBezTo>
                        <a:pt x="368" y="287"/>
                        <a:pt x="362" y="290"/>
                        <a:pt x="351" y="297"/>
                      </a:cubicBezTo>
                      <a:cubicBezTo>
                        <a:pt x="344" y="317"/>
                        <a:pt x="338" y="323"/>
                        <a:pt x="318" y="330"/>
                      </a:cubicBezTo>
                      <a:cubicBezTo>
                        <a:pt x="314" y="343"/>
                        <a:pt x="317" y="347"/>
                        <a:pt x="330" y="351"/>
                      </a:cubicBezTo>
                      <a:cubicBezTo>
                        <a:pt x="333" y="364"/>
                        <a:pt x="340" y="369"/>
                        <a:pt x="336" y="381"/>
                      </a:cubicBezTo>
                      <a:cubicBezTo>
                        <a:pt x="321" y="376"/>
                        <a:pt x="327" y="369"/>
                        <a:pt x="318" y="360"/>
                      </a:cubicBezTo>
                      <a:cubicBezTo>
                        <a:pt x="313" y="355"/>
                        <a:pt x="306" y="355"/>
                        <a:pt x="300" y="351"/>
                      </a:cubicBezTo>
                      <a:cubicBezTo>
                        <a:pt x="301" y="355"/>
                        <a:pt x="300" y="360"/>
                        <a:pt x="303" y="363"/>
                      </a:cubicBezTo>
                      <a:cubicBezTo>
                        <a:pt x="308" y="368"/>
                        <a:pt x="321" y="375"/>
                        <a:pt x="321" y="375"/>
                      </a:cubicBezTo>
                      <a:cubicBezTo>
                        <a:pt x="330" y="388"/>
                        <a:pt x="326" y="392"/>
                        <a:pt x="342" y="396"/>
                      </a:cubicBezTo>
                      <a:cubicBezTo>
                        <a:pt x="349" y="407"/>
                        <a:pt x="352" y="413"/>
                        <a:pt x="366" y="408"/>
                      </a:cubicBezTo>
                      <a:cubicBezTo>
                        <a:pt x="380" y="417"/>
                        <a:pt x="386" y="437"/>
                        <a:pt x="366" y="444"/>
                      </a:cubicBezTo>
                      <a:cubicBezTo>
                        <a:pt x="363" y="442"/>
                        <a:pt x="359" y="435"/>
                        <a:pt x="357" y="438"/>
                      </a:cubicBezTo>
                      <a:cubicBezTo>
                        <a:pt x="355" y="442"/>
                        <a:pt x="370" y="487"/>
                        <a:pt x="372" y="492"/>
                      </a:cubicBezTo>
                      <a:cubicBezTo>
                        <a:pt x="374" y="498"/>
                        <a:pt x="378" y="510"/>
                        <a:pt x="378" y="510"/>
                      </a:cubicBezTo>
                      <a:cubicBezTo>
                        <a:pt x="376" y="516"/>
                        <a:pt x="370" y="522"/>
                        <a:pt x="372" y="528"/>
                      </a:cubicBezTo>
                      <a:cubicBezTo>
                        <a:pt x="374" y="534"/>
                        <a:pt x="376" y="540"/>
                        <a:pt x="378" y="546"/>
                      </a:cubicBezTo>
                      <a:cubicBezTo>
                        <a:pt x="379" y="549"/>
                        <a:pt x="381" y="555"/>
                        <a:pt x="381" y="555"/>
                      </a:cubicBezTo>
                      <a:cubicBezTo>
                        <a:pt x="373" y="579"/>
                        <a:pt x="376" y="567"/>
                        <a:pt x="372" y="591"/>
                      </a:cubicBezTo>
                      <a:cubicBezTo>
                        <a:pt x="377" y="607"/>
                        <a:pt x="393" y="603"/>
                        <a:pt x="375" y="609"/>
                      </a:cubicBezTo>
                      <a:cubicBezTo>
                        <a:pt x="368" y="620"/>
                        <a:pt x="369" y="626"/>
                        <a:pt x="357" y="630"/>
                      </a:cubicBezTo>
                      <a:cubicBezTo>
                        <a:pt x="347" y="616"/>
                        <a:pt x="350" y="624"/>
                        <a:pt x="357" y="603"/>
                      </a:cubicBezTo>
                      <a:cubicBezTo>
                        <a:pt x="359" y="597"/>
                        <a:pt x="363" y="585"/>
                        <a:pt x="363" y="585"/>
                      </a:cubicBezTo>
                      <a:cubicBezTo>
                        <a:pt x="355" y="573"/>
                        <a:pt x="350" y="570"/>
                        <a:pt x="363" y="561"/>
                      </a:cubicBezTo>
                      <a:cubicBezTo>
                        <a:pt x="361" y="553"/>
                        <a:pt x="356" y="545"/>
                        <a:pt x="357" y="537"/>
                      </a:cubicBezTo>
                      <a:cubicBezTo>
                        <a:pt x="358" y="531"/>
                        <a:pt x="363" y="519"/>
                        <a:pt x="363" y="519"/>
                      </a:cubicBezTo>
                      <a:cubicBezTo>
                        <a:pt x="355" y="495"/>
                        <a:pt x="363" y="525"/>
                        <a:pt x="363" y="501"/>
                      </a:cubicBezTo>
                      <a:cubicBezTo>
                        <a:pt x="363" y="492"/>
                        <a:pt x="354" y="483"/>
                        <a:pt x="351" y="474"/>
                      </a:cubicBezTo>
                      <a:cubicBezTo>
                        <a:pt x="350" y="470"/>
                        <a:pt x="351" y="465"/>
                        <a:pt x="348" y="462"/>
                      </a:cubicBezTo>
                      <a:cubicBezTo>
                        <a:pt x="344" y="457"/>
                        <a:pt x="336" y="457"/>
                        <a:pt x="330" y="453"/>
                      </a:cubicBezTo>
                      <a:cubicBezTo>
                        <a:pt x="323" y="432"/>
                        <a:pt x="330" y="433"/>
                        <a:pt x="315" y="438"/>
                      </a:cubicBezTo>
                      <a:cubicBezTo>
                        <a:pt x="311" y="450"/>
                        <a:pt x="309" y="455"/>
                        <a:pt x="297" y="459"/>
                      </a:cubicBezTo>
                      <a:cubicBezTo>
                        <a:pt x="296" y="462"/>
                        <a:pt x="296" y="466"/>
                        <a:pt x="294" y="468"/>
                      </a:cubicBezTo>
                      <a:cubicBezTo>
                        <a:pt x="280" y="486"/>
                        <a:pt x="278" y="453"/>
                        <a:pt x="270" y="447"/>
                      </a:cubicBezTo>
                      <a:cubicBezTo>
                        <a:pt x="268" y="445"/>
                        <a:pt x="264" y="445"/>
                        <a:pt x="261" y="444"/>
                      </a:cubicBezTo>
                      <a:cubicBezTo>
                        <a:pt x="257" y="445"/>
                        <a:pt x="251" y="444"/>
                        <a:pt x="249" y="447"/>
                      </a:cubicBezTo>
                      <a:cubicBezTo>
                        <a:pt x="247" y="450"/>
                        <a:pt x="252" y="453"/>
                        <a:pt x="252" y="456"/>
                      </a:cubicBezTo>
                      <a:cubicBezTo>
                        <a:pt x="252" y="465"/>
                        <a:pt x="243" y="474"/>
                        <a:pt x="240" y="483"/>
                      </a:cubicBezTo>
                      <a:cubicBezTo>
                        <a:pt x="225" y="473"/>
                        <a:pt x="234" y="469"/>
                        <a:pt x="225" y="456"/>
                      </a:cubicBezTo>
                      <a:cubicBezTo>
                        <a:pt x="220" y="448"/>
                        <a:pt x="198" y="444"/>
                        <a:pt x="198" y="444"/>
                      </a:cubicBezTo>
                      <a:cubicBezTo>
                        <a:pt x="184" y="423"/>
                        <a:pt x="192" y="430"/>
                        <a:pt x="177" y="420"/>
                      </a:cubicBezTo>
                      <a:cubicBezTo>
                        <a:pt x="175" y="416"/>
                        <a:pt x="167" y="407"/>
                        <a:pt x="168" y="402"/>
                      </a:cubicBezTo>
                      <a:cubicBezTo>
                        <a:pt x="169" y="396"/>
                        <a:pt x="174" y="384"/>
                        <a:pt x="174" y="384"/>
                      </a:cubicBezTo>
                      <a:cubicBezTo>
                        <a:pt x="170" y="372"/>
                        <a:pt x="165" y="370"/>
                        <a:pt x="153" y="366"/>
                      </a:cubicBezTo>
                      <a:cubicBezTo>
                        <a:pt x="150" y="367"/>
                        <a:pt x="146" y="366"/>
                        <a:pt x="144" y="369"/>
                      </a:cubicBezTo>
                      <a:cubicBezTo>
                        <a:pt x="140" y="374"/>
                        <a:pt x="138" y="387"/>
                        <a:pt x="138" y="387"/>
                      </a:cubicBezTo>
                      <a:cubicBezTo>
                        <a:pt x="130" y="386"/>
                        <a:pt x="121" y="388"/>
                        <a:pt x="114" y="384"/>
                      </a:cubicBezTo>
                      <a:cubicBezTo>
                        <a:pt x="111" y="382"/>
                        <a:pt x="119" y="377"/>
                        <a:pt x="117" y="375"/>
                      </a:cubicBezTo>
                      <a:cubicBezTo>
                        <a:pt x="110" y="368"/>
                        <a:pt x="90" y="366"/>
                        <a:pt x="90" y="366"/>
                      </a:cubicBezTo>
                      <a:cubicBezTo>
                        <a:pt x="86" y="350"/>
                        <a:pt x="85" y="343"/>
                        <a:pt x="102" y="339"/>
                      </a:cubicBezTo>
                      <a:cubicBezTo>
                        <a:pt x="110" y="326"/>
                        <a:pt x="108" y="323"/>
                        <a:pt x="96" y="315"/>
                      </a:cubicBezTo>
                      <a:cubicBezTo>
                        <a:pt x="82" y="336"/>
                        <a:pt x="91" y="337"/>
                        <a:pt x="60" y="327"/>
                      </a:cubicBezTo>
                      <a:cubicBezTo>
                        <a:pt x="31" y="337"/>
                        <a:pt x="38" y="321"/>
                        <a:pt x="21" y="315"/>
                      </a:cubicBezTo>
                      <a:cubicBezTo>
                        <a:pt x="14" y="294"/>
                        <a:pt x="7" y="273"/>
                        <a:pt x="0" y="252"/>
                      </a:cubicBezTo>
                      <a:cubicBezTo>
                        <a:pt x="5" y="227"/>
                        <a:pt x="14" y="229"/>
                        <a:pt x="36" y="222"/>
                      </a:cubicBezTo>
                      <a:cubicBezTo>
                        <a:pt x="37" y="219"/>
                        <a:pt x="36" y="215"/>
                        <a:pt x="39" y="213"/>
                      </a:cubicBezTo>
                      <a:cubicBezTo>
                        <a:pt x="44" y="209"/>
                        <a:pt x="57" y="207"/>
                        <a:pt x="57" y="207"/>
                      </a:cubicBezTo>
                      <a:cubicBezTo>
                        <a:pt x="61" y="195"/>
                        <a:pt x="67" y="190"/>
                        <a:pt x="78" y="183"/>
                      </a:cubicBezTo>
                      <a:cubicBezTo>
                        <a:pt x="79" y="180"/>
                        <a:pt x="78" y="176"/>
                        <a:pt x="81" y="174"/>
                      </a:cubicBezTo>
                      <a:cubicBezTo>
                        <a:pt x="86" y="170"/>
                        <a:pt x="99" y="168"/>
                        <a:pt x="99" y="168"/>
                      </a:cubicBezTo>
                      <a:cubicBezTo>
                        <a:pt x="105" y="150"/>
                        <a:pt x="112" y="148"/>
                        <a:pt x="93" y="135"/>
                      </a:cubicBezTo>
                      <a:cubicBezTo>
                        <a:pt x="98" y="121"/>
                        <a:pt x="92" y="118"/>
                        <a:pt x="81" y="111"/>
                      </a:cubicBezTo>
                      <a:cubicBezTo>
                        <a:pt x="74" y="90"/>
                        <a:pt x="70" y="97"/>
                        <a:pt x="84" y="87"/>
                      </a:cubicBezTo>
                      <a:cubicBezTo>
                        <a:pt x="82" y="81"/>
                        <a:pt x="75" y="76"/>
                        <a:pt x="75" y="69"/>
                      </a:cubicBezTo>
                      <a:cubicBezTo>
                        <a:pt x="75" y="63"/>
                        <a:pt x="81" y="51"/>
                        <a:pt x="81" y="51"/>
                      </a:cubicBezTo>
                      <a:cubicBezTo>
                        <a:pt x="93" y="55"/>
                        <a:pt x="98" y="55"/>
                        <a:pt x="102" y="42"/>
                      </a:cubicBezTo>
                      <a:cubicBezTo>
                        <a:pt x="101" y="30"/>
                        <a:pt x="97" y="18"/>
                        <a:pt x="99" y="6"/>
                      </a:cubicBezTo>
                      <a:cubicBezTo>
                        <a:pt x="100" y="2"/>
                        <a:pt x="105" y="9"/>
                        <a:pt x="108" y="12"/>
                      </a:cubicBezTo>
                      <a:cubicBezTo>
                        <a:pt x="117" y="21"/>
                        <a:pt x="132" y="39"/>
                        <a:pt x="132" y="39"/>
                      </a:cubicBezTo>
                      <a:cubicBezTo>
                        <a:pt x="136" y="52"/>
                        <a:pt x="147" y="64"/>
                        <a:pt x="159" y="72"/>
                      </a:cubicBezTo>
                      <a:cubicBezTo>
                        <a:pt x="158" y="76"/>
                        <a:pt x="159" y="81"/>
                        <a:pt x="156" y="84"/>
                      </a:cubicBezTo>
                      <a:cubicBezTo>
                        <a:pt x="154" y="86"/>
                        <a:pt x="148" y="84"/>
                        <a:pt x="147" y="87"/>
                      </a:cubicBezTo>
                      <a:cubicBezTo>
                        <a:pt x="143" y="96"/>
                        <a:pt x="168" y="108"/>
                        <a:pt x="168" y="108"/>
                      </a:cubicBezTo>
                      <a:cubicBezTo>
                        <a:pt x="174" y="127"/>
                        <a:pt x="177" y="110"/>
                        <a:pt x="186" y="105"/>
                      </a:cubicBezTo>
                      <a:cubicBezTo>
                        <a:pt x="191" y="102"/>
                        <a:pt x="204" y="99"/>
                        <a:pt x="204" y="99"/>
                      </a:cubicBezTo>
                      <a:cubicBezTo>
                        <a:pt x="184" y="85"/>
                        <a:pt x="211" y="77"/>
                        <a:pt x="225" y="72"/>
                      </a:cubicBezTo>
                      <a:cubicBezTo>
                        <a:pt x="230" y="87"/>
                        <a:pt x="234" y="88"/>
                        <a:pt x="249" y="84"/>
                      </a:cubicBezTo>
                      <a:cubicBezTo>
                        <a:pt x="265" y="89"/>
                        <a:pt x="256" y="84"/>
                        <a:pt x="270" y="105"/>
                      </a:cubicBezTo>
                      <a:cubicBezTo>
                        <a:pt x="272" y="108"/>
                        <a:pt x="276" y="114"/>
                        <a:pt x="276" y="114"/>
                      </a:cubicBezTo>
                      <a:cubicBezTo>
                        <a:pt x="283" y="104"/>
                        <a:pt x="289" y="94"/>
                        <a:pt x="282" y="81"/>
                      </a:cubicBezTo>
                      <a:cubicBezTo>
                        <a:pt x="275" y="70"/>
                        <a:pt x="253" y="72"/>
                        <a:pt x="243" y="66"/>
                      </a:cubicBezTo>
                      <a:cubicBezTo>
                        <a:pt x="237" y="62"/>
                        <a:pt x="225" y="54"/>
                        <a:pt x="225" y="54"/>
                      </a:cubicBezTo>
                      <a:cubicBezTo>
                        <a:pt x="221" y="48"/>
                        <a:pt x="203" y="37"/>
                        <a:pt x="213" y="30"/>
                      </a:cubicBezTo>
                      <a:cubicBezTo>
                        <a:pt x="221" y="24"/>
                        <a:pt x="240" y="20"/>
                        <a:pt x="249" y="15"/>
                      </a:cubicBezTo>
                      <a:cubicBezTo>
                        <a:pt x="255" y="11"/>
                        <a:pt x="260" y="5"/>
                        <a:pt x="267" y="3"/>
                      </a:cubicBezTo>
                      <a:cubicBezTo>
                        <a:pt x="270" y="2"/>
                        <a:pt x="276" y="0"/>
                        <a:pt x="276" y="0"/>
                      </a:cubicBezTo>
                      <a:lnTo>
                        <a:pt x="402" y="69"/>
                      </a:lnTo>
                      <a:lnTo>
                        <a:pt x="504" y="135"/>
                      </a:lnTo>
                      <a:lnTo>
                        <a:pt x="588" y="198"/>
                      </a:lnTo>
                      <a:lnTo>
                        <a:pt x="666" y="261"/>
                      </a:lnTo>
                      <a:lnTo>
                        <a:pt x="750" y="345"/>
                      </a:lnTo>
                      <a:lnTo>
                        <a:pt x="828" y="429"/>
                      </a:lnTo>
                      <a:cubicBezTo>
                        <a:pt x="854" y="463"/>
                        <a:pt x="906" y="531"/>
                        <a:pt x="906" y="53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59" name="Freeform 79"/>
                <p:cNvSpPr/>
                <p:nvPr/>
              </p:nvSpPr>
              <p:spPr>
                <a:xfrm>
                  <a:off x="3968280" y="1489320"/>
                  <a:ext cx="145080" cy="120240"/>
                </a:xfrm>
                <a:custGeom>
                  <a:avLst/>
                  <a:gdLst/>
                  <a:ahLst/>
                  <a:rect l="l" t="t" r="r" b="b"/>
                  <a:pathLst>
                    <a:path w="155" h="100">
                      <a:moveTo>
                        <a:pt x="51" y="52"/>
                      </a:moveTo>
                      <a:cubicBezTo>
                        <a:pt x="43" y="40"/>
                        <a:pt x="31" y="34"/>
                        <a:pt x="18" y="28"/>
                      </a:cubicBezTo>
                      <a:cubicBezTo>
                        <a:pt x="12" y="25"/>
                        <a:pt x="0" y="22"/>
                        <a:pt x="0" y="22"/>
                      </a:cubicBezTo>
                      <a:cubicBezTo>
                        <a:pt x="4" y="10"/>
                        <a:pt x="1" y="8"/>
                        <a:pt x="21" y="16"/>
                      </a:cubicBezTo>
                      <a:cubicBezTo>
                        <a:pt x="28" y="19"/>
                        <a:pt x="39" y="28"/>
                        <a:pt x="39" y="28"/>
                      </a:cubicBezTo>
                      <a:cubicBezTo>
                        <a:pt x="33" y="0"/>
                        <a:pt x="42" y="2"/>
                        <a:pt x="66" y="10"/>
                      </a:cubicBezTo>
                      <a:cubicBezTo>
                        <a:pt x="72" y="27"/>
                        <a:pt x="79" y="33"/>
                        <a:pt x="96" y="37"/>
                      </a:cubicBezTo>
                      <a:cubicBezTo>
                        <a:pt x="101" y="57"/>
                        <a:pt x="105" y="58"/>
                        <a:pt x="123" y="70"/>
                      </a:cubicBezTo>
                      <a:cubicBezTo>
                        <a:pt x="131" y="75"/>
                        <a:pt x="150" y="79"/>
                        <a:pt x="150" y="79"/>
                      </a:cubicBezTo>
                      <a:cubicBezTo>
                        <a:pt x="151" y="82"/>
                        <a:pt x="155" y="85"/>
                        <a:pt x="153" y="88"/>
                      </a:cubicBezTo>
                      <a:cubicBezTo>
                        <a:pt x="149" y="94"/>
                        <a:pt x="135" y="100"/>
                        <a:pt x="135" y="100"/>
                      </a:cubicBezTo>
                      <a:cubicBezTo>
                        <a:pt x="123" y="92"/>
                        <a:pt x="119" y="96"/>
                        <a:pt x="105" y="100"/>
                      </a:cubicBezTo>
                      <a:cubicBezTo>
                        <a:pt x="91" y="97"/>
                        <a:pt x="80" y="97"/>
                        <a:pt x="90" y="82"/>
                      </a:cubicBezTo>
                      <a:cubicBezTo>
                        <a:pt x="80" y="75"/>
                        <a:pt x="70" y="74"/>
                        <a:pt x="60" y="67"/>
                      </a:cubicBezTo>
                      <a:cubicBezTo>
                        <a:pt x="56" y="60"/>
                        <a:pt x="39" y="52"/>
                        <a:pt x="51" y="5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60" name="Freeform 80"/>
                <p:cNvSpPr/>
                <p:nvPr/>
              </p:nvSpPr>
              <p:spPr>
                <a:xfrm>
                  <a:off x="4029840" y="1618200"/>
                  <a:ext cx="62280" cy="64800"/>
                </a:xfrm>
                <a:custGeom>
                  <a:avLst/>
                  <a:gdLst/>
                  <a:ahLst/>
                  <a:rect l="l" t="t" r="r" b="b"/>
                  <a:pathLst>
                    <a:path w="67" h="53">
                      <a:moveTo>
                        <a:pt x="5" y="17"/>
                      </a:moveTo>
                      <a:cubicBezTo>
                        <a:pt x="0" y="3"/>
                        <a:pt x="8" y="1"/>
                        <a:pt x="20" y="5"/>
                      </a:cubicBezTo>
                      <a:cubicBezTo>
                        <a:pt x="36" y="0"/>
                        <a:pt x="44" y="9"/>
                        <a:pt x="59" y="14"/>
                      </a:cubicBezTo>
                      <a:cubicBezTo>
                        <a:pt x="61" y="17"/>
                        <a:pt x="67" y="20"/>
                        <a:pt x="65" y="23"/>
                      </a:cubicBezTo>
                      <a:cubicBezTo>
                        <a:pt x="61" y="29"/>
                        <a:pt x="47" y="35"/>
                        <a:pt x="47" y="35"/>
                      </a:cubicBezTo>
                      <a:cubicBezTo>
                        <a:pt x="47" y="35"/>
                        <a:pt x="55" y="53"/>
                        <a:pt x="47" y="53"/>
                      </a:cubicBezTo>
                      <a:cubicBezTo>
                        <a:pt x="40" y="53"/>
                        <a:pt x="41" y="37"/>
                        <a:pt x="38" y="35"/>
                      </a:cubicBezTo>
                      <a:cubicBezTo>
                        <a:pt x="33" y="31"/>
                        <a:pt x="20" y="29"/>
                        <a:pt x="20" y="29"/>
                      </a:cubicBezTo>
                      <a:cubicBezTo>
                        <a:pt x="9" y="18"/>
                        <a:pt x="15" y="22"/>
                        <a:pt x="5" y="17"/>
                      </a:cubicBezTo>
                      <a:close/>
                    </a:path>
                  </a:pathLst>
                </a:custGeom>
                <a:solidFill>
                  <a:srgbClr val="800000"/>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Black"/>
                  </a:endParaRPr>
                </a:p>
              </p:txBody>
            </p:sp>
            <p:sp>
              <p:nvSpPr>
                <p:cNvPr id="161" name="Freeform 81"/>
                <p:cNvSpPr/>
                <p:nvPr/>
              </p:nvSpPr>
              <p:spPr>
                <a:xfrm>
                  <a:off x="4024080" y="1667520"/>
                  <a:ext cx="28440" cy="34920"/>
                </a:xfrm>
                <a:custGeom>
                  <a:avLst/>
                  <a:gdLst/>
                  <a:ahLst/>
                  <a:rect l="l" t="t" r="r" b="b"/>
                  <a:pathLst>
                    <a:path w="31" h="31">
                      <a:moveTo>
                        <a:pt x="8" y="16"/>
                      </a:moveTo>
                      <a:cubicBezTo>
                        <a:pt x="3" y="0"/>
                        <a:pt x="13" y="3"/>
                        <a:pt x="23" y="10"/>
                      </a:cubicBezTo>
                      <a:cubicBezTo>
                        <a:pt x="31" y="22"/>
                        <a:pt x="31" y="26"/>
                        <a:pt x="17" y="31"/>
                      </a:cubicBezTo>
                      <a:cubicBezTo>
                        <a:pt x="10" y="29"/>
                        <a:pt x="0" y="24"/>
                        <a:pt x="8" y="16"/>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62" name="Freeform 82"/>
                <p:cNvSpPr/>
                <p:nvPr/>
              </p:nvSpPr>
              <p:spPr>
                <a:xfrm>
                  <a:off x="3942000" y="1636200"/>
                  <a:ext cx="65880" cy="40680"/>
                </a:xfrm>
                <a:custGeom>
                  <a:avLst/>
                  <a:gdLst/>
                  <a:ahLst/>
                  <a:rect l="l" t="t" r="r" b="b"/>
                  <a:pathLst>
                    <a:path w="70" h="33">
                      <a:moveTo>
                        <a:pt x="24" y="9"/>
                      </a:moveTo>
                      <a:cubicBezTo>
                        <a:pt x="37" y="0"/>
                        <a:pt x="48" y="4"/>
                        <a:pt x="63" y="9"/>
                      </a:cubicBezTo>
                      <a:cubicBezTo>
                        <a:pt x="65" y="12"/>
                        <a:pt x="70" y="14"/>
                        <a:pt x="69" y="18"/>
                      </a:cubicBezTo>
                      <a:cubicBezTo>
                        <a:pt x="67" y="28"/>
                        <a:pt x="51" y="27"/>
                        <a:pt x="42" y="30"/>
                      </a:cubicBezTo>
                      <a:cubicBezTo>
                        <a:pt x="39" y="31"/>
                        <a:pt x="33" y="33"/>
                        <a:pt x="33" y="33"/>
                      </a:cubicBezTo>
                      <a:cubicBezTo>
                        <a:pt x="28" y="32"/>
                        <a:pt x="23" y="31"/>
                        <a:pt x="18" y="30"/>
                      </a:cubicBezTo>
                      <a:cubicBezTo>
                        <a:pt x="15" y="29"/>
                        <a:pt x="10" y="30"/>
                        <a:pt x="9" y="27"/>
                      </a:cubicBezTo>
                      <a:cubicBezTo>
                        <a:pt x="0" y="10"/>
                        <a:pt x="45" y="19"/>
                        <a:pt x="24" y="9"/>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63" name="Freeform 83"/>
                <p:cNvSpPr/>
                <p:nvPr/>
              </p:nvSpPr>
              <p:spPr>
                <a:xfrm>
                  <a:off x="3843720" y="1590480"/>
                  <a:ext cx="136800" cy="90000"/>
                </a:xfrm>
                <a:custGeom>
                  <a:avLst/>
                  <a:gdLst/>
                  <a:ahLst/>
                  <a:rect l="l" t="t" r="r" b="b"/>
                  <a:pathLst>
                    <a:path w="145" h="77">
                      <a:moveTo>
                        <a:pt x="145" y="29"/>
                      </a:moveTo>
                      <a:cubicBezTo>
                        <a:pt x="138" y="0"/>
                        <a:pt x="110" y="30"/>
                        <a:pt x="91" y="35"/>
                      </a:cubicBezTo>
                      <a:cubicBezTo>
                        <a:pt x="75" y="30"/>
                        <a:pt x="49" y="31"/>
                        <a:pt x="34" y="41"/>
                      </a:cubicBezTo>
                      <a:cubicBezTo>
                        <a:pt x="28" y="45"/>
                        <a:pt x="16" y="53"/>
                        <a:pt x="16" y="53"/>
                      </a:cubicBezTo>
                      <a:cubicBezTo>
                        <a:pt x="0" y="76"/>
                        <a:pt x="22" y="70"/>
                        <a:pt x="43" y="68"/>
                      </a:cubicBezTo>
                      <a:cubicBezTo>
                        <a:pt x="49" y="69"/>
                        <a:pt x="55" y="70"/>
                        <a:pt x="61" y="71"/>
                      </a:cubicBezTo>
                      <a:cubicBezTo>
                        <a:pt x="67" y="73"/>
                        <a:pt x="79" y="77"/>
                        <a:pt x="79" y="77"/>
                      </a:cubicBezTo>
                      <a:cubicBezTo>
                        <a:pt x="94" y="72"/>
                        <a:pt x="87" y="77"/>
                        <a:pt x="94" y="56"/>
                      </a:cubicBezTo>
                      <a:cubicBezTo>
                        <a:pt x="97" y="46"/>
                        <a:pt x="123" y="43"/>
                        <a:pt x="133" y="41"/>
                      </a:cubicBezTo>
                      <a:cubicBezTo>
                        <a:pt x="137" y="29"/>
                        <a:pt x="133" y="33"/>
                        <a:pt x="145" y="29"/>
                      </a:cubicBezTo>
                      <a:close/>
                    </a:path>
                  </a:pathLst>
                </a:custGeom>
                <a:solidFill>
                  <a:srgbClr val="800000"/>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Black"/>
                  </a:endParaRPr>
                </a:p>
              </p:txBody>
            </p:sp>
            <p:sp>
              <p:nvSpPr>
                <p:cNvPr id="164" name="Freeform 84"/>
                <p:cNvSpPr/>
                <p:nvPr/>
              </p:nvSpPr>
              <p:spPr>
                <a:xfrm>
                  <a:off x="3565080" y="1476360"/>
                  <a:ext cx="376560" cy="187560"/>
                </a:xfrm>
                <a:custGeom>
                  <a:avLst/>
                  <a:gdLst/>
                  <a:ahLst/>
                  <a:rect l="l" t="t" r="r" b="b"/>
                  <a:pathLst>
                    <a:path w="397" h="156">
                      <a:moveTo>
                        <a:pt x="324" y="3"/>
                      </a:moveTo>
                      <a:cubicBezTo>
                        <a:pt x="319" y="22"/>
                        <a:pt x="324" y="13"/>
                        <a:pt x="303" y="27"/>
                      </a:cubicBezTo>
                      <a:cubicBezTo>
                        <a:pt x="300" y="29"/>
                        <a:pt x="294" y="33"/>
                        <a:pt x="294" y="33"/>
                      </a:cubicBezTo>
                      <a:cubicBezTo>
                        <a:pt x="301" y="54"/>
                        <a:pt x="295" y="47"/>
                        <a:pt x="309" y="57"/>
                      </a:cubicBezTo>
                      <a:cubicBezTo>
                        <a:pt x="330" y="88"/>
                        <a:pt x="353" y="82"/>
                        <a:pt x="387" y="90"/>
                      </a:cubicBezTo>
                      <a:cubicBezTo>
                        <a:pt x="397" y="119"/>
                        <a:pt x="337" y="116"/>
                        <a:pt x="324" y="117"/>
                      </a:cubicBezTo>
                      <a:cubicBezTo>
                        <a:pt x="319" y="125"/>
                        <a:pt x="318" y="128"/>
                        <a:pt x="309" y="132"/>
                      </a:cubicBezTo>
                      <a:cubicBezTo>
                        <a:pt x="303" y="135"/>
                        <a:pt x="291" y="138"/>
                        <a:pt x="291" y="138"/>
                      </a:cubicBezTo>
                      <a:cubicBezTo>
                        <a:pt x="273" y="132"/>
                        <a:pt x="259" y="131"/>
                        <a:pt x="240" y="129"/>
                      </a:cubicBezTo>
                      <a:cubicBezTo>
                        <a:pt x="202" y="116"/>
                        <a:pt x="224" y="137"/>
                        <a:pt x="207" y="147"/>
                      </a:cubicBezTo>
                      <a:cubicBezTo>
                        <a:pt x="202" y="150"/>
                        <a:pt x="184" y="154"/>
                        <a:pt x="177" y="156"/>
                      </a:cubicBezTo>
                      <a:cubicBezTo>
                        <a:pt x="157" y="143"/>
                        <a:pt x="176" y="128"/>
                        <a:pt x="147" y="147"/>
                      </a:cubicBezTo>
                      <a:cubicBezTo>
                        <a:pt x="137" y="137"/>
                        <a:pt x="139" y="127"/>
                        <a:pt x="126" y="123"/>
                      </a:cubicBezTo>
                      <a:cubicBezTo>
                        <a:pt x="122" y="134"/>
                        <a:pt x="112" y="147"/>
                        <a:pt x="102" y="153"/>
                      </a:cubicBezTo>
                      <a:cubicBezTo>
                        <a:pt x="91" y="146"/>
                        <a:pt x="85" y="143"/>
                        <a:pt x="90" y="129"/>
                      </a:cubicBezTo>
                      <a:cubicBezTo>
                        <a:pt x="81" y="120"/>
                        <a:pt x="75" y="115"/>
                        <a:pt x="63" y="111"/>
                      </a:cubicBezTo>
                      <a:cubicBezTo>
                        <a:pt x="56" y="101"/>
                        <a:pt x="49" y="97"/>
                        <a:pt x="42" y="87"/>
                      </a:cubicBezTo>
                      <a:cubicBezTo>
                        <a:pt x="50" y="62"/>
                        <a:pt x="17" y="66"/>
                        <a:pt x="0" y="60"/>
                      </a:cubicBezTo>
                      <a:cubicBezTo>
                        <a:pt x="11" y="53"/>
                        <a:pt x="20" y="55"/>
                        <a:pt x="24" y="42"/>
                      </a:cubicBezTo>
                      <a:cubicBezTo>
                        <a:pt x="16" y="30"/>
                        <a:pt x="16" y="26"/>
                        <a:pt x="30" y="21"/>
                      </a:cubicBezTo>
                      <a:cubicBezTo>
                        <a:pt x="42" y="29"/>
                        <a:pt x="45" y="31"/>
                        <a:pt x="60" y="27"/>
                      </a:cubicBezTo>
                      <a:cubicBezTo>
                        <a:pt x="85" y="35"/>
                        <a:pt x="77" y="19"/>
                        <a:pt x="90" y="6"/>
                      </a:cubicBezTo>
                      <a:lnTo>
                        <a:pt x="180" y="3"/>
                      </a:lnTo>
                      <a:lnTo>
                        <a:pt x="270" y="0"/>
                      </a:lnTo>
                      <a:lnTo>
                        <a:pt x="324" y="3"/>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65" name="Freeform 85"/>
                <p:cNvSpPr/>
                <p:nvPr/>
              </p:nvSpPr>
              <p:spPr>
                <a:xfrm>
                  <a:off x="4108320" y="1621800"/>
                  <a:ext cx="37440" cy="34920"/>
                </a:xfrm>
                <a:custGeom>
                  <a:avLst/>
                  <a:gdLst/>
                  <a:ahLst/>
                  <a:rect l="l" t="t" r="r" b="b"/>
                  <a:pathLst>
                    <a:path w="40" h="30">
                      <a:moveTo>
                        <a:pt x="6" y="6"/>
                      </a:moveTo>
                      <a:cubicBezTo>
                        <a:pt x="27" y="13"/>
                        <a:pt x="19" y="8"/>
                        <a:pt x="33" y="18"/>
                      </a:cubicBezTo>
                      <a:cubicBezTo>
                        <a:pt x="36" y="26"/>
                        <a:pt x="40" y="30"/>
                        <a:pt x="27" y="30"/>
                      </a:cubicBezTo>
                      <a:cubicBezTo>
                        <a:pt x="17" y="30"/>
                        <a:pt x="0" y="15"/>
                        <a:pt x="0" y="15"/>
                      </a:cubicBezTo>
                      <a:cubicBezTo>
                        <a:pt x="3" y="2"/>
                        <a:pt x="0" y="0"/>
                        <a:pt x="6" y="6"/>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66" name="Freeform 86"/>
                <p:cNvSpPr/>
                <p:nvPr/>
              </p:nvSpPr>
              <p:spPr>
                <a:xfrm>
                  <a:off x="4096800" y="1672560"/>
                  <a:ext cx="32760" cy="15480"/>
                </a:xfrm>
                <a:custGeom>
                  <a:avLst/>
                  <a:gdLst/>
                  <a:ahLst/>
                  <a:rect l="l" t="t" r="r" b="b"/>
                  <a:pathLst>
                    <a:path w="32" h="15">
                      <a:moveTo>
                        <a:pt x="9" y="0"/>
                      </a:moveTo>
                      <a:cubicBezTo>
                        <a:pt x="29" y="4"/>
                        <a:pt x="32" y="8"/>
                        <a:pt x="12" y="15"/>
                      </a:cubicBezTo>
                      <a:cubicBezTo>
                        <a:pt x="1" y="4"/>
                        <a:pt x="0" y="9"/>
                        <a:pt x="9" y="0"/>
                      </a:cubicBezTo>
                      <a:close/>
                    </a:path>
                  </a:pathLst>
                </a:custGeom>
                <a:solidFill>
                  <a:srgbClr val="8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Black"/>
                  </a:endParaRPr>
                </a:p>
              </p:txBody>
            </p:sp>
            <p:sp>
              <p:nvSpPr>
                <p:cNvPr id="167" name="Freeform 87"/>
                <p:cNvSpPr/>
                <p:nvPr/>
              </p:nvSpPr>
              <p:spPr>
                <a:xfrm>
                  <a:off x="4123080" y="1689120"/>
                  <a:ext cx="65880" cy="80640"/>
                </a:xfrm>
                <a:custGeom>
                  <a:avLst/>
                  <a:gdLst/>
                  <a:ahLst/>
                  <a:rect l="l" t="t" r="r" b="b"/>
                  <a:pathLst>
                    <a:path w="69" h="66">
                      <a:moveTo>
                        <a:pt x="9" y="9"/>
                      </a:moveTo>
                      <a:cubicBezTo>
                        <a:pt x="23" y="0"/>
                        <a:pt x="32" y="3"/>
                        <a:pt x="45" y="12"/>
                      </a:cubicBezTo>
                      <a:cubicBezTo>
                        <a:pt x="47" y="18"/>
                        <a:pt x="47" y="26"/>
                        <a:pt x="51" y="30"/>
                      </a:cubicBezTo>
                      <a:cubicBezTo>
                        <a:pt x="57" y="36"/>
                        <a:pt x="69" y="48"/>
                        <a:pt x="69" y="48"/>
                      </a:cubicBezTo>
                      <a:cubicBezTo>
                        <a:pt x="63" y="66"/>
                        <a:pt x="51" y="59"/>
                        <a:pt x="36" y="54"/>
                      </a:cubicBezTo>
                      <a:cubicBezTo>
                        <a:pt x="27" y="40"/>
                        <a:pt x="15" y="43"/>
                        <a:pt x="0" y="39"/>
                      </a:cubicBezTo>
                      <a:cubicBezTo>
                        <a:pt x="4" y="26"/>
                        <a:pt x="9" y="26"/>
                        <a:pt x="21" y="30"/>
                      </a:cubicBezTo>
                      <a:cubicBezTo>
                        <a:pt x="41" y="23"/>
                        <a:pt x="9" y="21"/>
                        <a:pt x="0" y="18"/>
                      </a:cubicBezTo>
                      <a:cubicBezTo>
                        <a:pt x="3" y="15"/>
                        <a:pt x="9" y="9"/>
                        <a:pt x="9" y="9"/>
                      </a:cubicBezTo>
                      <a:close/>
                    </a:path>
                  </a:pathLst>
                </a:custGeom>
                <a:solidFill>
                  <a:srgbClr val="800000"/>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Black"/>
                  </a:endParaRPr>
                </a:p>
              </p:txBody>
            </p:sp>
            <p:sp>
              <p:nvSpPr>
                <p:cNvPr id="168" name="Freeform 88"/>
                <p:cNvSpPr/>
                <p:nvPr/>
              </p:nvSpPr>
              <p:spPr>
                <a:xfrm>
                  <a:off x="4203360" y="1727640"/>
                  <a:ext cx="82800" cy="69480"/>
                </a:xfrm>
                <a:custGeom>
                  <a:avLst/>
                  <a:gdLst/>
                  <a:ahLst/>
                  <a:rect l="l" t="t" r="r" b="b"/>
                  <a:pathLst>
                    <a:path w="90" h="60">
                      <a:moveTo>
                        <a:pt x="0" y="28"/>
                      </a:moveTo>
                      <a:cubicBezTo>
                        <a:pt x="9" y="0"/>
                        <a:pt x="34" y="29"/>
                        <a:pt x="57" y="37"/>
                      </a:cubicBezTo>
                      <a:cubicBezTo>
                        <a:pt x="66" y="40"/>
                        <a:pt x="84" y="46"/>
                        <a:pt x="84" y="46"/>
                      </a:cubicBezTo>
                      <a:cubicBezTo>
                        <a:pt x="85" y="49"/>
                        <a:pt x="90" y="54"/>
                        <a:pt x="87" y="55"/>
                      </a:cubicBezTo>
                      <a:cubicBezTo>
                        <a:pt x="64" y="60"/>
                        <a:pt x="26" y="43"/>
                        <a:pt x="3" y="40"/>
                      </a:cubicBezTo>
                      <a:cubicBezTo>
                        <a:pt x="0" y="30"/>
                        <a:pt x="0" y="34"/>
                        <a:pt x="0" y="28"/>
                      </a:cubicBezTo>
                      <a:close/>
                    </a:path>
                  </a:pathLst>
                </a:custGeom>
                <a:solidFill>
                  <a:srgbClr val="8000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Black"/>
                  </a:endParaRPr>
                </a:p>
              </p:txBody>
            </p:sp>
            <p:sp>
              <p:nvSpPr>
                <p:cNvPr id="169" name="Freeform 89"/>
                <p:cNvSpPr/>
                <p:nvPr/>
              </p:nvSpPr>
              <p:spPr>
                <a:xfrm>
                  <a:off x="4197960" y="1680840"/>
                  <a:ext cx="153720" cy="94680"/>
                </a:xfrm>
                <a:custGeom>
                  <a:avLst/>
                  <a:gdLst/>
                  <a:ahLst/>
                  <a:rect l="l" t="t" r="r" b="b"/>
                  <a:pathLst>
                    <a:path w="162" h="81">
                      <a:moveTo>
                        <a:pt x="30" y="30"/>
                      </a:moveTo>
                      <a:cubicBezTo>
                        <a:pt x="25" y="15"/>
                        <a:pt x="16" y="18"/>
                        <a:pt x="0" y="15"/>
                      </a:cubicBezTo>
                      <a:cubicBezTo>
                        <a:pt x="1" y="12"/>
                        <a:pt x="0" y="6"/>
                        <a:pt x="3" y="6"/>
                      </a:cubicBezTo>
                      <a:cubicBezTo>
                        <a:pt x="9" y="5"/>
                        <a:pt x="21" y="12"/>
                        <a:pt x="21" y="12"/>
                      </a:cubicBezTo>
                      <a:cubicBezTo>
                        <a:pt x="31" y="9"/>
                        <a:pt x="38" y="3"/>
                        <a:pt x="48" y="0"/>
                      </a:cubicBezTo>
                      <a:cubicBezTo>
                        <a:pt x="82" y="3"/>
                        <a:pt x="109" y="16"/>
                        <a:pt x="141" y="27"/>
                      </a:cubicBezTo>
                      <a:cubicBezTo>
                        <a:pt x="156" y="49"/>
                        <a:pt x="162" y="47"/>
                        <a:pt x="132" y="54"/>
                      </a:cubicBezTo>
                      <a:cubicBezTo>
                        <a:pt x="129" y="64"/>
                        <a:pt x="123" y="71"/>
                        <a:pt x="120" y="81"/>
                      </a:cubicBezTo>
                      <a:cubicBezTo>
                        <a:pt x="92" y="75"/>
                        <a:pt x="107" y="66"/>
                        <a:pt x="93" y="45"/>
                      </a:cubicBezTo>
                      <a:cubicBezTo>
                        <a:pt x="89" y="58"/>
                        <a:pt x="90" y="64"/>
                        <a:pt x="78" y="72"/>
                      </a:cubicBezTo>
                      <a:cubicBezTo>
                        <a:pt x="60" y="66"/>
                        <a:pt x="77" y="74"/>
                        <a:pt x="63" y="60"/>
                      </a:cubicBezTo>
                      <a:cubicBezTo>
                        <a:pt x="39" y="36"/>
                        <a:pt x="42" y="65"/>
                        <a:pt x="30" y="3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70" name="Freeform 90"/>
                <p:cNvSpPr/>
                <p:nvPr/>
              </p:nvSpPr>
              <p:spPr>
                <a:xfrm>
                  <a:off x="4156200" y="1636200"/>
                  <a:ext cx="53640" cy="40680"/>
                </a:xfrm>
                <a:custGeom>
                  <a:avLst/>
                  <a:gdLst/>
                  <a:ahLst/>
                  <a:rect l="l" t="t" r="r" b="b"/>
                  <a:pathLst>
                    <a:path w="59" h="36">
                      <a:moveTo>
                        <a:pt x="14" y="0"/>
                      </a:moveTo>
                      <a:cubicBezTo>
                        <a:pt x="26" y="2"/>
                        <a:pt x="38" y="5"/>
                        <a:pt x="50" y="9"/>
                      </a:cubicBezTo>
                      <a:cubicBezTo>
                        <a:pt x="59" y="22"/>
                        <a:pt x="55" y="25"/>
                        <a:pt x="44" y="36"/>
                      </a:cubicBezTo>
                      <a:cubicBezTo>
                        <a:pt x="35" y="33"/>
                        <a:pt x="26" y="30"/>
                        <a:pt x="17" y="27"/>
                      </a:cubicBezTo>
                      <a:cubicBezTo>
                        <a:pt x="14" y="26"/>
                        <a:pt x="8" y="24"/>
                        <a:pt x="8" y="24"/>
                      </a:cubicBezTo>
                      <a:cubicBezTo>
                        <a:pt x="0" y="11"/>
                        <a:pt x="2" y="8"/>
                        <a:pt x="14" y="0"/>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71" name="Freeform 91"/>
                <p:cNvSpPr/>
                <p:nvPr/>
              </p:nvSpPr>
              <p:spPr>
                <a:xfrm>
                  <a:off x="4180680" y="1546200"/>
                  <a:ext cx="363240" cy="271800"/>
                </a:xfrm>
                <a:custGeom>
                  <a:avLst/>
                  <a:gdLst/>
                  <a:ahLst/>
                  <a:rect l="l" t="t" r="r" b="b"/>
                  <a:pathLst>
                    <a:path w="383" h="225">
                      <a:moveTo>
                        <a:pt x="11" y="0"/>
                      </a:moveTo>
                      <a:cubicBezTo>
                        <a:pt x="17" y="19"/>
                        <a:pt x="20" y="29"/>
                        <a:pt x="41" y="36"/>
                      </a:cubicBezTo>
                      <a:cubicBezTo>
                        <a:pt x="54" y="32"/>
                        <a:pt x="64" y="35"/>
                        <a:pt x="77" y="39"/>
                      </a:cubicBezTo>
                      <a:cubicBezTo>
                        <a:pt x="85" y="51"/>
                        <a:pt x="85" y="55"/>
                        <a:pt x="71" y="60"/>
                      </a:cubicBezTo>
                      <a:cubicBezTo>
                        <a:pt x="54" y="54"/>
                        <a:pt x="37" y="51"/>
                        <a:pt x="20" y="45"/>
                      </a:cubicBezTo>
                      <a:cubicBezTo>
                        <a:pt x="5" y="50"/>
                        <a:pt x="12" y="56"/>
                        <a:pt x="23" y="60"/>
                      </a:cubicBezTo>
                      <a:cubicBezTo>
                        <a:pt x="17" y="61"/>
                        <a:pt x="10" y="59"/>
                        <a:pt x="5" y="63"/>
                      </a:cubicBezTo>
                      <a:cubicBezTo>
                        <a:pt x="0" y="67"/>
                        <a:pt x="8" y="79"/>
                        <a:pt x="14" y="81"/>
                      </a:cubicBezTo>
                      <a:cubicBezTo>
                        <a:pt x="27" y="84"/>
                        <a:pt x="40" y="83"/>
                        <a:pt x="53" y="84"/>
                      </a:cubicBezTo>
                      <a:cubicBezTo>
                        <a:pt x="78" y="92"/>
                        <a:pt x="75" y="86"/>
                        <a:pt x="98" y="78"/>
                      </a:cubicBezTo>
                      <a:cubicBezTo>
                        <a:pt x="102" y="91"/>
                        <a:pt x="109" y="90"/>
                        <a:pt x="122" y="93"/>
                      </a:cubicBezTo>
                      <a:cubicBezTo>
                        <a:pt x="113" y="107"/>
                        <a:pt x="112" y="97"/>
                        <a:pt x="98" y="102"/>
                      </a:cubicBezTo>
                      <a:cubicBezTo>
                        <a:pt x="107" y="108"/>
                        <a:pt x="116" y="111"/>
                        <a:pt x="125" y="117"/>
                      </a:cubicBezTo>
                      <a:cubicBezTo>
                        <a:pt x="133" y="129"/>
                        <a:pt x="142" y="128"/>
                        <a:pt x="155" y="132"/>
                      </a:cubicBezTo>
                      <a:cubicBezTo>
                        <a:pt x="167" y="128"/>
                        <a:pt x="174" y="131"/>
                        <a:pt x="185" y="135"/>
                      </a:cubicBezTo>
                      <a:cubicBezTo>
                        <a:pt x="189" y="146"/>
                        <a:pt x="200" y="161"/>
                        <a:pt x="200" y="168"/>
                      </a:cubicBezTo>
                      <a:cubicBezTo>
                        <a:pt x="213" y="180"/>
                        <a:pt x="229" y="189"/>
                        <a:pt x="239" y="204"/>
                      </a:cubicBezTo>
                      <a:cubicBezTo>
                        <a:pt x="241" y="207"/>
                        <a:pt x="225" y="204"/>
                        <a:pt x="227" y="207"/>
                      </a:cubicBezTo>
                      <a:cubicBezTo>
                        <a:pt x="231" y="212"/>
                        <a:pt x="245" y="213"/>
                        <a:pt x="245" y="213"/>
                      </a:cubicBezTo>
                      <a:cubicBezTo>
                        <a:pt x="262" y="207"/>
                        <a:pt x="279" y="216"/>
                        <a:pt x="293" y="225"/>
                      </a:cubicBezTo>
                      <a:cubicBezTo>
                        <a:pt x="311" y="219"/>
                        <a:pt x="311" y="208"/>
                        <a:pt x="296" y="198"/>
                      </a:cubicBezTo>
                      <a:cubicBezTo>
                        <a:pt x="285" y="182"/>
                        <a:pt x="277" y="175"/>
                        <a:pt x="299" y="168"/>
                      </a:cubicBezTo>
                      <a:cubicBezTo>
                        <a:pt x="319" y="182"/>
                        <a:pt x="366" y="164"/>
                        <a:pt x="383" y="147"/>
                      </a:cubicBezTo>
                      <a:lnTo>
                        <a:pt x="260" y="81"/>
                      </a:lnTo>
                      <a:lnTo>
                        <a:pt x="134" y="36"/>
                      </a:lnTo>
                      <a:lnTo>
                        <a:pt x="59" y="12"/>
                      </a:lnTo>
                      <a:lnTo>
                        <a:pt x="11" y="0"/>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72" name="Freeform 92"/>
                <p:cNvSpPr/>
                <p:nvPr/>
              </p:nvSpPr>
              <p:spPr>
                <a:xfrm>
                  <a:off x="3375720" y="1523160"/>
                  <a:ext cx="76320" cy="45360"/>
                </a:xfrm>
                <a:custGeom>
                  <a:avLst/>
                  <a:gdLst/>
                  <a:ahLst/>
                  <a:rect l="l" t="t" r="r" b="b"/>
                  <a:pathLst>
                    <a:path w="81" h="39">
                      <a:moveTo>
                        <a:pt x="18" y="33"/>
                      </a:moveTo>
                      <a:cubicBezTo>
                        <a:pt x="0" y="6"/>
                        <a:pt x="43" y="6"/>
                        <a:pt x="60" y="0"/>
                      </a:cubicBezTo>
                      <a:cubicBezTo>
                        <a:pt x="72" y="4"/>
                        <a:pt x="77" y="6"/>
                        <a:pt x="81" y="18"/>
                      </a:cubicBezTo>
                      <a:cubicBezTo>
                        <a:pt x="70" y="25"/>
                        <a:pt x="66" y="28"/>
                        <a:pt x="54" y="24"/>
                      </a:cubicBezTo>
                      <a:cubicBezTo>
                        <a:pt x="44" y="27"/>
                        <a:pt x="27" y="39"/>
                        <a:pt x="27" y="39"/>
                      </a:cubicBezTo>
                      <a:cubicBezTo>
                        <a:pt x="18" y="36"/>
                        <a:pt x="4" y="19"/>
                        <a:pt x="18" y="33"/>
                      </a:cubicBezTo>
                      <a:close/>
                    </a:path>
                  </a:pathLst>
                </a:custGeom>
                <a:solidFill>
                  <a:srgbClr val="80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Black"/>
                  </a:endParaRPr>
                </a:p>
              </p:txBody>
            </p:sp>
            <p:sp>
              <p:nvSpPr>
                <p:cNvPr id="173" name="Freeform 93"/>
                <p:cNvSpPr/>
                <p:nvPr/>
              </p:nvSpPr>
              <p:spPr>
                <a:xfrm>
                  <a:off x="3431880" y="1686960"/>
                  <a:ext cx="86760" cy="50400"/>
                </a:xfrm>
                <a:custGeom>
                  <a:avLst/>
                  <a:gdLst/>
                  <a:ahLst/>
                  <a:rect l="l" t="t" r="r" b="b"/>
                  <a:pathLst>
                    <a:path w="93" h="40">
                      <a:moveTo>
                        <a:pt x="15" y="36"/>
                      </a:moveTo>
                      <a:cubicBezTo>
                        <a:pt x="0" y="14"/>
                        <a:pt x="36" y="10"/>
                        <a:pt x="51" y="6"/>
                      </a:cubicBezTo>
                      <a:cubicBezTo>
                        <a:pt x="57" y="4"/>
                        <a:pt x="69" y="0"/>
                        <a:pt x="69" y="0"/>
                      </a:cubicBezTo>
                      <a:cubicBezTo>
                        <a:pt x="82" y="3"/>
                        <a:pt x="89" y="2"/>
                        <a:pt x="93" y="15"/>
                      </a:cubicBezTo>
                      <a:cubicBezTo>
                        <a:pt x="59" y="24"/>
                        <a:pt x="65" y="16"/>
                        <a:pt x="42" y="39"/>
                      </a:cubicBezTo>
                      <a:cubicBezTo>
                        <a:pt x="31" y="38"/>
                        <a:pt x="19" y="40"/>
                        <a:pt x="9" y="36"/>
                      </a:cubicBezTo>
                      <a:cubicBezTo>
                        <a:pt x="6" y="35"/>
                        <a:pt x="9" y="27"/>
                        <a:pt x="12" y="27"/>
                      </a:cubicBezTo>
                      <a:cubicBezTo>
                        <a:pt x="15" y="27"/>
                        <a:pt x="14" y="33"/>
                        <a:pt x="15" y="36"/>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74" name="Freeform 94"/>
                <p:cNvSpPr/>
                <p:nvPr/>
              </p:nvSpPr>
              <p:spPr>
                <a:xfrm>
                  <a:off x="3480120" y="1714320"/>
                  <a:ext cx="50040" cy="34920"/>
                </a:xfrm>
                <a:custGeom>
                  <a:avLst/>
                  <a:gdLst/>
                  <a:ahLst/>
                  <a:rect l="l" t="t" r="r" b="b"/>
                  <a:pathLst>
                    <a:path w="53" h="31">
                      <a:moveTo>
                        <a:pt x="14" y="25"/>
                      </a:moveTo>
                      <a:cubicBezTo>
                        <a:pt x="8" y="6"/>
                        <a:pt x="19" y="5"/>
                        <a:pt x="35" y="1"/>
                      </a:cubicBezTo>
                      <a:cubicBezTo>
                        <a:pt x="39" y="2"/>
                        <a:pt x="46" y="0"/>
                        <a:pt x="47" y="4"/>
                      </a:cubicBezTo>
                      <a:cubicBezTo>
                        <a:pt x="53" y="24"/>
                        <a:pt x="41" y="21"/>
                        <a:pt x="32" y="25"/>
                      </a:cubicBezTo>
                      <a:cubicBezTo>
                        <a:pt x="29" y="27"/>
                        <a:pt x="26" y="29"/>
                        <a:pt x="23" y="31"/>
                      </a:cubicBezTo>
                      <a:cubicBezTo>
                        <a:pt x="14" y="28"/>
                        <a:pt x="0" y="11"/>
                        <a:pt x="14" y="25"/>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75" name="Freeform 95"/>
                <p:cNvSpPr/>
                <p:nvPr/>
              </p:nvSpPr>
              <p:spPr>
                <a:xfrm>
                  <a:off x="3483360" y="1791360"/>
                  <a:ext cx="57240" cy="25200"/>
                </a:xfrm>
                <a:custGeom>
                  <a:avLst/>
                  <a:gdLst/>
                  <a:ahLst/>
                  <a:rect l="l" t="t" r="r" b="b"/>
                  <a:pathLst>
                    <a:path w="62" h="21">
                      <a:moveTo>
                        <a:pt x="25" y="21"/>
                      </a:moveTo>
                      <a:cubicBezTo>
                        <a:pt x="0" y="4"/>
                        <a:pt x="10" y="5"/>
                        <a:pt x="31" y="0"/>
                      </a:cubicBezTo>
                      <a:cubicBezTo>
                        <a:pt x="62" y="6"/>
                        <a:pt x="40" y="16"/>
                        <a:pt x="25" y="21"/>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76" name="Freeform 96"/>
                <p:cNvSpPr/>
                <p:nvPr/>
              </p:nvSpPr>
              <p:spPr>
                <a:xfrm>
                  <a:off x="3494520" y="1829880"/>
                  <a:ext cx="45360" cy="36000"/>
                </a:xfrm>
                <a:custGeom>
                  <a:avLst/>
                  <a:gdLst/>
                  <a:ahLst/>
                  <a:rect l="l" t="t" r="r" b="b"/>
                  <a:pathLst>
                    <a:path w="45" h="31">
                      <a:moveTo>
                        <a:pt x="0" y="12"/>
                      </a:moveTo>
                      <a:cubicBezTo>
                        <a:pt x="17" y="0"/>
                        <a:pt x="29" y="4"/>
                        <a:pt x="45" y="15"/>
                      </a:cubicBezTo>
                      <a:cubicBezTo>
                        <a:pt x="34" y="31"/>
                        <a:pt x="29" y="20"/>
                        <a:pt x="15" y="15"/>
                      </a:cubicBezTo>
                      <a:cubicBezTo>
                        <a:pt x="10" y="13"/>
                        <a:pt x="0" y="12"/>
                        <a:pt x="0" y="12"/>
                      </a:cubicBezTo>
                      <a:close/>
                    </a:path>
                  </a:pathLst>
                </a:custGeom>
                <a:solidFill>
                  <a:srgbClr val="800000"/>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Black"/>
                  </a:endParaRPr>
                </a:p>
              </p:txBody>
            </p:sp>
            <p:sp>
              <p:nvSpPr>
                <p:cNvPr id="177" name="Freeform 97"/>
                <p:cNvSpPr/>
                <p:nvPr/>
              </p:nvSpPr>
              <p:spPr>
                <a:xfrm>
                  <a:off x="3581280" y="1892520"/>
                  <a:ext cx="53640" cy="34920"/>
                </a:xfrm>
                <a:custGeom>
                  <a:avLst/>
                  <a:gdLst/>
                  <a:ahLst/>
                  <a:rect l="l" t="t" r="r" b="b"/>
                  <a:pathLst>
                    <a:path w="54" h="30">
                      <a:moveTo>
                        <a:pt x="0" y="24"/>
                      </a:moveTo>
                      <a:cubicBezTo>
                        <a:pt x="16" y="0"/>
                        <a:pt x="54" y="18"/>
                        <a:pt x="18" y="30"/>
                      </a:cubicBezTo>
                      <a:cubicBezTo>
                        <a:pt x="13" y="28"/>
                        <a:pt x="0" y="18"/>
                        <a:pt x="0" y="24"/>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78" name="Freeform 98"/>
                <p:cNvSpPr/>
                <p:nvPr/>
              </p:nvSpPr>
              <p:spPr>
                <a:xfrm>
                  <a:off x="3564360" y="1934640"/>
                  <a:ext cx="37440" cy="29880"/>
                </a:xfrm>
                <a:custGeom>
                  <a:avLst/>
                  <a:gdLst/>
                  <a:ahLst/>
                  <a:rect l="l" t="t" r="r" b="b"/>
                  <a:pathLst>
                    <a:path w="40" h="24">
                      <a:moveTo>
                        <a:pt x="6" y="10"/>
                      </a:moveTo>
                      <a:cubicBezTo>
                        <a:pt x="17" y="3"/>
                        <a:pt x="21" y="0"/>
                        <a:pt x="33" y="4"/>
                      </a:cubicBezTo>
                      <a:cubicBezTo>
                        <a:pt x="40" y="24"/>
                        <a:pt x="33" y="22"/>
                        <a:pt x="12" y="19"/>
                      </a:cubicBezTo>
                      <a:cubicBezTo>
                        <a:pt x="2" y="12"/>
                        <a:pt x="0" y="16"/>
                        <a:pt x="6" y="10"/>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79" name="Freeform 99"/>
                <p:cNvSpPr/>
                <p:nvPr/>
              </p:nvSpPr>
              <p:spPr>
                <a:xfrm>
                  <a:off x="3577680" y="1975680"/>
                  <a:ext cx="28080" cy="25200"/>
                </a:xfrm>
                <a:custGeom>
                  <a:avLst/>
                  <a:gdLst/>
                  <a:ahLst/>
                  <a:rect l="l" t="t" r="r" b="b"/>
                  <a:pathLst>
                    <a:path w="30" h="20">
                      <a:moveTo>
                        <a:pt x="3" y="5"/>
                      </a:moveTo>
                      <a:cubicBezTo>
                        <a:pt x="16" y="1"/>
                        <a:pt x="25" y="0"/>
                        <a:pt x="30" y="14"/>
                      </a:cubicBezTo>
                      <a:cubicBezTo>
                        <a:pt x="23" y="16"/>
                        <a:pt x="19" y="20"/>
                        <a:pt x="12" y="14"/>
                      </a:cubicBezTo>
                      <a:cubicBezTo>
                        <a:pt x="0" y="4"/>
                        <a:pt x="11" y="5"/>
                        <a:pt x="3" y="5"/>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80" name="Freeform 100"/>
                <p:cNvSpPr/>
                <p:nvPr/>
              </p:nvSpPr>
              <p:spPr>
                <a:xfrm>
                  <a:off x="3789000" y="2067120"/>
                  <a:ext cx="57240" cy="50400"/>
                </a:xfrm>
                <a:custGeom>
                  <a:avLst/>
                  <a:gdLst/>
                  <a:ahLst/>
                  <a:rect l="l" t="t" r="r" b="b"/>
                  <a:pathLst>
                    <a:path w="62" h="41">
                      <a:moveTo>
                        <a:pt x="49" y="18"/>
                      </a:moveTo>
                      <a:cubicBezTo>
                        <a:pt x="41" y="41"/>
                        <a:pt x="20" y="31"/>
                        <a:pt x="4" y="21"/>
                      </a:cubicBezTo>
                      <a:cubicBezTo>
                        <a:pt x="0" y="8"/>
                        <a:pt x="3" y="4"/>
                        <a:pt x="16" y="0"/>
                      </a:cubicBezTo>
                      <a:cubicBezTo>
                        <a:pt x="27" y="4"/>
                        <a:pt x="34" y="7"/>
                        <a:pt x="46" y="3"/>
                      </a:cubicBezTo>
                      <a:cubicBezTo>
                        <a:pt x="49" y="5"/>
                        <a:pt x="62" y="12"/>
                        <a:pt x="61" y="18"/>
                      </a:cubicBezTo>
                      <a:cubicBezTo>
                        <a:pt x="58" y="29"/>
                        <a:pt x="51" y="20"/>
                        <a:pt x="49" y="18"/>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81" name="Freeform 101"/>
                <p:cNvSpPr/>
                <p:nvPr/>
              </p:nvSpPr>
              <p:spPr>
                <a:xfrm>
                  <a:off x="3851280" y="2076480"/>
                  <a:ext cx="42480" cy="19080"/>
                </a:xfrm>
                <a:custGeom>
                  <a:avLst/>
                  <a:gdLst/>
                  <a:ahLst/>
                  <a:rect l="l" t="t" r="r" b="b"/>
                  <a:pathLst>
                    <a:path w="45" h="18">
                      <a:moveTo>
                        <a:pt x="25" y="15"/>
                      </a:moveTo>
                      <a:cubicBezTo>
                        <a:pt x="13" y="11"/>
                        <a:pt x="0" y="10"/>
                        <a:pt x="16" y="0"/>
                      </a:cubicBezTo>
                      <a:cubicBezTo>
                        <a:pt x="31" y="3"/>
                        <a:pt x="45" y="2"/>
                        <a:pt x="34" y="18"/>
                      </a:cubicBezTo>
                      <a:cubicBezTo>
                        <a:pt x="31" y="17"/>
                        <a:pt x="25" y="15"/>
                        <a:pt x="25" y="15"/>
                      </a:cubicBezTo>
                      <a:close/>
                    </a:path>
                  </a:pathLst>
                </a:custGeom>
                <a:solidFill>
                  <a:srgbClr val="80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Black"/>
                  </a:endParaRPr>
                </a:p>
              </p:txBody>
            </p:sp>
            <p:sp>
              <p:nvSpPr>
                <p:cNvPr id="182" name="Freeform 102"/>
                <p:cNvSpPr/>
                <p:nvPr/>
              </p:nvSpPr>
              <p:spPr>
                <a:xfrm>
                  <a:off x="3809880" y="2115000"/>
                  <a:ext cx="40320" cy="25200"/>
                </a:xfrm>
                <a:custGeom>
                  <a:avLst/>
                  <a:gdLst/>
                  <a:ahLst/>
                  <a:rect l="l" t="t" r="r" b="b"/>
                  <a:pathLst>
                    <a:path w="45" h="23">
                      <a:moveTo>
                        <a:pt x="8" y="8"/>
                      </a:moveTo>
                      <a:cubicBezTo>
                        <a:pt x="18" y="5"/>
                        <a:pt x="27" y="0"/>
                        <a:pt x="38" y="8"/>
                      </a:cubicBezTo>
                      <a:cubicBezTo>
                        <a:pt x="45" y="13"/>
                        <a:pt x="17" y="23"/>
                        <a:pt x="17" y="23"/>
                      </a:cubicBezTo>
                      <a:cubicBezTo>
                        <a:pt x="10" y="21"/>
                        <a:pt x="0" y="16"/>
                        <a:pt x="8" y="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83" name="Freeform 103"/>
                <p:cNvSpPr/>
                <p:nvPr/>
              </p:nvSpPr>
              <p:spPr>
                <a:xfrm>
                  <a:off x="4137480" y="2081520"/>
                  <a:ext cx="50760" cy="29880"/>
                </a:xfrm>
                <a:custGeom>
                  <a:avLst/>
                  <a:gdLst/>
                  <a:ahLst/>
                  <a:rect l="l" t="t" r="r" b="b"/>
                  <a:pathLst>
                    <a:path w="50" h="26">
                      <a:moveTo>
                        <a:pt x="22" y="2"/>
                      </a:moveTo>
                      <a:cubicBezTo>
                        <a:pt x="29" y="0"/>
                        <a:pt x="50" y="1"/>
                        <a:pt x="37" y="14"/>
                      </a:cubicBezTo>
                      <a:cubicBezTo>
                        <a:pt x="32" y="19"/>
                        <a:pt x="17" y="24"/>
                        <a:pt x="10" y="26"/>
                      </a:cubicBezTo>
                      <a:cubicBezTo>
                        <a:pt x="4" y="8"/>
                        <a:pt x="0" y="2"/>
                        <a:pt x="22" y="2"/>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84" name="Freeform 104"/>
                <p:cNvSpPr/>
                <p:nvPr/>
              </p:nvSpPr>
              <p:spPr>
                <a:xfrm>
                  <a:off x="4376160" y="2207880"/>
                  <a:ext cx="25200" cy="20160"/>
                </a:xfrm>
                <a:custGeom>
                  <a:avLst/>
                  <a:gdLst/>
                  <a:ahLst/>
                  <a:rect l="l" t="t" r="r" b="b"/>
                  <a:pathLst>
                    <a:path w="24" h="17">
                      <a:moveTo>
                        <a:pt x="0" y="13"/>
                      </a:moveTo>
                      <a:cubicBezTo>
                        <a:pt x="8" y="2"/>
                        <a:pt x="11" y="0"/>
                        <a:pt x="24" y="4"/>
                      </a:cubicBezTo>
                      <a:cubicBezTo>
                        <a:pt x="16" y="15"/>
                        <a:pt x="13" y="17"/>
                        <a:pt x="0" y="13"/>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85" name="Freeform 105"/>
                <p:cNvSpPr/>
                <p:nvPr/>
              </p:nvSpPr>
              <p:spPr>
                <a:xfrm>
                  <a:off x="2165400" y="1663920"/>
                  <a:ext cx="2175840" cy="2764080"/>
                </a:xfrm>
                <a:custGeom>
                  <a:avLst/>
                  <a:gdLst/>
                  <a:ahLst/>
                  <a:rect l="l" t="t" r="r" b="b"/>
                  <a:pathLst>
                    <a:path w="2308" h="2297">
                      <a:moveTo>
                        <a:pt x="847" y="63"/>
                      </a:moveTo>
                      <a:cubicBezTo>
                        <a:pt x="856" y="89"/>
                        <a:pt x="868" y="59"/>
                        <a:pt x="883" y="54"/>
                      </a:cubicBezTo>
                      <a:cubicBezTo>
                        <a:pt x="892" y="51"/>
                        <a:pt x="901" y="48"/>
                        <a:pt x="910" y="45"/>
                      </a:cubicBezTo>
                      <a:cubicBezTo>
                        <a:pt x="913" y="44"/>
                        <a:pt x="919" y="42"/>
                        <a:pt x="919" y="42"/>
                      </a:cubicBezTo>
                      <a:cubicBezTo>
                        <a:pt x="922" y="43"/>
                        <a:pt x="951" y="46"/>
                        <a:pt x="934" y="60"/>
                      </a:cubicBezTo>
                      <a:cubicBezTo>
                        <a:pt x="930" y="63"/>
                        <a:pt x="924" y="62"/>
                        <a:pt x="919" y="63"/>
                      </a:cubicBezTo>
                      <a:cubicBezTo>
                        <a:pt x="899" y="56"/>
                        <a:pt x="879" y="70"/>
                        <a:pt x="865" y="84"/>
                      </a:cubicBezTo>
                      <a:cubicBezTo>
                        <a:pt x="863" y="102"/>
                        <a:pt x="865" y="118"/>
                        <a:pt x="844" y="111"/>
                      </a:cubicBezTo>
                      <a:cubicBezTo>
                        <a:pt x="818" y="114"/>
                        <a:pt x="807" y="111"/>
                        <a:pt x="799" y="135"/>
                      </a:cubicBezTo>
                      <a:cubicBezTo>
                        <a:pt x="800" y="139"/>
                        <a:pt x="799" y="144"/>
                        <a:pt x="802" y="147"/>
                      </a:cubicBezTo>
                      <a:cubicBezTo>
                        <a:pt x="807" y="151"/>
                        <a:pt x="820" y="153"/>
                        <a:pt x="820" y="153"/>
                      </a:cubicBezTo>
                      <a:cubicBezTo>
                        <a:pt x="840" y="149"/>
                        <a:pt x="846" y="140"/>
                        <a:pt x="862" y="129"/>
                      </a:cubicBezTo>
                      <a:cubicBezTo>
                        <a:pt x="866" y="132"/>
                        <a:pt x="877" y="136"/>
                        <a:pt x="874" y="144"/>
                      </a:cubicBezTo>
                      <a:cubicBezTo>
                        <a:pt x="872" y="151"/>
                        <a:pt x="867" y="157"/>
                        <a:pt x="862" y="162"/>
                      </a:cubicBezTo>
                      <a:cubicBezTo>
                        <a:pt x="856" y="168"/>
                        <a:pt x="844" y="180"/>
                        <a:pt x="844" y="180"/>
                      </a:cubicBezTo>
                      <a:cubicBezTo>
                        <a:pt x="848" y="202"/>
                        <a:pt x="849" y="205"/>
                        <a:pt x="871" y="201"/>
                      </a:cubicBezTo>
                      <a:cubicBezTo>
                        <a:pt x="882" y="194"/>
                        <a:pt x="888" y="189"/>
                        <a:pt x="892" y="177"/>
                      </a:cubicBezTo>
                      <a:cubicBezTo>
                        <a:pt x="890" y="170"/>
                        <a:pt x="884" y="164"/>
                        <a:pt x="883" y="156"/>
                      </a:cubicBezTo>
                      <a:cubicBezTo>
                        <a:pt x="878" y="102"/>
                        <a:pt x="934" y="96"/>
                        <a:pt x="973" y="90"/>
                      </a:cubicBezTo>
                      <a:cubicBezTo>
                        <a:pt x="992" y="96"/>
                        <a:pt x="1006" y="97"/>
                        <a:pt x="1027" y="99"/>
                      </a:cubicBezTo>
                      <a:cubicBezTo>
                        <a:pt x="1029" y="100"/>
                        <a:pt x="1051" y="110"/>
                        <a:pt x="1042" y="93"/>
                      </a:cubicBezTo>
                      <a:cubicBezTo>
                        <a:pt x="1034" y="79"/>
                        <a:pt x="1013" y="80"/>
                        <a:pt x="1000" y="78"/>
                      </a:cubicBezTo>
                      <a:cubicBezTo>
                        <a:pt x="981" y="72"/>
                        <a:pt x="985" y="69"/>
                        <a:pt x="961" y="72"/>
                      </a:cubicBezTo>
                      <a:cubicBezTo>
                        <a:pt x="948" y="76"/>
                        <a:pt x="938" y="86"/>
                        <a:pt x="925" y="90"/>
                      </a:cubicBezTo>
                      <a:cubicBezTo>
                        <a:pt x="919" y="73"/>
                        <a:pt x="932" y="70"/>
                        <a:pt x="946" y="60"/>
                      </a:cubicBezTo>
                      <a:cubicBezTo>
                        <a:pt x="952" y="56"/>
                        <a:pt x="964" y="48"/>
                        <a:pt x="964" y="48"/>
                      </a:cubicBezTo>
                      <a:cubicBezTo>
                        <a:pt x="967" y="43"/>
                        <a:pt x="978" y="25"/>
                        <a:pt x="985" y="21"/>
                      </a:cubicBezTo>
                      <a:cubicBezTo>
                        <a:pt x="993" y="16"/>
                        <a:pt x="1004" y="17"/>
                        <a:pt x="1012" y="12"/>
                      </a:cubicBezTo>
                      <a:cubicBezTo>
                        <a:pt x="1020" y="7"/>
                        <a:pt x="1039" y="0"/>
                        <a:pt x="1039" y="0"/>
                      </a:cubicBezTo>
                      <a:cubicBezTo>
                        <a:pt x="1060" y="2"/>
                        <a:pt x="1068" y="1"/>
                        <a:pt x="1084" y="12"/>
                      </a:cubicBezTo>
                      <a:cubicBezTo>
                        <a:pt x="1091" y="33"/>
                        <a:pt x="1084" y="28"/>
                        <a:pt x="1099" y="33"/>
                      </a:cubicBezTo>
                      <a:cubicBezTo>
                        <a:pt x="1110" y="29"/>
                        <a:pt x="1115" y="34"/>
                        <a:pt x="1126" y="30"/>
                      </a:cubicBezTo>
                      <a:cubicBezTo>
                        <a:pt x="1140" y="34"/>
                        <a:pt x="1150" y="32"/>
                        <a:pt x="1159" y="45"/>
                      </a:cubicBezTo>
                      <a:cubicBezTo>
                        <a:pt x="1167" y="78"/>
                        <a:pt x="1154" y="97"/>
                        <a:pt x="1123" y="105"/>
                      </a:cubicBezTo>
                      <a:cubicBezTo>
                        <a:pt x="1110" y="114"/>
                        <a:pt x="1106" y="126"/>
                        <a:pt x="1093" y="135"/>
                      </a:cubicBezTo>
                      <a:cubicBezTo>
                        <a:pt x="1086" y="146"/>
                        <a:pt x="1039" y="169"/>
                        <a:pt x="1024" y="174"/>
                      </a:cubicBezTo>
                      <a:cubicBezTo>
                        <a:pt x="1015" y="188"/>
                        <a:pt x="1011" y="186"/>
                        <a:pt x="994" y="183"/>
                      </a:cubicBezTo>
                      <a:cubicBezTo>
                        <a:pt x="991" y="180"/>
                        <a:pt x="986" y="178"/>
                        <a:pt x="985" y="174"/>
                      </a:cubicBezTo>
                      <a:cubicBezTo>
                        <a:pt x="983" y="163"/>
                        <a:pt x="1004" y="150"/>
                        <a:pt x="1012" y="147"/>
                      </a:cubicBezTo>
                      <a:cubicBezTo>
                        <a:pt x="1018" y="141"/>
                        <a:pt x="1024" y="135"/>
                        <a:pt x="1030" y="129"/>
                      </a:cubicBezTo>
                      <a:cubicBezTo>
                        <a:pt x="1034" y="125"/>
                        <a:pt x="1018" y="133"/>
                        <a:pt x="1012" y="135"/>
                      </a:cubicBezTo>
                      <a:cubicBezTo>
                        <a:pt x="1006" y="137"/>
                        <a:pt x="1000" y="141"/>
                        <a:pt x="994" y="144"/>
                      </a:cubicBezTo>
                      <a:cubicBezTo>
                        <a:pt x="988" y="148"/>
                        <a:pt x="976" y="156"/>
                        <a:pt x="976" y="156"/>
                      </a:cubicBezTo>
                      <a:cubicBezTo>
                        <a:pt x="969" y="167"/>
                        <a:pt x="963" y="167"/>
                        <a:pt x="952" y="174"/>
                      </a:cubicBezTo>
                      <a:cubicBezTo>
                        <a:pt x="938" y="195"/>
                        <a:pt x="936" y="186"/>
                        <a:pt x="946" y="201"/>
                      </a:cubicBezTo>
                      <a:cubicBezTo>
                        <a:pt x="952" y="199"/>
                        <a:pt x="958" y="197"/>
                        <a:pt x="964" y="195"/>
                      </a:cubicBezTo>
                      <a:cubicBezTo>
                        <a:pt x="967" y="194"/>
                        <a:pt x="973" y="192"/>
                        <a:pt x="973" y="192"/>
                      </a:cubicBezTo>
                      <a:cubicBezTo>
                        <a:pt x="994" y="199"/>
                        <a:pt x="985" y="200"/>
                        <a:pt x="1000" y="195"/>
                      </a:cubicBezTo>
                      <a:cubicBezTo>
                        <a:pt x="1018" y="222"/>
                        <a:pt x="982" y="200"/>
                        <a:pt x="1006" y="216"/>
                      </a:cubicBezTo>
                      <a:cubicBezTo>
                        <a:pt x="1019" y="212"/>
                        <a:pt x="1031" y="221"/>
                        <a:pt x="1042" y="228"/>
                      </a:cubicBezTo>
                      <a:cubicBezTo>
                        <a:pt x="1050" y="216"/>
                        <a:pt x="1053" y="210"/>
                        <a:pt x="1066" y="219"/>
                      </a:cubicBezTo>
                      <a:cubicBezTo>
                        <a:pt x="1076" y="234"/>
                        <a:pt x="1073" y="223"/>
                        <a:pt x="1063" y="234"/>
                      </a:cubicBezTo>
                      <a:cubicBezTo>
                        <a:pt x="1058" y="239"/>
                        <a:pt x="1051" y="252"/>
                        <a:pt x="1051" y="252"/>
                      </a:cubicBezTo>
                      <a:cubicBezTo>
                        <a:pt x="1063" y="260"/>
                        <a:pt x="1076" y="262"/>
                        <a:pt x="1090" y="267"/>
                      </a:cubicBezTo>
                      <a:cubicBezTo>
                        <a:pt x="1096" y="265"/>
                        <a:pt x="1102" y="263"/>
                        <a:pt x="1108" y="261"/>
                      </a:cubicBezTo>
                      <a:cubicBezTo>
                        <a:pt x="1111" y="260"/>
                        <a:pt x="1117" y="258"/>
                        <a:pt x="1117" y="258"/>
                      </a:cubicBezTo>
                      <a:cubicBezTo>
                        <a:pt x="1119" y="264"/>
                        <a:pt x="1121" y="270"/>
                        <a:pt x="1123" y="276"/>
                      </a:cubicBezTo>
                      <a:cubicBezTo>
                        <a:pt x="1124" y="279"/>
                        <a:pt x="1126" y="285"/>
                        <a:pt x="1126" y="285"/>
                      </a:cubicBezTo>
                      <a:cubicBezTo>
                        <a:pt x="1113" y="289"/>
                        <a:pt x="1114" y="296"/>
                        <a:pt x="1111" y="309"/>
                      </a:cubicBezTo>
                      <a:cubicBezTo>
                        <a:pt x="1112" y="314"/>
                        <a:pt x="1110" y="320"/>
                        <a:pt x="1114" y="324"/>
                      </a:cubicBezTo>
                      <a:cubicBezTo>
                        <a:pt x="1124" y="334"/>
                        <a:pt x="1133" y="301"/>
                        <a:pt x="1138" y="294"/>
                      </a:cubicBezTo>
                      <a:cubicBezTo>
                        <a:pt x="1144" y="286"/>
                        <a:pt x="1156" y="286"/>
                        <a:pt x="1165" y="285"/>
                      </a:cubicBezTo>
                      <a:cubicBezTo>
                        <a:pt x="1180" y="275"/>
                        <a:pt x="1199" y="271"/>
                        <a:pt x="1216" y="267"/>
                      </a:cubicBezTo>
                      <a:cubicBezTo>
                        <a:pt x="1228" y="259"/>
                        <a:pt x="1235" y="258"/>
                        <a:pt x="1240" y="273"/>
                      </a:cubicBezTo>
                      <a:cubicBezTo>
                        <a:pt x="1230" y="283"/>
                        <a:pt x="1224" y="287"/>
                        <a:pt x="1210" y="291"/>
                      </a:cubicBezTo>
                      <a:cubicBezTo>
                        <a:pt x="1202" y="296"/>
                        <a:pt x="1183" y="303"/>
                        <a:pt x="1183" y="303"/>
                      </a:cubicBezTo>
                      <a:cubicBezTo>
                        <a:pt x="1167" y="328"/>
                        <a:pt x="1163" y="332"/>
                        <a:pt x="1135" y="339"/>
                      </a:cubicBezTo>
                      <a:cubicBezTo>
                        <a:pt x="1125" y="349"/>
                        <a:pt x="1119" y="350"/>
                        <a:pt x="1105" y="354"/>
                      </a:cubicBezTo>
                      <a:cubicBezTo>
                        <a:pt x="1085" y="347"/>
                        <a:pt x="1075" y="345"/>
                        <a:pt x="1054" y="342"/>
                      </a:cubicBezTo>
                      <a:cubicBezTo>
                        <a:pt x="1054" y="342"/>
                        <a:pt x="1062" y="355"/>
                        <a:pt x="1069" y="357"/>
                      </a:cubicBezTo>
                      <a:cubicBezTo>
                        <a:pt x="1075" y="359"/>
                        <a:pt x="1081" y="359"/>
                        <a:pt x="1087" y="360"/>
                      </a:cubicBezTo>
                      <a:cubicBezTo>
                        <a:pt x="1093" y="362"/>
                        <a:pt x="1105" y="366"/>
                        <a:pt x="1105" y="366"/>
                      </a:cubicBezTo>
                      <a:cubicBezTo>
                        <a:pt x="1116" y="362"/>
                        <a:pt x="1123" y="359"/>
                        <a:pt x="1135" y="363"/>
                      </a:cubicBezTo>
                      <a:cubicBezTo>
                        <a:pt x="1138" y="360"/>
                        <a:pt x="1140" y="356"/>
                        <a:pt x="1144" y="354"/>
                      </a:cubicBezTo>
                      <a:cubicBezTo>
                        <a:pt x="1147" y="352"/>
                        <a:pt x="1152" y="348"/>
                        <a:pt x="1153" y="351"/>
                      </a:cubicBezTo>
                      <a:cubicBezTo>
                        <a:pt x="1154" y="357"/>
                        <a:pt x="1147" y="369"/>
                        <a:pt x="1147" y="369"/>
                      </a:cubicBezTo>
                      <a:cubicBezTo>
                        <a:pt x="1148" y="373"/>
                        <a:pt x="1146" y="380"/>
                        <a:pt x="1150" y="381"/>
                      </a:cubicBezTo>
                      <a:cubicBezTo>
                        <a:pt x="1162" y="384"/>
                        <a:pt x="1162" y="348"/>
                        <a:pt x="1165" y="345"/>
                      </a:cubicBezTo>
                      <a:cubicBezTo>
                        <a:pt x="1166" y="343"/>
                        <a:pt x="1195" y="321"/>
                        <a:pt x="1201" y="318"/>
                      </a:cubicBezTo>
                      <a:cubicBezTo>
                        <a:pt x="1207" y="315"/>
                        <a:pt x="1219" y="312"/>
                        <a:pt x="1219" y="312"/>
                      </a:cubicBezTo>
                      <a:cubicBezTo>
                        <a:pt x="1220" y="318"/>
                        <a:pt x="1219" y="325"/>
                        <a:pt x="1222" y="330"/>
                      </a:cubicBezTo>
                      <a:cubicBezTo>
                        <a:pt x="1224" y="333"/>
                        <a:pt x="1223" y="324"/>
                        <a:pt x="1225" y="321"/>
                      </a:cubicBezTo>
                      <a:cubicBezTo>
                        <a:pt x="1227" y="317"/>
                        <a:pt x="1230" y="314"/>
                        <a:pt x="1234" y="312"/>
                      </a:cubicBezTo>
                      <a:cubicBezTo>
                        <a:pt x="1240" y="309"/>
                        <a:pt x="1252" y="306"/>
                        <a:pt x="1252" y="306"/>
                      </a:cubicBezTo>
                      <a:cubicBezTo>
                        <a:pt x="1268" y="310"/>
                        <a:pt x="1273" y="324"/>
                        <a:pt x="1258" y="336"/>
                      </a:cubicBezTo>
                      <a:cubicBezTo>
                        <a:pt x="1253" y="340"/>
                        <a:pt x="1246" y="341"/>
                        <a:pt x="1240" y="345"/>
                      </a:cubicBezTo>
                      <a:cubicBezTo>
                        <a:pt x="1225" y="368"/>
                        <a:pt x="1262" y="342"/>
                        <a:pt x="1270" y="339"/>
                      </a:cubicBezTo>
                      <a:cubicBezTo>
                        <a:pt x="1277" y="317"/>
                        <a:pt x="1282" y="302"/>
                        <a:pt x="1306" y="294"/>
                      </a:cubicBezTo>
                      <a:cubicBezTo>
                        <a:pt x="1320" y="298"/>
                        <a:pt x="1320" y="305"/>
                        <a:pt x="1333" y="309"/>
                      </a:cubicBezTo>
                      <a:cubicBezTo>
                        <a:pt x="1365" y="301"/>
                        <a:pt x="1327" y="312"/>
                        <a:pt x="1354" y="300"/>
                      </a:cubicBezTo>
                      <a:cubicBezTo>
                        <a:pt x="1360" y="297"/>
                        <a:pt x="1372" y="294"/>
                        <a:pt x="1372" y="294"/>
                      </a:cubicBezTo>
                      <a:cubicBezTo>
                        <a:pt x="1387" y="299"/>
                        <a:pt x="1378" y="298"/>
                        <a:pt x="1399" y="291"/>
                      </a:cubicBezTo>
                      <a:cubicBezTo>
                        <a:pt x="1405" y="289"/>
                        <a:pt x="1417" y="285"/>
                        <a:pt x="1417" y="285"/>
                      </a:cubicBezTo>
                      <a:cubicBezTo>
                        <a:pt x="1424" y="287"/>
                        <a:pt x="1431" y="288"/>
                        <a:pt x="1438" y="291"/>
                      </a:cubicBezTo>
                      <a:cubicBezTo>
                        <a:pt x="1444" y="294"/>
                        <a:pt x="1456" y="303"/>
                        <a:pt x="1456" y="303"/>
                      </a:cubicBezTo>
                      <a:cubicBezTo>
                        <a:pt x="1475" y="284"/>
                        <a:pt x="1464" y="284"/>
                        <a:pt x="1498" y="288"/>
                      </a:cubicBezTo>
                      <a:cubicBezTo>
                        <a:pt x="1513" y="293"/>
                        <a:pt x="1524" y="300"/>
                        <a:pt x="1540" y="303"/>
                      </a:cubicBezTo>
                      <a:cubicBezTo>
                        <a:pt x="1553" y="322"/>
                        <a:pt x="1536" y="347"/>
                        <a:pt x="1516" y="354"/>
                      </a:cubicBezTo>
                      <a:cubicBezTo>
                        <a:pt x="1500" y="349"/>
                        <a:pt x="1511" y="359"/>
                        <a:pt x="1495" y="363"/>
                      </a:cubicBezTo>
                      <a:cubicBezTo>
                        <a:pt x="1474" y="368"/>
                        <a:pt x="1453" y="376"/>
                        <a:pt x="1432" y="381"/>
                      </a:cubicBezTo>
                      <a:cubicBezTo>
                        <a:pt x="1443" y="385"/>
                        <a:pt x="1485" y="376"/>
                        <a:pt x="1495" y="375"/>
                      </a:cubicBezTo>
                      <a:cubicBezTo>
                        <a:pt x="1511" y="370"/>
                        <a:pt x="1524" y="376"/>
                        <a:pt x="1540" y="381"/>
                      </a:cubicBezTo>
                      <a:cubicBezTo>
                        <a:pt x="1549" y="384"/>
                        <a:pt x="1567" y="390"/>
                        <a:pt x="1567" y="390"/>
                      </a:cubicBezTo>
                      <a:cubicBezTo>
                        <a:pt x="1577" y="406"/>
                        <a:pt x="1590" y="398"/>
                        <a:pt x="1606" y="393"/>
                      </a:cubicBezTo>
                      <a:cubicBezTo>
                        <a:pt x="1608" y="386"/>
                        <a:pt x="1608" y="380"/>
                        <a:pt x="1618" y="381"/>
                      </a:cubicBezTo>
                      <a:cubicBezTo>
                        <a:pt x="1624" y="382"/>
                        <a:pt x="1636" y="387"/>
                        <a:pt x="1636" y="387"/>
                      </a:cubicBezTo>
                      <a:cubicBezTo>
                        <a:pt x="1650" y="408"/>
                        <a:pt x="1650" y="398"/>
                        <a:pt x="1645" y="414"/>
                      </a:cubicBezTo>
                      <a:cubicBezTo>
                        <a:pt x="1650" y="428"/>
                        <a:pt x="1652" y="438"/>
                        <a:pt x="1660" y="450"/>
                      </a:cubicBezTo>
                      <a:cubicBezTo>
                        <a:pt x="1671" y="443"/>
                        <a:pt x="1669" y="436"/>
                        <a:pt x="1681" y="432"/>
                      </a:cubicBezTo>
                      <a:cubicBezTo>
                        <a:pt x="1694" y="435"/>
                        <a:pt x="1702" y="439"/>
                        <a:pt x="1714" y="435"/>
                      </a:cubicBezTo>
                      <a:cubicBezTo>
                        <a:pt x="1724" y="438"/>
                        <a:pt x="1731" y="444"/>
                        <a:pt x="1741" y="447"/>
                      </a:cubicBezTo>
                      <a:cubicBezTo>
                        <a:pt x="1760" y="441"/>
                        <a:pt x="1761" y="437"/>
                        <a:pt x="1750" y="420"/>
                      </a:cubicBezTo>
                      <a:cubicBezTo>
                        <a:pt x="1751" y="417"/>
                        <a:pt x="1750" y="413"/>
                        <a:pt x="1753" y="411"/>
                      </a:cubicBezTo>
                      <a:cubicBezTo>
                        <a:pt x="1758" y="407"/>
                        <a:pt x="1771" y="405"/>
                        <a:pt x="1771" y="405"/>
                      </a:cubicBezTo>
                      <a:cubicBezTo>
                        <a:pt x="1786" y="407"/>
                        <a:pt x="1808" y="404"/>
                        <a:pt x="1813" y="420"/>
                      </a:cubicBezTo>
                      <a:cubicBezTo>
                        <a:pt x="1810" y="423"/>
                        <a:pt x="1804" y="425"/>
                        <a:pt x="1804" y="429"/>
                      </a:cubicBezTo>
                      <a:cubicBezTo>
                        <a:pt x="1804" y="433"/>
                        <a:pt x="1810" y="436"/>
                        <a:pt x="1813" y="435"/>
                      </a:cubicBezTo>
                      <a:cubicBezTo>
                        <a:pt x="1820" y="433"/>
                        <a:pt x="1816" y="420"/>
                        <a:pt x="1822" y="417"/>
                      </a:cubicBezTo>
                      <a:cubicBezTo>
                        <a:pt x="1826" y="414"/>
                        <a:pt x="1832" y="415"/>
                        <a:pt x="1837" y="414"/>
                      </a:cubicBezTo>
                      <a:cubicBezTo>
                        <a:pt x="1858" y="421"/>
                        <a:pt x="1850" y="416"/>
                        <a:pt x="1864" y="426"/>
                      </a:cubicBezTo>
                      <a:cubicBezTo>
                        <a:pt x="1874" y="440"/>
                        <a:pt x="1867" y="436"/>
                        <a:pt x="1888" y="429"/>
                      </a:cubicBezTo>
                      <a:cubicBezTo>
                        <a:pt x="1894" y="427"/>
                        <a:pt x="1906" y="423"/>
                        <a:pt x="1906" y="423"/>
                      </a:cubicBezTo>
                      <a:cubicBezTo>
                        <a:pt x="1927" y="427"/>
                        <a:pt x="1916" y="424"/>
                        <a:pt x="1939" y="432"/>
                      </a:cubicBezTo>
                      <a:cubicBezTo>
                        <a:pt x="1942" y="433"/>
                        <a:pt x="1948" y="435"/>
                        <a:pt x="1948" y="435"/>
                      </a:cubicBezTo>
                      <a:cubicBezTo>
                        <a:pt x="1954" y="444"/>
                        <a:pt x="1972" y="456"/>
                        <a:pt x="1972" y="456"/>
                      </a:cubicBezTo>
                      <a:cubicBezTo>
                        <a:pt x="1984" y="453"/>
                        <a:pt x="1991" y="449"/>
                        <a:pt x="2002" y="444"/>
                      </a:cubicBezTo>
                      <a:cubicBezTo>
                        <a:pt x="2008" y="441"/>
                        <a:pt x="2020" y="438"/>
                        <a:pt x="2020" y="438"/>
                      </a:cubicBezTo>
                      <a:cubicBezTo>
                        <a:pt x="2036" y="441"/>
                        <a:pt x="2049" y="445"/>
                        <a:pt x="2065" y="441"/>
                      </a:cubicBezTo>
                      <a:cubicBezTo>
                        <a:pt x="2059" y="423"/>
                        <a:pt x="2065" y="423"/>
                        <a:pt x="2083" y="417"/>
                      </a:cubicBezTo>
                      <a:cubicBezTo>
                        <a:pt x="2090" y="415"/>
                        <a:pt x="2095" y="409"/>
                        <a:pt x="2101" y="405"/>
                      </a:cubicBezTo>
                      <a:cubicBezTo>
                        <a:pt x="2104" y="403"/>
                        <a:pt x="2110" y="399"/>
                        <a:pt x="2110" y="399"/>
                      </a:cubicBezTo>
                      <a:cubicBezTo>
                        <a:pt x="2119" y="400"/>
                        <a:pt x="2136" y="402"/>
                        <a:pt x="2146" y="405"/>
                      </a:cubicBezTo>
                      <a:cubicBezTo>
                        <a:pt x="2155" y="407"/>
                        <a:pt x="2173" y="414"/>
                        <a:pt x="2173" y="414"/>
                      </a:cubicBezTo>
                      <a:cubicBezTo>
                        <a:pt x="2189" y="403"/>
                        <a:pt x="2197" y="405"/>
                        <a:pt x="2215" y="411"/>
                      </a:cubicBezTo>
                      <a:cubicBezTo>
                        <a:pt x="2222" y="413"/>
                        <a:pt x="2233" y="423"/>
                        <a:pt x="2233" y="423"/>
                      </a:cubicBezTo>
                      <a:cubicBezTo>
                        <a:pt x="2244" y="419"/>
                        <a:pt x="2249" y="412"/>
                        <a:pt x="2260" y="408"/>
                      </a:cubicBezTo>
                      <a:cubicBezTo>
                        <a:pt x="2271" y="412"/>
                        <a:pt x="2280" y="413"/>
                        <a:pt x="2290" y="420"/>
                      </a:cubicBezTo>
                      <a:cubicBezTo>
                        <a:pt x="2287" y="434"/>
                        <a:pt x="2284" y="442"/>
                        <a:pt x="2299" y="447"/>
                      </a:cubicBezTo>
                      <a:cubicBezTo>
                        <a:pt x="2308" y="460"/>
                        <a:pt x="2304" y="463"/>
                        <a:pt x="2293" y="474"/>
                      </a:cubicBezTo>
                      <a:cubicBezTo>
                        <a:pt x="2284" y="471"/>
                        <a:pt x="2275" y="468"/>
                        <a:pt x="2266" y="465"/>
                      </a:cubicBezTo>
                      <a:cubicBezTo>
                        <a:pt x="2263" y="464"/>
                        <a:pt x="2257" y="462"/>
                        <a:pt x="2257" y="462"/>
                      </a:cubicBezTo>
                      <a:cubicBezTo>
                        <a:pt x="2242" y="465"/>
                        <a:pt x="2235" y="462"/>
                        <a:pt x="2221" y="465"/>
                      </a:cubicBezTo>
                      <a:cubicBezTo>
                        <a:pt x="2229" y="477"/>
                        <a:pt x="2234" y="480"/>
                        <a:pt x="2221" y="489"/>
                      </a:cubicBezTo>
                      <a:cubicBezTo>
                        <a:pt x="2214" y="509"/>
                        <a:pt x="2227" y="512"/>
                        <a:pt x="2245" y="516"/>
                      </a:cubicBezTo>
                      <a:cubicBezTo>
                        <a:pt x="2248" y="518"/>
                        <a:pt x="2252" y="519"/>
                        <a:pt x="2254" y="522"/>
                      </a:cubicBezTo>
                      <a:cubicBezTo>
                        <a:pt x="2257" y="527"/>
                        <a:pt x="2260" y="540"/>
                        <a:pt x="2260" y="540"/>
                      </a:cubicBezTo>
                      <a:cubicBezTo>
                        <a:pt x="2253" y="550"/>
                        <a:pt x="2248" y="554"/>
                        <a:pt x="2236" y="558"/>
                      </a:cubicBezTo>
                      <a:cubicBezTo>
                        <a:pt x="2230" y="567"/>
                        <a:pt x="2228" y="575"/>
                        <a:pt x="2221" y="582"/>
                      </a:cubicBezTo>
                      <a:lnTo>
                        <a:pt x="2212" y="623"/>
                      </a:lnTo>
                      <a:lnTo>
                        <a:pt x="2218" y="643"/>
                      </a:lnTo>
                      <a:lnTo>
                        <a:pt x="2198" y="631"/>
                      </a:lnTo>
                      <a:lnTo>
                        <a:pt x="2182" y="641"/>
                      </a:lnTo>
                      <a:lnTo>
                        <a:pt x="2176" y="655"/>
                      </a:lnTo>
                      <a:lnTo>
                        <a:pt x="2156" y="659"/>
                      </a:lnTo>
                      <a:lnTo>
                        <a:pt x="2146" y="673"/>
                      </a:lnTo>
                      <a:lnTo>
                        <a:pt x="2132" y="687"/>
                      </a:lnTo>
                      <a:lnTo>
                        <a:pt x="2132" y="709"/>
                      </a:lnTo>
                      <a:lnTo>
                        <a:pt x="2136" y="727"/>
                      </a:lnTo>
                      <a:lnTo>
                        <a:pt x="2150" y="729"/>
                      </a:lnTo>
                      <a:lnTo>
                        <a:pt x="2152" y="749"/>
                      </a:lnTo>
                      <a:lnTo>
                        <a:pt x="2176" y="763"/>
                      </a:lnTo>
                      <a:lnTo>
                        <a:pt x="2180" y="779"/>
                      </a:lnTo>
                      <a:lnTo>
                        <a:pt x="2158" y="769"/>
                      </a:lnTo>
                      <a:lnTo>
                        <a:pt x="2152" y="789"/>
                      </a:lnTo>
                      <a:lnTo>
                        <a:pt x="2166" y="807"/>
                      </a:lnTo>
                      <a:lnTo>
                        <a:pt x="2152" y="821"/>
                      </a:lnTo>
                      <a:lnTo>
                        <a:pt x="2146" y="839"/>
                      </a:lnTo>
                      <a:lnTo>
                        <a:pt x="2148" y="861"/>
                      </a:lnTo>
                      <a:lnTo>
                        <a:pt x="2132" y="879"/>
                      </a:lnTo>
                      <a:lnTo>
                        <a:pt x="2128" y="907"/>
                      </a:lnTo>
                      <a:lnTo>
                        <a:pt x="2118" y="925"/>
                      </a:lnTo>
                      <a:lnTo>
                        <a:pt x="2118" y="945"/>
                      </a:lnTo>
                      <a:lnTo>
                        <a:pt x="2100" y="963"/>
                      </a:lnTo>
                      <a:lnTo>
                        <a:pt x="2100" y="979"/>
                      </a:lnTo>
                      <a:lnTo>
                        <a:pt x="2088" y="983"/>
                      </a:lnTo>
                      <a:lnTo>
                        <a:pt x="2074" y="977"/>
                      </a:lnTo>
                      <a:lnTo>
                        <a:pt x="2086" y="961"/>
                      </a:lnTo>
                      <a:lnTo>
                        <a:pt x="2104" y="945"/>
                      </a:lnTo>
                      <a:lnTo>
                        <a:pt x="2110" y="925"/>
                      </a:lnTo>
                      <a:lnTo>
                        <a:pt x="2106" y="893"/>
                      </a:lnTo>
                      <a:lnTo>
                        <a:pt x="2090" y="865"/>
                      </a:lnTo>
                      <a:lnTo>
                        <a:pt x="2070" y="837"/>
                      </a:lnTo>
                      <a:lnTo>
                        <a:pt x="2056" y="797"/>
                      </a:lnTo>
                      <a:lnTo>
                        <a:pt x="2058" y="769"/>
                      </a:lnTo>
                      <a:lnTo>
                        <a:pt x="2062" y="745"/>
                      </a:lnTo>
                      <a:lnTo>
                        <a:pt x="2080" y="731"/>
                      </a:lnTo>
                      <a:lnTo>
                        <a:pt x="2098" y="701"/>
                      </a:lnTo>
                      <a:lnTo>
                        <a:pt x="2108" y="677"/>
                      </a:lnTo>
                      <a:lnTo>
                        <a:pt x="2106" y="663"/>
                      </a:lnTo>
                      <a:lnTo>
                        <a:pt x="2116" y="623"/>
                      </a:lnTo>
                      <a:lnTo>
                        <a:pt x="2106" y="603"/>
                      </a:lnTo>
                      <a:lnTo>
                        <a:pt x="2094" y="623"/>
                      </a:lnTo>
                      <a:lnTo>
                        <a:pt x="2100" y="641"/>
                      </a:lnTo>
                      <a:lnTo>
                        <a:pt x="2076" y="665"/>
                      </a:lnTo>
                      <a:lnTo>
                        <a:pt x="2060" y="659"/>
                      </a:lnTo>
                      <a:lnTo>
                        <a:pt x="2060" y="639"/>
                      </a:lnTo>
                      <a:lnTo>
                        <a:pt x="2022" y="657"/>
                      </a:lnTo>
                      <a:lnTo>
                        <a:pt x="2020" y="679"/>
                      </a:lnTo>
                      <a:lnTo>
                        <a:pt x="2004" y="703"/>
                      </a:lnTo>
                      <a:lnTo>
                        <a:pt x="2012" y="717"/>
                      </a:lnTo>
                      <a:lnTo>
                        <a:pt x="1968" y="731"/>
                      </a:lnTo>
                      <a:lnTo>
                        <a:pt x="1962" y="711"/>
                      </a:lnTo>
                      <a:lnTo>
                        <a:pt x="1934" y="719"/>
                      </a:lnTo>
                      <a:lnTo>
                        <a:pt x="1906" y="735"/>
                      </a:lnTo>
                      <a:lnTo>
                        <a:pt x="1854" y="737"/>
                      </a:lnTo>
                      <a:lnTo>
                        <a:pt x="1814" y="753"/>
                      </a:lnTo>
                      <a:lnTo>
                        <a:pt x="1810" y="767"/>
                      </a:lnTo>
                      <a:lnTo>
                        <a:pt x="1716" y="861"/>
                      </a:lnTo>
                      <a:lnTo>
                        <a:pt x="1738" y="877"/>
                      </a:lnTo>
                      <a:lnTo>
                        <a:pt x="1762" y="889"/>
                      </a:lnTo>
                      <a:lnTo>
                        <a:pt x="1794" y="875"/>
                      </a:lnTo>
                      <a:lnTo>
                        <a:pt x="1820" y="905"/>
                      </a:lnTo>
                      <a:lnTo>
                        <a:pt x="1826" y="953"/>
                      </a:lnTo>
                      <a:lnTo>
                        <a:pt x="1820" y="1021"/>
                      </a:lnTo>
                      <a:lnTo>
                        <a:pt x="1800" y="1059"/>
                      </a:lnTo>
                      <a:lnTo>
                        <a:pt x="1762" y="1127"/>
                      </a:lnTo>
                      <a:lnTo>
                        <a:pt x="1734" y="1151"/>
                      </a:lnTo>
                      <a:lnTo>
                        <a:pt x="1706" y="1191"/>
                      </a:lnTo>
                      <a:lnTo>
                        <a:pt x="1670" y="1207"/>
                      </a:lnTo>
                      <a:lnTo>
                        <a:pt x="1648" y="1209"/>
                      </a:lnTo>
                      <a:lnTo>
                        <a:pt x="1636" y="1193"/>
                      </a:lnTo>
                      <a:lnTo>
                        <a:pt x="1620" y="1215"/>
                      </a:lnTo>
                      <a:lnTo>
                        <a:pt x="1592" y="1239"/>
                      </a:lnTo>
                      <a:lnTo>
                        <a:pt x="1584" y="1263"/>
                      </a:lnTo>
                      <a:lnTo>
                        <a:pt x="1564" y="1281"/>
                      </a:lnTo>
                      <a:lnTo>
                        <a:pt x="1534" y="1295"/>
                      </a:lnTo>
                      <a:lnTo>
                        <a:pt x="1536" y="1317"/>
                      </a:lnTo>
                      <a:lnTo>
                        <a:pt x="1560" y="1337"/>
                      </a:lnTo>
                      <a:lnTo>
                        <a:pt x="1574" y="1375"/>
                      </a:lnTo>
                      <a:lnTo>
                        <a:pt x="1580" y="1409"/>
                      </a:lnTo>
                      <a:lnTo>
                        <a:pt x="1574" y="1427"/>
                      </a:lnTo>
                      <a:lnTo>
                        <a:pt x="1560" y="1445"/>
                      </a:lnTo>
                      <a:lnTo>
                        <a:pt x="1526" y="1449"/>
                      </a:lnTo>
                      <a:lnTo>
                        <a:pt x="1500" y="1445"/>
                      </a:lnTo>
                      <a:lnTo>
                        <a:pt x="1506" y="1393"/>
                      </a:lnTo>
                      <a:lnTo>
                        <a:pt x="1500" y="1377"/>
                      </a:lnTo>
                      <a:lnTo>
                        <a:pt x="1510" y="1369"/>
                      </a:lnTo>
                      <a:lnTo>
                        <a:pt x="1506" y="1355"/>
                      </a:lnTo>
                      <a:lnTo>
                        <a:pt x="1478" y="1341"/>
                      </a:lnTo>
                      <a:lnTo>
                        <a:pt x="1476" y="1329"/>
                      </a:lnTo>
                      <a:lnTo>
                        <a:pt x="1488" y="1315"/>
                      </a:lnTo>
                      <a:lnTo>
                        <a:pt x="1482" y="1295"/>
                      </a:lnTo>
                      <a:lnTo>
                        <a:pt x="1460" y="1281"/>
                      </a:lnTo>
                      <a:lnTo>
                        <a:pt x="1436" y="1279"/>
                      </a:lnTo>
                      <a:lnTo>
                        <a:pt x="1416" y="1299"/>
                      </a:lnTo>
                      <a:lnTo>
                        <a:pt x="1402" y="1299"/>
                      </a:lnTo>
                      <a:lnTo>
                        <a:pt x="1398" y="1283"/>
                      </a:lnTo>
                      <a:lnTo>
                        <a:pt x="1414" y="1251"/>
                      </a:lnTo>
                      <a:lnTo>
                        <a:pt x="1396" y="1243"/>
                      </a:lnTo>
                      <a:lnTo>
                        <a:pt x="1368" y="1269"/>
                      </a:lnTo>
                      <a:lnTo>
                        <a:pt x="1336" y="1283"/>
                      </a:lnTo>
                      <a:lnTo>
                        <a:pt x="1326" y="1293"/>
                      </a:lnTo>
                      <a:lnTo>
                        <a:pt x="1306" y="1295"/>
                      </a:lnTo>
                      <a:lnTo>
                        <a:pt x="1308" y="1323"/>
                      </a:lnTo>
                      <a:lnTo>
                        <a:pt x="1328" y="1325"/>
                      </a:lnTo>
                      <a:lnTo>
                        <a:pt x="1332" y="1349"/>
                      </a:lnTo>
                      <a:lnTo>
                        <a:pt x="1346" y="1353"/>
                      </a:lnTo>
                      <a:lnTo>
                        <a:pt x="1376" y="1337"/>
                      </a:lnTo>
                      <a:lnTo>
                        <a:pt x="1392" y="1345"/>
                      </a:lnTo>
                      <a:lnTo>
                        <a:pt x="1410" y="1357"/>
                      </a:lnTo>
                      <a:lnTo>
                        <a:pt x="1408" y="1367"/>
                      </a:lnTo>
                      <a:lnTo>
                        <a:pt x="1380" y="1365"/>
                      </a:lnTo>
                      <a:lnTo>
                        <a:pt x="1358" y="1379"/>
                      </a:lnTo>
                      <a:lnTo>
                        <a:pt x="1342" y="1383"/>
                      </a:lnTo>
                      <a:lnTo>
                        <a:pt x="1342" y="1397"/>
                      </a:lnTo>
                      <a:lnTo>
                        <a:pt x="1322" y="1411"/>
                      </a:lnTo>
                      <a:lnTo>
                        <a:pt x="1326" y="1425"/>
                      </a:lnTo>
                      <a:lnTo>
                        <a:pt x="1350" y="1439"/>
                      </a:lnTo>
                      <a:lnTo>
                        <a:pt x="1354" y="1475"/>
                      </a:lnTo>
                      <a:lnTo>
                        <a:pt x="1370" y="1507"/>
                      </a:lnTo>
                      <a:lnTo>
                        <a:pt x="1378" y="1519"/>
                      </a:lnTo>
                      <a:lnTo>
                        <a:pt x="1348" y="1517"/>
                      </a:lnTo>
                      <a:lnTo>
                        <a:pt x="1366" y="1537"/>
                      </a:lnTo>
                      <a:lnTo>
                        <a:pt x="1366" y="1547"/>
                      </a:lnTo>
                      <a:lnTo>
                        <a:pt x="1344" y="1565"/>
                      </a:lnTo>
                      <a:lnTo>
                        <a:pt x="1364" y="1581"/>
                      </a:lnTo>
                      <a:lnTo>
                        <a:pt x="1368" y="1601"/>
                      </a:lnTo>
                      <a:lnTo>
                        <a:pt x="1352" y="1619"/>
                      </a:lnTo>
                      <a:lnTo>
                        <a:pt x="1334" y="1635"/>
                      </a:lnTo>
                      <a:lnTo>
                        <a:pt x="1300" y="1663"/>
                      </a:lnTo>
                      <a:lnTo>
                        <a:pt x="1290" y="1693"/>
                      </a:lnTo>
                      <a:lnTo>
                        <a:pt x="1258" y="1725"/>
                      </a:lnTo>
                      <a:lnTo>
                        <a:pt x="1220" y="1747"/>
                      </a:lnTo>
                      <a:lnTo>
                        <a:pt x="1198" y="1765"/>
                      </a:lnTo>
                      <a:lnTo>
                        <a:pt x="1172" y="1765"/>
                      </a:lnTo>
                      <a:lnTo>
                        <a:pt x="1140" y="1763"/>
                      </a:lnTo>
                      <a:lnTo>
                        <a:pt x="1124" y="1753"/>
                      </a:lnTo>
                      <a:lnTo>
                        <a:pt x="1118" y="1769"/>
                      </a:lnTo>
                      <a:lnTo>
                        <a:pt x="1088" y="1779"/>
                      </a:lnTo>
                      <a:lnTo>
                        <a:pt x="1046" y="1783"/>
                      </a:lnTo>
                      <a:lnTo>
                        <a:pt x="1030" y="1801"/>
                      </a:lnTo>
                      <a:lnTo>
                        <a:pt x="1016" y="1793"/>
                      </a:lnTo>
                      <a:lnTo>
                        <a:pt x="1014" y="1767"/>
                      </a:lnTo>
                      <a:lnTo>
                        <a:pt x="992" y="1757"/>
                      </a:lnTo>
                      <a:lnTo>
                        <a:pt x="968" y="1761"/>
                      </a:lnTo>
                      <a:lnTo>
                        <a:pt x="940" y="1773"/>
                      </a:lnTo>
                      <a:lnTo>
                        <a:pt x="912" y="1783"/>
                      </a:lnTo>
                      <a:lnTo>
                        <a:pt x="890" y="1815"/>
                      </a:lnTo>
                      <a:lnTo>
                        <a:pt x="908" y="1849"/>
                      </a:lnTo>
                      <a:lnTo>
                        <a:pt x="924" y="1875"/>
                      </a:lnTo>
                      <a:lnTo>
                        <a:pt x="946" y="1909"/>
                      </a:lnTo>
                      <a:lnTo>
                        <a:pt x="970" y="1955"/>
                      </a:lnTo>
                      <a:lnTo>
                        <a:pt x="972" y="1989"/>
                      </a:lnTo>
                      <a:lnTo>
                        <a:pt x="972" y="2031"/>
                      </a:lnTo>
                      <a:lnTo>
                        <a:pt x="966" y="2051"/>
                      </a:lnTo>
                      <a:lnTo>
                        <a:pt x="952" y="2071"/>
                      </a:lnTo>
                      <a:lnTo>
                        <a:pt x="932" y="2071"/>
                      </a:lnTo>
                      <a:lnTo>
                        <a:pt x="906" y="2077"/>
                      </a:lnTo>
                      <a:lnTo>
                        <a:pt x="878" y="2091"/>
                      </a:lnTo>
                      <a:lnTo>
                        <a:pt x="862" y="2103"/>
                      </a:lnTo>
                      <a:lnTo>
                        <a:pt x="850" y="2101"/>
                      </a:lnTo>
                      <a:lnTo>
                        <a:pt x="840" y="2091"/>
                      </a:lnTo>
                      <a:lnTo>
                        <a:pt x="852" y="2067"/>
                      </a:lnTo>
                      <a:lnTo>
                        <a:pt x="822" y="2047"/>
                      </a:lnTo>
                      <a:lnTo>
                        <a:pt x="806" y="2019"/>
                      </a:lnTo>
                      <a:lnTo>
                        <a:pt x="802" y="1997"/>
                      </a:lnTo>
                      <a:lnTo>
                        <a:pt x="782" y="1977"/>
                      </a:lnTo>
                      <a:lnTo>
                        <a:pt x="760" y="1963"/>
                      </a:lnTo>
                      <a:lnTo>
                        <a:pt x="756" y="1937"/>
                      </a:lnTo>
                      <a:lnTo>
                        <a:pt x="736" y="1943"/>
                      </a:lnTo>
                      <a:lnTo>
                        <a:pt x="736" y="1977"/>
                      </a:lnTo>
                      <a:lnTo>
                        <a:pt x="724" y="2007"/>
                      </a:lnTo>
                      <a:lnTo>
                        <a:pt x="708" y="2033"/>
                      </a:lnTo>
                      <a:lnTo>
                        <a:pt x="726" y="2067"/>
                      </a:lnTo>
                      <a:lnTo>
                        <a:pt x="734" y="2113"/>
                      </a:lnTo>
                      <a:lnTo>
                        <a:pt x="752" y="2129"/>
                      </a:lnTo>
                      <a:lnTo>
                        <a:pt x="798" y="2197"/>
                      </a:lnTo>
                      <a:lnTo>
                        <a:pt x="800" y="2247"/>
                      </a:lnTo>
                      <a:lnTo>
                        <a:pt x="818" y="2293"/>
                      </a:lnTo>
                      <a:lnTo>
                        <a:pt x="806" y="2297"/>
                      </a:lnTo>
                      <a:lnTo>
                        <a:pt x="774" y="2259"/>
                      </a:lnTo>
                      <a:lnTo>
                        <a:pt x="744" y="2225"/>
                      </a:lnTo>
                      <a:lnTo>
                        <a:pt x="732" y="2193"/>
                      </a:lnTo>
                      <a:lnTo>
                        <a:pt x="728" y="2151"/>
                      </a:lnTo>
                      <a:lnTo>
                        <a:pt x="716" y="2125"/>
                      </a:lnTo>
                      <a:lnTo>
                        <a:pt x="694" y="2085"/>
                      </a:lnTo>
                      <a:lnTo>
                        <a:pt x="676" y="2055"/>
                      </a:lnTo>
                      <a:lnTo>
                        <a:pt x="688" y="2021"/>
                      </a:lnTo>
                      <a:lnTo>
                        <a:pt x="702" y="1985"/>
                      </a:lnTo>
                      <a:lnTo>
                        <a:pt x="702" y="1947"/>
                      </a:lnTo>
                      <a:lnTo>
                        <a:pt x="688" y="1919"/>
                      </a:lnTo>
                      <a:lnTo>
                        <a:pt x="698" y="1885"/>
                      </a:lnTo>
                      <a:lnTo>
                        <a:pt x="690" y="1841"/>
                      </a:lnTo>
                      <a:lnTo>
                        <a:pt x="690" y="1807"/>
                      </a:lnTo>
                      <a:lnTo>
                        <a:pt x="656" y="1825"/>
                      </a:lnTo>
                      <a:lnTo>
                        <a:pt x="630" y="1829"/>
                      </a:lnTo>
                      <a:lnTo>
                        <a:pt x="620" y="1819"/>
                      </a:lnTo>
                      <a:lnTo>
                        <a:pt x="628" y="1763"/>
                      </a:lnTo>
                      <a:lnTo>
                        <a:pt x="624" y="1715"/>
                      </a:lnTo>
                      <a:lnTo>
                        <a:pt x="600" y="1641"/>
                      </a:lnTo>
                      <a:lnTo>
                        <a:pt x="598" y="1585"/>
                      </a:lnTo>
                      <a:lnTo>
                        <a:pt x="598" y="1565"/>
                      </a:lnTo>
                      <a:lnTo>
                        <a:pt x="582" y="1563"/>
                      </a:lnTo>
                      <a:lnTo>
                        <a:pt x="580" y="1595"/>
                      </a:lnTo>
                      <a:lnTo>
                        <a:pt x="548" y="1597"/>
                      </a:lnTo>
                      <a:lnTo>
                        <a:pt x="536" y="1583"/>
                      </a:lnTo>
                      <a:lnTo>
                        <a:pt x="502" y="1587"/>
                      </a:lnTo>
                      <a:lnTo>
                        <a:pt x="490" y="1607"/>
                      </a:lnTo>
                      <a:lnTo>
                        <a:pt x="470" y="1625"/>
                      </a:lnTo>
                      <a:lnTo>
                        <a:pt x="434" y="1627"/>
                      </a:lnTo>
                      <a:lnTo>
                        <a:pt x="394" y="1659"/>
                      </a:lnTo>
                      <a:lnTo>
                        <a:pt x="348" y="1671"/>
                      </a:lnTo>
                      <a:lnTo>
                        <a:pt x="322" y="1691"/>
                      </a:lnTo>
                      <a:lnTo>
                        <a:pt x="322" y="1749"/>
                      </a:lnTo>
                      <a:lnTo>
                        <a:pt x="300" y="1779"/>
                      </a:lnTo>
                      <a:lnTo>
                        <a:pt x="300" y="1805"/>
                      </a:lnTo>
                      <a:lnTo>
                        <a:pt x="286" y="1813"/>
                      </a:lnTo>
                      <a:lnTo>
                        <a:pt x="282" y="1829"/>
                      </a:lnTo>
                      <a:lnTo>
                        <a:pt x="264" y="1839"/>
                      </a:lnTo>
                      <a:lnTo>
                        <a:pt x="248" y="1835"/>
                      </a:lnTo>
                      <a:lnTo>
                        <a:pt x="238" y="1815"/>
                      </a:lnTo>
                      <a:lnTo>
                        <a:pt x="238" y="1769"/>
                      </a:lnTo>
                      <a:lnTo>
                        <a:pt x="234" y="1695"/>
                      </a:lnTo>
                      <a:lnTo>
                        <a:pt x="232" y="1607"/>
                      </a:lnTo>
                      <a:lnTo>
                        <a:pt x="240" y="1531"/>
                      </a:lnTo>
                      <a:lnTo>
                        <a:pt x="252" y="1467"/>
                      </a:lnTo>
                      <a:lnTo>
                        <a:pt x="270" y="1451"/>
                      </a:lnTo>
                      <a:lnTo>
                        <a:pt x="268" y="1425"/>
                      </a:lnTo>
                      <a:lnTo>
                        <a:pt x="276" y="1409"/>
                      </a:lnTo>
                      <a:lnTo>
                        <a:pt x="262" y="1397"/>
                      </a:lnTo>
                      <a:lnTo>
                        <a:pt x="244" y="1415"/>
                      </a:lnTo>
                      <a:lnTo>
                        <a:pt x="234" y="1405"/>
                      </a:lnTo>
                      <a:lnTo>
                        <a:pt x="228" y="1377"/>
                      </a:lnTo>
                      <a:lnTo>
                        <a:pt x="232" y="1357"/>
                      </a:lnTo>
                      <a:lnTo>
                        <a:pt x="254" y="1359"/>
                      </a:lnTo>
                      <a:lnTo>
                        <a:pt x="240" y="1337"/>
                      </a:lnTo>
                      <a:lnTo>
                        <a:pt x="256" y="1333"/>
                      </a:lnTo>
                      <a:lnTo>
                        <a:pt x="228" y="1307"/>
                      </a:lnTo>
                      <a:lnTo>
                        <a:pt x="236" y="1265"/>
                      </a:lnTo>
                      <a:lnTo>
                        <a:pt x="244" y="1237"/>
                      </a:lnTo>
                      <a:lnTo>
                        <a:pt x="208" y="1207"/>
                      </a:lnTo>
                      <a:lnTo>
                        <a:pt x="176" y="1149"/>
                      </a:lnTo>
                      <a:lnTo>
                        <a:pt x="168" y="1101"/>
                      </a:lnTo>
                      <a:lnTo>
                        <a:pt x="180" y="1075"/>
                      </a:lnTo>
                      <a:lnTo>
                        <a:pt x="164" y="1051"/>
                      </a:lnTo>
                      <a:lnTo>
                        <a:pt x="170" y="971"/>
                      </a:lnTo>
                      <a:lnTo>
                        <a:pt x="196" y="921"/>
                      </a:lnTo>
                      <a:lnTo>
                        <a:pt x="186" y="895"/>
                      </a:lnTo>
                      <a:lnTo>
                        <a:pt x="152" y="975"/>
                      </a:lnTo>
                      <a:lnTo>
                        <a:pt x="138" y="1021"/>
                      </a:lnTo>
                      <a:lnTo>
                        <a:pt x="148" y="1037"/>
                      </a:lnTo>
                      <a:lnTo>
                        <a:pt x="126" y="1055"/>
                      </a:lnTo>
                      <a:lnTo>
                        <a:pt x="130" y="1107"/>
                      </a:lnTo>
                      <a:lnTo>
                        <a:pt x="158" y="1087"/>
                      </a:lnTo>
                      <a:lnTo>
                        <a:pt x="150" y="1133"/>
                      </a:lnTo>
                      <a:lnTo>
                        <a:pt x="146" y="1217"/>
                      </a:lnTo>
                      <a:lnTo>
                        <a:pt x="144" y="1233"/>
                      </a:lnTo>
                      <a:lnTo>
                        <a:pt x="132" y="1253"/>
                      </a:lnTo>
                      <a:lnTo>
                        <a:pt x="110" y="1255"/>
                      </a:lnTo>
                      <a:lnTo>
                        <a:pt x="96" y="1285"/>
                      </a:lnTo>
                      <a:lnTo>
                        <a:pt x="76" y="1281"/>
                      </a:lnTo>
                      <a:lnTo>
                        <a:pt x="50" y="1293"/>
                      </a:lnTo>
                      <a:lnTo>
                        <a:pt x="18" y="1291"/>
                      </a:lnTo>
                      <a:lnTo>
                        <a:pt x="0" y="1251"/>
                      </a:lnTo>
                      <a:lnTo>
                        <a:pt x="2" y="1209"/>
                      </a:lnTo>
                      <a:lnTo>
                        <a:pt x="22" y="1151"/>
                      </a:lnTo>
                      <a:lnTo>
                        <a:pt x="52" y="1081"/>
                      </a:lnTo>
                      <a:lnTo>
                        <a:pt x="84" y="1019"/>
                      </a:lnTo>
                      <a:lnTo>
                        <a:pt x="108" y="973"/>
                      </a:lnTo>
                      <a:lnTo>
                        <a:pt x="124" y="945"/>
                      </a:lnTo>
                      <a:lnTo>
                        <a:pt x="150" y="891"/>
                      </a:lnTo>
                      <a:lnTo>
                        <a:pt x="176" y="855"/>
                      </a:lnTo>
                      <a:lnTo>
                        <a:pt x="186" y="765"/>
                      </a:lnTo>
                      <a:lnTo>
                        <a:pt x="206" y="681"/>
                      </a:lnTo>
                      <a:lnTo>
                        <a:pt x="268" y="593"/>
                      </a:lnTo>
                      <a:lnTo>
                        <a:pt x="328" y="513"/>
                      </a:lnTo>
                      <a:lnTo>
                        <a:pt x="380" y="457"/>
                      </a:lnTo>
                      <a:lnTo>
                        <a:pt x="422" y="403"/>
                      </a:lnTo>
                      <a:lnTo>
                        <a:pt x="430" y="431"/>
                      </a:lnTo>
                      <a:lnTo>
                        <a:pt x="434" y="471"/>
                      </a:lnTo>
                      <a:lnTo>
                        <a:pt x="404" y="493"/>
                      </a:lnTo>
                      <a:lnTo>
                        <a:pt x="404" y="515"/>
                      </a:lnTo>
                      <a:lnTo>
                        <a:pt x="396" y="557"/>
                      </a:lnTo>
                      <a:lnTo>
                        <a:pt x="464" y="475"/>
                      </a:lnTo>
                      <a:lnTo>
                        <a:pt x="438" y="531"/>
                      </a:lnTo>
                      <a:lnTo>
                        <a:pt x="464" y="549"/>
                      </a:lnTo>
                      <a:lnTo>
                        <a:pt x="450" y="575"/>
                      </a:lnTo>
                      <a:lnTo>
                        <a:pt x="426" y="607"/>
                      </a:lnTo>
                      <a:lnTo>
                        <a:pt x="406" y="635"/>
                      </a:lnTo>
                      <a:lnTo>
                        <a:pt x="386" y="673"/>
                      </a:lnTo>
                      <a:lnTo>
                        <a:pt x="354" y="693"/>
                      </a:lnTo>
                      <a:lnTo>
                        <a:pt x="322" y="727"/>
                      </a:lnTo>
                      <a:lnTo>
                        <a:pt x="320" y="759"/>
                      </a:lnTo>
                      <a:lnTo>
                        <a:pt x="308" y="785"/>
                      </a:lnTo>
                      <a:lnTo>
                        <a:pt x="328" y="803"/>
                      </a:lnTo>
                      <a:lnTo>
                        <a:pt x="358" y="759"/>
                      </a:lnTo>
                      <a:lnTo>
                        <a:pt x="362" y="741"/>
                      </a:lnTo>
                      <a:lnTo>
                        <a:pt x="378" y="733"/>
                      </a:lnTo>
                      <a:lnTo>
                        <a:pt x="390" y="703"/>
                      </a:lnTo>
                      <a:lnTo>
                        <a:pt x="414" y="709"/>
                      </a:lnTo>
                      <a:lnTo>
                        <a:pt x="420" y="695"/>
                      </a:lnTo>
                      <a:lnTo>
                        <a:pt x="408" y="679"/>
                      </a:lnTo>
                      <a:lnTo>
                        <a:pt x="430" y="655"/>
                      </a:lnTo>
                      <a:lnTo>
                        <a:pt x="438" y="629"/>
                      </a:lnTo>
                      <a:lnTo>
                        <a:pt x="478" y="593"/>
                      </a:lnTo>
                      <a:lnTo>
                        <a:pt x="498" y="599"/>
                      </a:lnTo>
                      <a:lnTo>
                        <a:pt x="518" y="585"/>
                      </a:lnTo>
                      <a:lnTo>
                        <a:pt x="522" y="563"/>
                      </a:lnTo>
                      <a:lnTo>
                        <a:pt x="502" y="549"/>
                      </a:lnTo>
                      <a:lnTo>
                        <a:pt x="466" y="551"/>
                      </a:lnTo>
                      <a:lnTo>
                        <a:pt x="446" y="525"/>
                      </a:lnTo>
                      <a:lnTo>
                        <a:pt x="462" y="473"/>
                      </a:lnTo>
                      <a:lnTo>
                        <a:pt x="480" y="433"/>
                      </a:lnTo>
                      <a:lnTo>
                        <a:pt x="494" y="411"/>
                      </a:lnTo>
                      <a:lnTo>
                        <a:pt x="494" y="441"/>
                      </a:lnTo>
                      <a:lnTo>
                        <a:pt x="510" y="439"/>
                      </a:lnTo>
                      <a:lnTo>
                        <a:pt x="520" y="419"/>
                      </a:lnTo>
                      <a:lnTo>
                        <a:pt x="512" y="377"/>
                      </a:lnTo>
                      <a:lnTo>
                        <a:pt x="534" y="369"/>
                      </a:lnTo>
                      <a:lnTo>
                        <a:pt x="536" y="355"/>
                      </a:lnTo>
                      <a:lnTo>
                        <a:pt x="522" y="347"/>
                      </a:lnTo>
                      <a:lnTo>
                        <a:pt x="500" y="375"/>
                      </a:lnTo>
                      <a:lnTo>
                        <a:pt x="490" y="391"/>
                      </a:lnTo>
                      <a:lnTo>
                        <a:pt x="438" y="419"/>
                      </a:lnTo>
                      <a:lnTo>
                        <a:pt x="438" y="391"/>
                      </a:lnTo>
                      <a:lnTo>
                        <a:pt x="494" y="331"/>
                      </a:lnTo>
                      <a:lnTo>
                        <a:pt x="608" y="231"/>
                      </a:lnTo>
                      <a:lnTo>
                        <a:pt x="704" y="157"/>
                      </a:lnTo>
                      <a:lnTo>
                        <a:pt x="847" y="63"/>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6" name="Freeform 106"/>
                <p:cNvSpPr/>
                <p:nvPr/>
              </p:nvSpPr>
              <p:spPr>
                <a:xfrm>
                  <a:off x="3651120" y="3425760"/>
                  <a:ext cx="54360" cy="105840"/>
                </a:xfrm>
                <a:custGeom>
                  <a:avLst/>
                  <a:gdLst/>
                  <a:ahLst/>
                  <a:rect l="l" t="t" r="r" b="b"/>
                  <a:pathLst>
                    <a:path w="58" h="87">
                      <a:moveTo>
                        <a:pt x="0" y="23"/>
                      </a:moveTo>
                      <a:cubicBezTo>
                        <a:pt x="1" y="21"/>
                        <a:pt x="0" y="18"/>
                        <a:pt x="2" y="17"/>
                      </a:cubicBezTo>
                      <a:cubicBezTo>
                        <a:pt x="5" y="15"/>
                        <a:pt x="14" y="13"/>
                        <a:pt x="14" y="13"/>
                      </a:cubicBezTo>
                      <a:cubicBezTo>
                        <a:pt x="18" y="0"/>
                        <a:pt x="23" y="3"/>
                        <a:pt x="36" y="5"/>
                      </a:cubicBezTo>
                      <a:cubicBezTo>
                        <a:pt x="52" y="2"/>
                        <a:pt x="55" y="5"/>
                        <a:pt x="46" y="19"/>
                      </a:cubicBezTo>
                      <a:cubicBezTo>
                        <a:pt x="51" y="26"/>
                        <a:pt x="55" y="25"/>
                        <a:pt x="58" y="33"/>
                      </a:cubicBezTo>
                      <a:cubicBezTo>
                        <a:pt x="49" y="47"/>
                        <a:pt x="45" y="55"/>
                        <a:pt x="40" y="71"/>
                      </a:cubicBezTo>
                      <a:cubicBezTo>
                        <a:pt x="42" y="76"/>
                        <a:pt x="44" y="79"/>
                        <a:pt x="38" y="83"/>
                      </a:cubicBezTo>
                      <a:cubicBezTo>
                        <a:pt x="34" y="85"/>
                        <a:pt x="26" y="87"/>
                        <a:pt x="26" y="87"/>
                      </a:cubicBezTo>
                      <a:cubicBezTo>
                        <a:pt x="23" y="79"/>
                        <a:pt x="20" y="78"/>
                        <a:pt x="12" y="75"/>
                      </a:cubicBezTo>
                      <a:cubicBezTo>
                        <a:pt x="15" y="64"/>
                        <a:pt x="15" y="54"/>
                        <a:pt x="18" y="43"/>
                      </a:cubicBezTo>
                      <a:cubicBezTo>
                        <a:pt x="15" y="34"/>
                        <a:pt x="12" y="33"/>
                        <a:pt x="6" y="41"/>
                      </a:cubicBezTo>
                      <a:cubicBezTo>
                        <a:pt x="2" y="34"/>
                        <a:pt x="0" y="31"/>
                        <a:pt x="0" y="23"/>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7" name="Freeform 107"/>
                <p:cNvSpPr/>
                <p:nvPr/>
              </p:nvSpPr>
              <p:spPr>
                <a:xfrm>
                  <a:off x="3680280" y="3111840"/>
                  <a:ext cx="264240" cy="365400"/>
                </a:xfrm>
                <a:custGeom>
                  <a:avLst/>
                  <a:gdLst/>
                  <a:ahLst/>
                  <a:rect l="l" t="t" r="r" b="b"/>
                  <a:pathLst>
                    <a:path w="279" h="307">
                      <a:moveTo>
                        <a:pt x="44" y="251"/>
                      </a:moveTo>
                      <a:cubicBezTo>
                        <a:pt x="38" y="255"/>
                        <a:pt x="35" y="262"/>
                        <a:pt x="28" y="265"/>
                      </a:cubicBezTo>
                      <a:cubicBezTo>
                        <a:pt x="22" y="268"/>
                        <a:pt x="10" y="271"/>
                        <a:pt x="10" y="271"/>
                      </a:cubicBezTo>
                      <a:cubicBezTo>
                        <a:pt x="8" y="270"/>
                        <a:pt x="5" y="271"/>
                        <a:pt x="4" y="269"/>
                      </a:cubicBezTo>
                      <a:cubicBezTo>
                        <a:pt x="2" y="266"/>
                        <a:pt x="0" y="257"/>
                        <a:pt x="0" y="257"/>
                      </a:cubicBezTo>
                      <a:cubicBezTo>
                        <a:pt x="5" y="249"/>
                        <a:pt x="13" y="245"/>
                        <a:pt x="22" y="241"/>
                      </a:cubicBezTo>
                      <a:cubicBezTo>
                        <a:pt x="26" y="239"/>
                        <a:pt x="34" y="237"/>
                        <a:pt x="34" y="237"/>
                      </a:cubicBezTo>
                      <a:cubicBezTo>
                        <a:pt x="37" y="233"/>
                        <a:pt x="44" y="226"/>
                        <a:pt x="48" y="223"/>
                      </a:cubicBezTo>
                      <a:cubicBezTo>
                        <a:pt x="53" y="220"/>
                        <a:pt x="66" y="217"/>
                        <a:pt x="66" y="217"/>
                      </a:cubicBezTo>
                      <a:cubicBezTo>
                        <a:pt x="71" y="218"/>
                        <a:pt x="77" y="219"/>
                        <a:pt x="82" y="219"/>
                      </a:cubicBezTo>
                      <a:cubicBezTo>
                        <a:pt x="86" y="219"/>
                        <a:pt x="94" y="215"/>
                        <a:pt x="94" y="215"/>
                      </a:cubicBezTo>
                      <a:cubicBezTo>
                        <a:pt x="96" y="212"/>
                        <a:pt x="100" y="205"/>
                        <a:pt x="104" y="205"/>
                      </a:cubicBezTo>
                      <a:cubicBezTo>
                        <a:pt x="110" y="205"/>
                        <a:pt x="122" y="211"/>
                        <a:pt x="122" y="211"/>
                      </a:cubicBezTo>
                      <a:cubicBezTo>
                        <a:pt x="132" y="208"/>
                        <a:pt x="130" y="204"/>
                        <a:pt x="128" y="195"/>
                      </a:cubicBezTo>
                      <a:cubicBezTo>
                        <a:pt x="136" y="190"/>
                        <a:pt x="141" y="191"/>
                        <a:pt x="146" y="183"/>
                      </a:cubicBezTo>
                      <a:cubicBezTo>
                        <a:pt x="144" y="179"/>
                        <a:pt x="136" y="170"/>
                        <a:pt x="142" y="165"/>
                      </a:cubicBezTo>
                      <a:cubicBezTo>
                        <a:pt x="145" y="163"/>
                        <a:pt x="154" y="161"/>
                        <a:pt x="154" y="161"/>
                      </a:cubicBezTo>
                      <a:cubicBezTo>
                        <a:pt x="159" y="175"/>
                        <a:pt x="151" y="158"/>
                        <a:pt x="166" y="163"/>
                      </a:cubicBezTo>
                      <a:cubicBezTo>
                        <a:pt x="163" y="173"/>
                        <a:pt x="158" y="179"/>
                        <a:pt x="170" y="183"/>
                      </a:cubicBezTo>
                      <a:cubicBezTo>
                        <a:pt x="182" y="179"/>
                        <a:pt x="181" y="167"/>
                        <a:pt x="194" y="163"/>
                      </a:cubicBezTo>
                      <a:cubicBezTo>
                        <a:pt x="192" y="157"/>
                        <a:pt x="180" y="149"/>
                        <a:pt x="180" y="149"/>
                      </a:cubicBezTo>
                      <a:cubicBezTo>
                        <a:pt x="173" y="138"/>
                        <a:pt x="182" y="134"/>
                        <a:pt x="192" y="131"/>
                      </a:cubicBezTo>
                      <a:cubicBezTo>
                        <a:pt x="206" y="136"/>
                        <a:pt x="191" y="149"/>
                        <a:pt x="208" y="145"/>
                      </a:cubicBezTo>
                      <a:cubicBezTo>
                        <a:pt x="212" y="133"/>
                        <a:pt x="216" y="125"/>
                        <a:pt x="228" y="121"/>
                      </a:cubicBezTo>
                      <a:cubicBezTo>
                        <a:pt x="231" y="112"/>
                        <a:pt x="226" y="104"/>
                        <a:pt x="224" y="95"/>
                      </a:cubicBezTo>
                      <a:cubicBezTo>
                        <a:pt x="228" y="82"/>
                        <a:pt x="223" y="68"/>
                        <a:pt x="232" y="55"/>
                      </a:cubicBezTo>
                      <a:cubicBezTo>
                        <a:pt x="234" y="45"/>
                        <a:pt x="239" y="43"/>
                        <a:pt x="230" y="37"/>
                      </a:cubicBezTo>
                      <a:cubicBezTo>
                        <a:pt x="227" y="33"/>
                        <a:pt x="224" y="30"/>
                        <a:pt x="222" y="25"/>
                      </a:cubicBezTo>
                      <a:cubicBezTo>
                        <a:pt x="221" y="21"/>
                        <a:pt x="218" y="13"/>
                        <a:pt x="218" y="13"/>
                      </a:cubicBezTo>
                      <a:cubicBezTo>
                        <a:pt x="221" y="5"/>
                        <a:pt x="221" y="0"/>
                        <a:pt x="230" y="3"/>
                      </a:cubicBezTo>
                      <a:cubicBezTo>
                        <a:pt x="233" y="11"/>
                        <a:pt x="236" y="14"/>
                        <a:pt x="244" y="17"/>
                      </a:cubicBezTo>
                      <a:cubicBezTo>
                        <a:pt x="248" y="29"/>
                        <a:pt x="234" y="23"/>
                        <a:pt x="246" y="31"/>
                      </a:cubicBezTo>
                      <a:cubicBezTo>
                        <a:pt x="242" y="42"/>
                        <a:pt x="246" y="47"/>
                        <a:pt x="254" y="53"/>
                      </a:cubicBezTo>
                      <a:cubicBezTo>
                        <a:pt x="257" y="61"/>
                        <a:pt x="259" y="64"/>
                        <a:pt x="266" y="69"/>
                      </a:cubicBezTo>
                      <a:cubicBezTo>
                        <a:pt x="269" y="78"/>
                        <a:pt x="271" y="85"/>
                        <a:pt x="276" y="93"/>
                      </a:cubicBezTo>
                      <a:cubicBezTo>
                        <a:pt x="279" y="107"/>
                        <a:pt x="272" y="127"/>
                        <a:pt x="262" y="137"/>
                      </a:cubicBezTo>
                      <a:cubicBezTo>
                        <a:pt x="245" y="131"/>
                        <a:pt x="250" y="164"/>
                        <a:pt x="246" y="177"/>
                      </a:cubicBezTo>
                      <a:cubicBezTo>
                        <a:pt x="244" y="197"/>
                        <a:pt x="245" y="212"/>
                        <a:pt x="240" y="231"/>
                      </a:cubicBezTo>
                      <a:cubicBezTo>
                        <a:pt x="232" y="229"/>
                        <a:pt x="228" y="226"/>
                        <a:pt x="220" y="229"/>
                      </a:cubicBezTo>
                      <a:cubicBezTo>
                        <a:pt x="217" y="237"/>
                        <a:pt x="215" y="240"/>
                        <a:pt x="206" y="237"/>
                      </a:cubicBezTo>
                      <a:cubicBezTo>
                        <a:pt x="203" y="247"/>
                        <a:pt x="196" y="242"/>
                        <a:pt x="188" y="239"/>
                      </a:cubicBezTo>
                      <a:cubicBezTo>
                        <a:pt x="181" y="241"/>
                        <a:pt x="175" y="243"/>
                        <a:pt x="168" y="245"/>
                      </a:cubicBezTo>
                      <a:cubicBezTo>
                        <a:pt x="162" y="243"/>
                        <a:pt x="150" y="239"/>
                        <a:pt x="150" y="239"/>
                      </a:cubicBezTo>
                      <a:cubicBezTo>
                        <a:pt x="153" y="253"/>
                        <a:pt x="150" y="257"/>
                        <a:pt x="140" y="267"/>
                      </a:cubicBezTo>
                      <a:cubicBezTo>
                        <a:pt x="135" y="281"/>
                        <a:pt x="140" y="278"/>
                        <a:pt x="130" y="281"/>
                      </a:cubicBezTo>
                      <a:cubicBezTo>
                        <a:pt x="121" y="278"/>
                        <a:pt x="113" y="281"/>
                        <a:pt x="110" y="271"/>
                      </a:cubicBezTo>
                      <a:cubicBezTo>
                        <a:pt x="114" y="259"/>
                        <a:pt x="116" y="251"/>
                        <a:pt x="104" y="243"/>
                      </a:cubicBezTo>
                      <a:cubicBezTo>
                        <a:pt x="93" y="245"/>
                        <a:pt x="88" y="244"/>
                        <a:pt x="82" y="253"/>
                      </a:cubicBezTo>
                      <a:cubicBezTo>
                        <a:pt x="67" y="248"/>
                        <a:pt x="73" y="246"/>
                        <a:pt x="64" y="255"/>
                      </a:cubicBezTo>
                      <a:cubicBezTo>
                        <a:pt x="56" y="252"/>
                        <a:pt x="53" y="245"/>
                        <a:pt x="50" y="255"/>
                      </a:cubicBezTo>
                      <a:cubicBezTo>
                        <a:pt x="51" y="257"/>
                        <a:pt x="52" y="259"/>
                        <a:pt x="52" y="261"/>
                      </a:cubicBezTo>
                      <a:cubicBezTo>
                        <a:pt x="52" y="263"/>
                        <a:pt x="48" y="266"/>
                        <a:pt x="50" y="267"/>
                      </a:cubicBezTo>
                      <a:cubicBezTo>
                        <a:pt x="55" y="269"/>
                        <a:pt x="76" y="260"/>
                        <a:pt x="80" y="259"/>
                      </a:cubicBezTo>
                      <a:cubicBezTo>
                        <a:pt x="82" y="258"/>
                        <a:pt x="86" y="257"/>
                        <a:pt x="86" y="257"/>
                      </a:cubicBezTo>
                      <a:cubicBezTo>
                        <a:pt x="90" y="258"/>
                        <a:pt x="94" y="260"/>
                        <a:pt x="98" y="261"/>
                      </a:cubicBezTo>
                      <a:cubicBezTo>
                        <a:pt x="101" y="262"/>
                        <a:pt x="97" y="266"/>
                        <a:pt x="96" y="269"/>
                      </a:cubicBezTo>
                      <a:cubicBezTo>
                        <a:pt x="92" y="281"/>
                        <a:pt x="91" y="284"/>
                        <a:pt x="80" y="291"/>
                      </a:cubicBezTo>
                      <a:cubicBezTo>
                        <a:pt x="72" y="283"/>
                        <a:pt x="71" y="286"/>
                        <a:pt x="60" y="289"/>
                      </a:cubicBezTo>
                      <a:cubicBezTo>
                        <a:pt x="55" y="304"/>
                        <a:pt x="59" y="298"/>
                        <a:pt x="50" y="307"/>
                      </a:cubicBezTo>
                      <a:cubicBezTo>
                        <a:pt x="39" y="304"/>
                        <a:pt x="42" y="300"/>
                        <a:pt x="36" y="291"/>
                      </a:cubicBezTo>
                      <a:cubicBezTo>
                        <a:pt x="41" y="277"/>
                        <a:pt x="38" y="283"/>
                        <a:pt x="44" y="273"/>
                      </a:cubicBezTo>
                      <a:cubicBezTo>
                        <a:pt x="43" y="269"/>
                        <a:pt x="36" y="263"/>
                        <a:pt x="40" y="261"/>
                      </a:cubicBezTo>
                      <a:cubicBezTo>
                        <a:pt x="48" y="256"/>
                        <a:pt x="47" y="259"/>
                        <a:pt x="44" y="25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8" name="Freeform 108"/>
                <p:cNvSpPr/>
                <p:nvPr/>
              </p:nvSpPr>
              <p:spPr>
                <a:xfrm>
                  <a:off x="3892680" y="3007800"/>
                  <a:ext cx="128160" cy="136080"/>
                </a:xfrm>
                <a:custGeom>
                  <a:avLst/>
                  <a:gdLst/>
                  <a:ahLst/>
                  <a:rect l="l" t="t" r="r" b="b"/>
                  <a:pathLst>
                    <a:path w="138" h="113">
                      <a:moveTo>
                        <a:pt x="7" y="81"/>
                      </a:moveTo>
                      <a:cubicBezTo>
                        <a:pt x="2" y="73"/>
                        <a:pt x="1" y="66"/>
                        <a:pt x="11" y="63"/>
                      </a:cubicBezTo>
                      <a:cubicBezTo>
                        <a:pt x="11" y="63"/>
                        <a:pt x="21" y="71"/>
                        <a:pt x="23" y="69"/>
                      </a:cubicBezTo>
                      <a:cubicBezTo>
                        <a:pt x="23" y="69"/>
                        <a:pt x="28" y="54"/>
                        <a:pt x="29" y="51"/>
                      </a:cubicBezTo>
                      <a:cubicBezTo>
                        <a:pt x="30" y="49"/>
                        <a:pt x="31" y="45"/>
                        <a:pt x="31" y="45"/>
                      </a:cubicBezTo>
                      <a:cubicBezTo>
                        <a:pt x="30" y="34"/>
                        <a:pt x="28" y="26"/>
                        <a:pt x="25" y="15"/>
                      </a:cubicBezTo>
                      <a:cubicBezTo>
                        <a:pt x="27" y="6"/>
                        <a:pt x="25" y="0"/>
                        <a:pt x="35" y="3"/>
                      </a:cubicBezTo>
                      <a:cubicBezTo>
                        <a:pt x="42" y="13"/>
                        <a:pt x="44" y="15"/>
                        <a:pt x="57" y="17"/>
                      </a:cubicBezTo>
                      <a:cubicBezTo>
                        <a:pt x="61" y="29"/>
                        <a:pt x="66" y="37"/>
                        <a:pt x="79" y="41"/>
                      </a:cubicBezTo>
                      <a:cubicBezTo>
                        <a:pt x="94" y="36"/>
                        <a:pt x="87" y="38"/>
                        <a:pt x="99" y="35"/>
                      </a:cubicBezTo>
                      <a:cubicBezTo>
                        <a:pt x="106" y="25"/>
                        <a:pt x="104" y="34"/>
                        <a:pt x="113" y="37"/>
                      </a:cubicBezTo>
                      <a:cubicBezTo>
                        <a:pt x="120" y="32"/>
                        <a:pt x="119" y="28"/>
                        <a:pt x="127" y="25"/>
                      </a:cubicBezTo>
                      <a:cubicBezTo>
                        <a:pt x="138" y="29"/>
                        <a:pt x="131" y="33"/>
                        <a:pt x="125" y="39"/>
                      </a:cubicBezTo>
                      <a:cubicBezTo>
                        <a:pt x="122" y="48"/>
                        <a:pt x="119" y="48"/>
                        <a:pt x="111" y="45"/>
                      </a:cubicBezTo>
                      <a:cubicBezTo>
                        <a:pt x="98" y="48"/>
                        <a:pt x="99" y="50"/>
                        <a:pt x="109" y="57"/>
                      </a:cubicBezTo>
                      <a:cubicBezTo>
                        <a:pt x="117" y="69"/>
                        <a:pt x="105" y="70"/>
                        <a:pt x="95" y="73"/>
                      </a:cubicBezTo>
                      <a:cubicBezTo>
                        <a:pt x="91" y="74"/>
                        <a:pt x="83" y="77"/>
                        <a:pt x="83" y="77"/>
                      </a:cubicBezTo>
                      <a:cubicBezTo>
                        <a:pt x="80" y="86"/>
                        <a:pt x="76" y="92"/>
                        <a:pt x="73" y="101"/>
                      </a:cubicBezTo>
                      <a:cubicBezTo>
                        <a:pt x="72" y="105"/>
                        <a:pt x="69" y="113"/>
                        <a:pt x="69" y="113"/>
                      </a:cubicBezTo>
                      <a:cubicBezTo>
                        <a:pt x="58" y="110"/>
                        <a:pt x="60" y="106"/>
                        <a:pt x="51" y="99"/>
                      </a:cubicBezTo>
                      <a:cubicBezTo>
                        <a:pt x="45" y="95"/>
                        <a:pt x="33" y="87"/>
                        <a:pt x="33" y="87"/>
                      </a:cubicBezTo>
                      <a:cubicBezTo>
                        <a:pt x="25" y="92"/>
                        <a:pt x="26" y="98"/>
                        <a:pt x="17" y="95"/>
                      </a:cubicBezTo>
                      <a:cubicBezTo>
                        <a:pt x="16" y="93"/>
                        <a:pt x="0" y="81"/>
                        <a:pt x="7" y="8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9" name="Freeform 109"/>
                <p:cNvSpPr/>
                <p:nvPr/>
              </p:nvSpPr>
              <p:spPr>
                <a:xfrm>
                  <a:off x="4024080" y="2989800"/>
                  <a:ext cx="45360" cy="40680"/>
                </a:xfrm>
                <a:custGeom>
                  <a:avLst/>
                  <a:gdLst/>
                  <a:ahLst/>
                  <a:rect l="l" t="t" r="r" b="b"/>
                  <a:pathLst>
                    <a:path w="46" h="34">
                      <a:moveTo>
                        <a:pt x="0" y="24"/>
                      </a:moveTo>
                      <a:cubicBezTo>
                        <a:pt x="22" y="17"/>
                        <a:pt x="7" y="12"/>
                        <a:pt x="24" y="0"/>
                      </a:cubicBezTo>
                      <a:cubicBezTo>
                        <a:pt x="43" y="6"/>
                        <a:pt x="21" y="12"/>
                        <a:pt x="46" y="16"/>
                      </a:cubicBezTo>
                      <a:cubicBezTo>
                        <a:pt x="42" y="28"/>
                        <a:pt x="34" y="23"/>
                        <a:pt x="24" y="20"/>
                      </a:cubicBezTo>
                      <a:cubicBezTo>
                        <a:pt x="3" y="34"/>
                        <a:pt x="12" y="16"/>
                        <a:pt x="0" y="24"/>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0" name="Freeform 110"/>
                <p:cNvSpPr/>
                <p:nvPr/>
              </p:nvSpPr>
              <p:spPr>
                <a:xfrm>
                  <a:off x="4060800" y="2944440"/>
                  <a:ext cx="36720" cy="55080"/>
                </a:xfrm>
                <a:custGeom>
                  <a:avLst/>
                  <a:gdLst/>
                  <a:ahLst/>
                  <a:rect l="l" t="t" r="r" b="b"/>
                  <a:pathLst>
                    <a:path w="39" h="47">
                      <a:moveTo>
                        <a:pt x="17" y="43"/>
                      </a:moveTo>
                      <a:cubicBezTo>
                        <a:pt x="0" y="39"/>
                        <a:pt x="6" y="28"/>
                        <a:pt x="13" y="17"/>
                      </a:cubicBezTo>
                      <a:cubicBezTo>
                        <a:pt x="7" y="0"/>
                        <a:pt x="24" y="16"/>
                        <a:pt x="29" y="19"/>
                      </a:cubicBezTo>
                      <a:cubicBezTo>
                        <a:pt x="36" y="29"/>
                        <a:pt x="39" y="30"/>
                        <a:pt x="25" y="33"/>
                      </a:cubicBezTo>
                      <a:cubicBezTo>
                        <a:pt x="21" y="46"/>
                        <a:pt x="25" y="47"/>
                        <a:pt x="17" y="43"/>
                      </a:cubicBezTo>
                      <a:close/>
                    </a:path>
                  </a:pathLst>
                </a:custGeom>
                <a:solidFill>
                  <a:srgbClr val="80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191" name="Freeform 111"/>
                <p:cNvSpPr/>
                <p:nvPr/>
              </p:nvSpPr>
              <p:spPr>
                <a:xfrm>
                  <a:off x="4099680" y="2922480"/>
                  <a:ext cx="24480" cy="30240"/>
                </a:xfrm>
                <a:custGeom>
                  <a:avLst/>
                  <a:gdLst/>
                  <a:ahLst/>
                  <a:rect l="l" t="t" r="r" b="b"/>
                  <a:pathLst>
                    <a:path w="25" h="27">
                      <a:moveTo>
                        <a:pt x="11" y="18"/>
                      </a:moveTo>
                      <a:cubicBezTo>
                        <a:pt x="6" y="16"/>
                        <a:pt x="0" y="16"/>
                        <a:pt x="7" y="8"/>
                      </a:cubicBezTo>
                      <a:cubicBezTo>
                        <a:pt x="10" y="4"/>
                        <a:pt x="19" y="0"/>
                        <a:pt x="19" y="0"/>
                      </a:cubicBezTo>
                      <a:cubicBezTo>
                        <a:pt x="25" y="9"/>
                        <a:pt x="20" y="27"/>
                        <a:pt x="11" y="18"/>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92" name="Freeform 112"/>
                <p:cNvSpPr/>
                <p:nvPr/>
              </p:nvSpPr>
              <p:spPr>
                <a:xfrm>
                  <a:off x="3898440" y="2706120"/>
                  <a:ext cx="58320" cy="282600"/>
                </a:xfrm>
                <a:custGeom>
                  <a:avLst/>
                  <a:gdLst/>
                  <a:ahLst/>
                  <a:rect l="l" t="t" r="r" b="b"/>
                  <a:pathLst>
                    <a:path w="62" h="238">
                      <a:moveTo>
                        <a:pt x="3" y="60"/>
                      </a:moveTo>
                      <a:cubicBezTo>
                        <a:pt x="5" y="47"/>
                        <a:pt x="4" y="42"/>
                        <a:pt x="11" y="32"/>
                      </a:cubicBezTo>
                      <a:cubicBezTo>
                        <a:pt x="12" y="22"/>
                        <a:pt x="10" y="12"/>
                        <a:pt x="13" y="2"/>
                      </a:cubicBezTo>
                      <a:cubicBezTo>
                        <a:pt x="14" y="0"/>
                        <a:pt x="18" y="4"/>
                        <a:pt x="19" y="6"/>
                      </a:cubicBezTo>
                      <a:cubicBezTo>
                        <a:pt x="24" y="13"/>
                        <a:pt x="23" y="22"/>
                        <a:pt x="25" y="30"/>
                      </a:cubicBezTo>
                      <a:cubicBezTo>
                        <a:pt x="31" y="53"/>
                        <a:pt x="44" y="71"/>
                        <a:pt x="49" y="94"/>
                      </a:cubicBezTo>
                      <a:cubicBezTo>
                        <a:pt x="51" y="104"/>
                        <a:pt x="54" y="113"/>
                        <a:pt x="57" y="122"/>
                      </a:cubicBezTo>
                      <a:cubicBezTo>
                        <a:pt x="58" y="126"/>
                        <a:pt x="61" y="134"/>
                        <a:pt x="61" y="134"/>
                      </a:cubicBezTo>
                      <a:cubicBezTo>
                        <a:pt x="59" y="144"/>
                        <a:pt x="62" y="155"/>
                        <a:pt x="51" y="148"/>
                      </a:cubicBezTo>
                      <a:cubicBezTo>
                        <a:pt x="48" y="143"/>
                        <a:pt x="47" y="137"/>
                        <a:pt x="39" y="144"/>
                      </a:cubicBezTo>
                      <a:cubicBezTo>
                        <a:pt x="34" y="149"/>
                        <a:pt x="27" y="162"/>
                        <a:pt x="27" y="162"/>
                      </a:cubicBezTo>
                      <a:cubicBezTo>
                        <a:pt x="31" y="184"/>
                        <a:pt x="44" y="199"/>
                        <a:pt x="51" y="220"/>
                      </a:cubicBezTo>
                      <a:cubicBezTo>
                        <a:pt x="47" y="231"/>
                        <a:pt x="47" y="232"/>
                        <a:pt x="35" y="230"/>
                      </a:cubicBezTo>
                      <a:cubicBezTo>
                        <a:pt x="23" y="222"/>
                        <a:pt x="21" y="232"/>
                        <a:pt x="11" y="238"/>
                      </a:cubicBezTo>
                      <a:cubicBezTo>
                        <a:pt x="4" y="227"/>
                        <a:pt x="10" y="208"/>
                        <a:pt x="11" y="196"/>
                      </a:cubicBezTo>
                      <a:cubicBezTo>
                        <a:pt x="9" y="179"/>
                        <a:pt x="3" y="157"/>
                        <a:pt x="9" y="140"/>
                      </a:cubicBezTo>
                      <a:cubicBezTo>
                        <a:pt x="11" y="133"/>
                        <a:pt x="17" y="129"/>
                        <a:pt x="19" y="122"/>
                      </a:cubicBezTo>
                      <a:cubicBezTo>
                        <a:pt x="13" y="105"/>
                        <a:pt x="17" y="86"/>
                        <a:pt x="1" y="76"/>
                      </a:cubicBezTo>
                      <a:cubicBezTo>
                        <a:pt x="0" y="72"/>
                        <a:pt x="3" y="50"/>
                        <a:pt x="3"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3" name="Freeform 113"/>
                <p:cNvSpPr/>
                <p:nvPr/>
              </p:nvSpPr>
              <p:spPr>
                <a:xfrm>
                  <a:off x="2432520" y="3875760"/>
                  <a:ext cx="45000" cy="137160"/>
                </a:xfrm>
                <a:custGeom>
                  <a:avLst/>
                  <a:gdLst/>
                  <a:ahLst/>
                  <a:rect l="l" t="t" r="r" b="b"/>
                  <a:pathLst>
                    <a:path w="47" h="114">
                      <a:moveTo>
                        <a:pt x="6" y="58"/>
                      </a:moveTo>
                      <a:cubicBezTo>
                        <a:pt x="3" y="48"/>
                        <a:pt x="6" y="5"/>
                        <a:pt x="20" y="0"/>
                      </a:cubicBezTo>
                      <a:cubicBezTo>
                        <a:pt x="32" y="4"/>
                        <a:pt x="32" y="17"/>
                        <a:pt x="36" y="28"/>
                      </a:cubicBezTo>
                      <a:cubicBezTo>
                        <a:pt x="33" y="38"/>
                        <a:pt x="33" y="32"/>
                        <a:pt x="38" y="46"/>
                      </a:cubicBezTo>
                      <a:cubicBezTo>
                        <a:pt x="39" y="50"/>
                        <a:pt x="42" y="58"/>
                        <a:pt x="42" y="58"/>
                      </a:cubicBezTo>
                      <a:cubicBezTo>
                        <a:pt x="44" y="77"/>
                        <a:pt x="47" y="97"/>
                        <a:pt x="26" y="104"/>
                      </a:cubicBezTo>
                      <a:cubicBezTo>
                        <a:pt x="19" y="111"/>
                        <a:pt x="17" y="114"/>
                        <a:pt x="8" y="108"/>
                      </a:cubicBezTo>
                      <a:cubicBezTo>
                        <a:pt x="4" y="97"/>
                        <a:pt x="4" y="85"/>
                        <a:pt x="0" y="74"/>
                      </a:cubicBezTo>
                      <a:cubicBezTo>
                        <a:pt x="1" y="71"/>
                        <a:pt x="1" y="69"/>
                        <a:pt x="2" y="66"/>
                      </a:cubicBezTo>
                      <a:cubicBezTo>
                        <a:pt x="6" y="51"/>
                        <a:pt x="6" y="50"/>
                        <a:pt x="6" y="58"/>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4" name="Freeform 114"/>
                <p:cNvSpPr/>
                <p:nvPr/>
              </p:nvSpPr>
              <p:spPr>
                <a:xfrm>
                  <a:off x="2127600" y="3211560"/>
                  <a:ext cx="50760" cy="286200"/>
                </a:xfrm>
                <a:custGeom>
                  <a:avLst/>
                  <a:gdLst/>
                  <a:ahLst/>
                  <a:rect l="l" t="t" r="r" b="b"/>
                  <a:pathLst>
                    <a:path w="55" h="239">
                      <a:moveTo>
                        <a:pt x="24" y="11"/>
                      </a:moveTo>
                      <a:cubicBezTo>
                        <a:pt x="30" y="29"/>
                        <a:pt x="21" y="0"/>
                        <a:pt x="28" y="27"/>
                      </a:cubicBezTo>
                      <a:cubicBezTo>
                        <a:pt x="29" y="31"/>
                        <a:pt x="32" y="39"/>
                        <a:pt x="32" y="39"/>
                      </a:cubicBezTo>
                      <a:cubicBezTo>
                        <a:pt x="27" y="55"/>
                        <a:pt x="31" y="75"/>
                        <a:pt x="48" y="81"/>
                      </a:cubicBezTo>
                      <a:cubicBezTo>
                        <a:pt x="55" y="91"/>
                        <a:pt x="47" y="101"/>
                        <a:pt x="44" y="111"/>
                      </a:cubicBezTo>
                      <a:cubicBezTo>
                        <a:pt x="35" y="139"/>
                        <a:pt x="31" y="169"/>
                        <a:pt x="22" y="197"/>
                      </a:cubicBezTo>
                      <a:cubicBezTo>
                        <a:pt x="19" y="205"/>
                        <a:pt x="14" y="213"/>
                        <a:pt x="10" y="221"/>
                      </a:cubicBezTo>
                      <a:cubicBezTo>
                        <a:pt x="8" y="225"/>
                        <a:pt x="5" y="229"/>
                        <a:pt x="2" y="233"/>
                      </a:cubicBezTo>
                      <a:cubicBezTo>
                        <a:pt x="1" y="235"/>
                        <a:pt x="0" y="239"/>
                        <a:pt x="0" y="239"/>
                      </a:cubicBezTo>
                      <a:lnTo>
                        <a:pt x="2" y="123"/>
                      </a:lnTo>
                      <a:lnTo>
                        <a:pt x="16" y="29"/>
                      </a:lnTo>
                      <a:lnTo>
                        <a:pt x="24" y="11"/>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5" name="Freeform 115"/>
                <p:cNvSpPr/>
                <p:nvPr/>
              </p:nvSpPr>
              <p:spPr>
                <a:xfrm>
                  <a:off x="2724120" y="4195800"/>
                  <a:ext cx="273600" cy="478800"/>
                </a:xfrm>
                <a:custGeom>
                  <a:avLst/>
                  <a:gdLst/>
                  <a:ahLst/>
                  <a:rect l="l" t="t" r="r" b="b"/>
                  <a:pathLst>
                    <a:path w="291" h="399">
                      <a:moveTo>
                        <a:pt x="33" y="55"/>
                      </a:moveTo>
                      <a:cubicBezTo>
                        <a:pt x="20" y="52"/>
                        <a:pt x="27" y="55"/>
                        <a:pt x="13" y="45"/>
                      </a:cubicBezTo>
                      <a:cubicBezTo>
                        <a:pt x="11" y="44"/>
                        <a:pt x="7" y="41"/>
                        <a:pt x="7" y="41"/>
                      </a:cubicBezTo>
                      <a:cubicBezTo>
                        <a:pt x="2" y="34"/>
                        <a:pt x="0" y="31"/>
                        <a:pt x="3" y="23"/>
                      </a:cubicBezTo>
                      <a:cubicBezTo>
                        <a:pt x="5" y="8"/>
                        <a:pt x="2" y="0"/>
                        <a:pt x="17" y="5"/>
                      </a:cubicBezTo>
                      <a:cubicBezTo>
                        <a:pt x="21" y="9"/>
                        <a:pt x="26" y="11"/>
                        <a:pt x="29" y="15"/>
                      </a:cubicBezTo>
                      <a:cubicBezTo>
                        <a:pt x="34" y="21"/>
                        <a:pt x="32" y="27"/>
                        <a:pt x="41" y="31"/>
                      </a:cubicBezTo>
                      <a:cubicBezTo>
                        <a:pt x="47" y="34"/>
                        <a:pt x="59" y="37"/>
                        <a:pt x="59" y="37"/>
                      </a:cubicBezTo>
                      <a:cubicBezTo>
                        <a:pt x="69" y="53"/>
                        <a:pt x="67" y="66"/>
                        <a:pt x="83" y="77"/>
                      </a:cubicBezTo>
                      <a:cubicBezTo>
                        <a:pt x="88" y="84"/>
                        <a:pt x="96" y="92"/>
                        <a:pt x="103" y="97"/>
                      </a:cubicBezTo>
                      <a:cubicBezTo>
                        <a:pt x="113" y="111"/>
                        <a:pt x="119" y="135"/>
                        <a:pt x="137" y="141"/>
                      </a:cubicBezTo>
                      <a:cubicBezTo>
                        <a:pt x="150" y="161"/>
                        <a:pt x="168" y="178"/>
                        <a:pt x="185" y="195"/>
                      </a:cubicBezTo>
                      <a:cubicBezTo>
                        <a:pt x="202" y="212"/>
                        <a:pt x="178" y="191"/>
                        <a:pt x="191" y="207"/>
                      </a:cubicBezTo>
                      <a:cubicBezTo>
                        <a:pt x="196" y="214"/>
                        <a:pt x="208" y="214"/>
                        <a:pt x="215" y="219"/>
                      </a:cubicBezTo>
                      <a:cubicBezTo>
                        <a:pt x="219" y="230"/>
                        <a:pt x="231" y="236"/>
                        <a:pt x="241" y="239"/>
                      </a:cubicBezTo>
                      <a:cubicBezTo>
                        <a:pt x="235" y="241"/>
                        <a:pt x="234" y="243"/>
                        <a:pt x="227" y="239"/>
                      </a:cubicBezTo>
                      <a:cubicBezTo>
                        <a:pt x="223" y="237"/>
                        <a:pt x="215" y="231"/>
                        <a:pt x="215" y="231"/>
                      </a:cubicBezTo>
                      <a:cubicBezTo>
                        <a:pt x="211" y="232"/>
                        <a:pt x="205" y="233"/>
                        <a:pt x="205" y="239"/>
                      </a:cubicBezTo>
                      <a:cubicBezTo>
                        <a:pt x="205" y="245"/>
                        <a:pt x="218" y="251"/>
                        <a:pt x="221" y="255"/>
                      </a:cubicBezTo>
                      <a:cubicBezTo>
                        <a:pt x="229" y="266"/>
                        <a:pt x="233" y="273"/>
                        <a:pt x="237" y="285"/>
                      </a:cubicBezTo>
                      <a:cubicBezTo>
                        <a:pt x="238" y="289"/>
                        <a:pt x="237" y="295"/>
                        <a:pt x="241" y="297"/>
                      </a:cubicBezTo>
                      <a:cubicBezTo>
                        <a:pt x="249" y="303"/>
                        <a:pt x="245" y="299"/>
                        <a:pt x="253" y="307"/>
                      </a:cubicBezTo>
                      <a:cubicBezTo>
                        <a:pt x="258" y="293"/>
                        <a:pt x="258" y="299"/>
                        <a:pt x="255" y="289"/>
                      </a:cubicBezTo>
                      <a:cubicBezTo>
                        <a:pt x="258" y="279"/>
                        <a:pt x="262" y="281"/>
                        <a:pt x="271" y="283"/>
                      </a:cubicBezTo>
                      <a:cubicBezTo>
                        <a:pt x="289" y="301"/>
                        <a:pt x="270" y="278"/>
                        <a:pt x="273" y="295"/>
                      </a:cubicBezTo>
                      <a:cubicBezTo>
                        <a:pt x="273" y="297"/>
                        <a:pt x="277" y="297"/>
                        <a:pt x="279" y="299"/>
                      </a:cubicBezTo>
                      <a:cubicBezTo>
                        <a:pt x="283" y="303"/>
                        <a:pt x="291" y="311"/>
                        <a:pt x="291" y="311"/>
                      </a:cubicBezTo>
                      <a:cubicBezTo>
                        <a:pt x="288" y="325"/>
                        <a:pt x="285" y="322"/>
                        <a:pt x="275" y="315"/>
                      </a:cubicBezTo>
                      <a:cubicBezTo>
                        <a:pt x="272" y="323"/>
                        <a:pt x="274" y="327"/>
                        <a:pt x="277" y="335"/>
                      </a:cubicBezTo>
                      <a:cubicBezTo>
                        <a:pt x="275" y="347"/>
                        <a:pt x="277" y="356"/>
                        <a:pt x="281" y="367"/>
                      </a:cubicBezTo>
                      <a:cubicBezTo>
                        <a:pt x="278" y="376"/>
                        <a:pt x="276" y="384"/>
                        <a:pt x="273" y="393"/>
                      </a:cubicBezTo>
                      <a:cubicBezTo>
                        <a:pt x="272" y="395"/>
                        <a:pt x="271" y="399"/>
                        <a:pt x="271" y="399"/>
                      </a:cubicBezTo>
                      <a:cubicBezTo>
                        <a:pt x="260" y="395"/>
                        <a:pt x="266" y="399"/>
                        <a:pt x="257" y="385"/>
                      </a:cubicBezTo>
                      <a:cubicBezTo>
                        <a:pt x="253" y="380"/>
                        <a:pt x="239" y="379"/>
                        <a:pt x="239" y="379"/>
                      </a:cubicBezTo>
                      <a:cubicBezTo>
                        <a:pt x="232" y="369"/>
                        <a:pt x="223" y="362"/>
                        <a:pt x="213" y="355"/>
                      </a:cubicBezTo>
                      <a:cubicBezTo>
                        <a:pt x="209" y="352"/>
                        <a:pt x="201" y="347"/>
                        <a:pt x="201" y="347"/>
                      </a:cubicBezTo>
                      <a:cubicBezTo>
                        <a:pt x="196" y="340"/>
                        <a:pt x="197" y="336"/>
                        <a:pt x="189" y="333"/>
                      </a:cubicBezTo>
                      <a:cubicBezTo>
                        <a:pt x="183" y="327"/>
                        <a:pt x="181" y="321"/>
                        <a:pt x="175" y="315"/>
                      </a:cubicBezTo>
                      <a:cubicBezTo>
                        <a:pt x="170" y="299"/>
                        <a:pt x="164" y="292"/>
                        <a:pt x="153" y="281"/>
                      </a:cubicBezTo>
                      <a:cubicBezTo>
                        <a:pt x="149" y="270"/>
                        <a:pt x="140" y="255"/>
                        <a:pt x="133" y="245"/>
                      </a:cubicBezTo>
                      <a:cubicBezTo>
                        <a:pt x="131" y="231"/>
                        <a:pt x="121" y="222"/>
                        <a:pt x="117" y="209"/>
                      </a:cubicBezTo>
                      <a:cubicBezTo>
                        <a:pt x="121" y="198"/>
                        <a:pt x="129" y="205"/>
                        <a:pt x="119" y="195"/>
                      </a:cubicBezTo>
                      <a:cubicBezTo>
                        <a:pt x="100" y="200"/>
                        <a:pt x="101" y="179"/>
                        <a:pt x="93" y="167"/>
                      </a:cubicBezTo>
                      <a:cubicBezTo>
                        <a:pt x="89" y="162"/>
                        <a:pt x="85" y="149"/>
                        <a:pt x="85" y="149"/>
                      </a:cubicBezTo>
                      <a:cubicBezTo>
                        <a:pt x="84" y="140"/>
                        <a:pt x="80" y="124"/>
                        <a:pt x="73" y="117"/>
                      </a:cubicBezTo>
                      <a:cubicBezTo>
                        <a:pt x="68" y="112"/>
                        <a:pt x="55" y="107"/>
                        <a:pt x="55" y="107"/>
                      </a:cubicBezTo>
                      <a:cubicBezTo>
                        <a:pt x="48" y="97"/>
                        <a:pt x="51" y="85"/>
                        <a:pt x="41" y="79"/>
                      </a:cubicBezTo>
                      <a:cubicBezTo>
                        <a:pt x="40" y="77"/>
                        <a:pt x="29" y="57"/>
                        <a:pt x="29" y="55"/>
                      </a:cubicBezTo>
                      <a:cubicBezTo>
                        <a:pt x="29" y="54"/>
                        <a:pt x="32" y="55"/>
                        <a:pt x="33" y="55"/>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6" name="Freeform 116"/>
                <p:cNvSpPr/>
                <p:nvPr/>
              </p:nvSpPr>
              <p:spPr>
                <a:xfrm>
                  <a:off x="2732760" y="4293360"/>
                  <a:ext cx="29160" cy="40680"/>
                </a:xfrm>
                <a:custGeom>
                  <a:avLst/>
                  <a:gdLst/>
                  <a:ahLst/>
                  <a:rect l="l" t="t" r="r" b="b"/>
                  <a:pathLst>
                    <a:path w="31" h="33">
                      <a:moveTo>
                        <a:pt x="18" y="21"/>
                      </a:moveTo>
                      <a:cubicBezTo>
                        <a:pt x="8" y="18"/>
                        <a:pt x="3" y="13"/>
                        <a:pt x="0" y="3"/>
                      </a:cubicBezTo>
                      <a:cubicBezTo>
                        <a:pt x="8" y="0"/>
                        <a:pt x="14" y="2"/>
                        <a:pt x="22" y="5"/>
                      </a:cubicBezTo>
                      <a:cubicBezTo>
                        <a:pt x="31" y="33"/>
                        <a:pt x="2" y="16"/>
                        <a:pt x="18" y="21"/>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7" name="Freeform 117"/>
                <p:cNvSpPr/>
                <p:nvPr/>
              </p:nvSpPr>
              <p:spPr>
                <a:xfrm>
                  <a:off x="2768400" y="4356000"/>
                  <a:ext cx="28440" cy="40680"/>
                </a:xfrm>
                <a:custGeom>
                  <a:avLst/>
                  <a:gdLst/>
                  <a:ahLst/>
                  <a:rect l="l" t="t" r="r" b="b"/>
                  <a:pathLst>
                    <a:path w="28" h="34">
                      <a:moveTo>
                        <a:pt x="16" y="28"/>
                      </a:moveTo>
                      <a:cubicBezTo>
                        <a:pt x="11" y="21"/>
                        <a:pt x="7" y="17"/>
                        <a:pt x="0" y="12"/>
                      </a:cubicBezTo>
                      <a:cubicBezTo>
                        <a:pt x="3" y="2"/>
                        <a:pt x="5" y="0"/>
                        <a:pt x="14" y="6"/>
                      </a:cubicBezTo>
                      <a:cubicBezTo>
                        <a:pt x="20" y="14"/>
                        <a:pt x="25" y="21"/>
                        <a:pt x="28" y="30"/>
                      </a:cubicBezTo>
                      <a:cubicBezTo>
                        <a:pt x="15" y="34"/>
                        <a:pt x="22" y="22"/>
                        <a:pt x="16" y="28"/>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8" name="Freeform 118"/>
                <p:cNvSpPr/>
                <p:nvPr/>
              </p:nvSpPr>
              <p:spPr>
                <a:xfrm>
                  <a:off x="2793960" y="4452120"/>
                  <a:ext cx="29160" cy="31320"/>
                </a:xfrm>
                <a:custGeom>
                  <a:avLst/>
                  <a:gdLst/>
                  <a:ahLst/>
                  <a:rect l="l" t="t" r="r" b="b"/>
                  <a:pathLst>
                    <a:path w="28" h="23">
                      <a:moveTo>
                        <a:pt x="14" y="20"/>
                      </a:moveTo>
                      <a:cubicBezTo>
                        <a:pt x="8" y="11"/>
                        <a:pt x="0" y="5"/>
                        <a:pt x="14" y="0"/>
                      </a:cubicBezTo>
                      <a:cubicBezTo>
                        <a:pt x="20" y="2"/>
                        <a:pt x="28" y="14"/>
                        <a:pt x="28" y="14"/>
                      </a:cubicBezTo>
                      <a:cubicBezTo>
                        <a:pt x="27" y="17"/>
                        <a:pt x="28" y="21"/>
                        <a:pt x="26" y="22"/>
                      </a:cubicBezTo>
                      <a:cubicBezTo>
                        <a:pt x="24" y="23"/>
                        <a:pt x="8" y="14"/>
                        <a:pt x="14" y="20"/>
                      </a:cubicBezTo>
                      <a:close/>
                    </a:path>
                  </a:pathLst>
                </a:custGeom>
                <a:solidFill>
                  <a:srgbClr val="8000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Black"/>
                  </a:endParaRPr>
                </a:p>
              </p:txBody>
            </p:sp>
            <p:sp>
              <p:nvSpPr>
                <p:cNvPr id="199" name="Freeform 119"/>
                <p:cNvSpPr/>
                <p:nvPr/>
              </p:nvSpPr>
              <p:spPr>
                <a:xfrm>
                  <a:off x="3087720" y="3838320"/>
                  <a:ext cx="72360" cy="70920"/>
                </a:xfrm>
                <a:custGeom>
                  <a:avLst/>
                  <a:gdLst/>
                  <a:ahLst/>
                  <a:rect l="l" t="t" r="r" b="b"/>
                  <a:pathLst>
                    <a:path w="77" h="60">
                      <a:moveTo>
                        <a:pt x="14" y="54"/>
                      </a:moveTo>
                      <a:cubicBezTo>
                        <a:pt x="4" y="52"/>
                        <a:pt x="3" y="49"/>
                        <a:pt x="0" y="40"/>
                      </a:cubicBezTo>
                      <a:cubicBezTo>
                        <a:pt x="2" y="25"/>
                        <a:pt x="5" y="15"/>
                        <a:pt x="20" y="10"/>
                      </a:cubicBezTo>
                      <a:cubicBezTo>
                        <a:pt x="23" y="6"/>
                        <a:pt x="24" y="1"/>
                        <a:pt x="30" y="2"/>
                      </a:cubicBezTo>
                      <a:cubicBezTo>
                        <a:pt x="34" y="2"/>
                        <a:pt x="42" y="6"/>
                        <a:pt x="42" y="6"/>
                      </a:cubicBezTo>
                      <a:cubicBezTo>
                        <a:pt x="49" y="4"/>
                        <a:pt x="55" y="0"/>
                        <a:pt x="62" y="4"/>
                      </a:cubicBezTo>
                      <a:cubicBezTo>
                        <a:pt x="66" y="6"/>
                        <a:pt x="74" y="12"/>
                        <a:pt x="74" y="12"/>
                      </a:cubicBezTo>
                      <a:cubicBezTo>
                        <a:pt x="77" y="22"/>
                        <a:pt x="75" y="25"/>
                        <a:pt x="68" y="32"/>
                      </a:cubicBezTo>
                      <a:cubicBezTo>
                        <a:pt x="56" y="28"/>
                        <a:pt x="54" y="36"/>
                        <a:pt x="46" y="44"/>
                      </a:cubicBezTo>
                      <a:cubicBezTo>
                        <a:pt x="45" y="47"/>
                        <a:pt x="43" y="54"/>
                        <a:pt x="40" y="56"/>
                      </a:cubicBezTo>
                      <a:cubicBezTo>
                        <a:pt x="36" y="58"/>
                        <a:pt x="28" y="60"/>
                        <a:pt x="28" y="60"/>
                      </a:cubicBezTo>
                      <a:cubicBezTo>
                        <a:pt x="23" y="59"/>
                        <a:pt x="9" y="54"/>
                        <a:pt x="14" y="54"/>
                      </a:cubicBezTo>
                      <a:close/>
                    </a:path>
                  </a:pathLst>
                </a:custGeom>
                <a:solidFill>
                  <a:srgbClr val="80000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Black"/>
                  </a:endParaRPr>
                </a:p>
              </p:txBody>
            </p:sp>
            <p:sp>
              <p:nvSpPr>
                <p:cNvPr id="200" name="Freeform 120"/>
                <p:cNvSpPr/>
                <p:nvPr/>
              </p:nvSpPr>
              <p:spPr>
                <a:xfrm>
                  <a:off x="3390480" y="3711960"/>
                  <a:ext cx="54720" cy="121680"/>
                </a:xfrm>
                <a:custGeom>
                  <a:avLst/>
                  <a:gdLst/>
                  <a:ahLst/>
                  <a:rect l="l" t="t" r="r" b="b"/>
                  <a:pathLst>
                    <a:path w="59" h="102">
                      <a:moveTo>
                        <a:pt x="35" y="60"/>
                      </a:moveTo>
                      <a:cubicBezTo>
                        <a:pt x="32" y="68"/>
                        <a:pt x="34" y="71"/>
                        <a:pt x="39" y="78"/>
                      </a:cubicBezTo>
                      <a:cubicBezTo>
                        <a:pt x="38" y="80"/>
                        <a:pt x="38" y="82"/>
                        <a:pt x="37" y="84"/>
                      </a:cubicBezTo>
                      <a:cubicBezTo>
                        <a:pt x="36" y="86"/>
                        <a:pt x="34" y="88"/>
                        <a:pt x="33" y="90"/>
                      </a:cubicBezTo>
                      <a:cubicBezTo>
                        <a:pt x="31" y="94"/>
                        <a:pt x="29" y="102"/>
                        <a:pt x="29" y="102"/>
                      </a:cubicBezTo>
                      <a:cubicBezTo>
                        <a:pt x="7" y="98"/>
                        <a:pt x="18" y="88"/>
                        <a:pt x="3" y="78"/>
                      </a:cubicBezTo>
                      <a:cubicBezTo>
                        <a:pt x="0" y="70"/>
                        <a:pt x="0" y="67"/>
                        <a:pt x="9" y="64"/>
                      </a:cubicBezTo>
                      <a:cubicBezTo>
                        <a:pt x="15" y="56"/>
                        <a:pt x="12" y="54"/>
                        <a:pt x="7" y="46"/>
                      </a:cubicBezTo>
                      <a:cubicBezTo>
                        <a:pt x="10" y="33"/>
                        <a:pt x="11" y="37"/>
                        <a:pt x="21" y="30"/>
                      </a:cubicBezTo>
                      <a:cubicBezTo>
                        <a:pt x="28" y="19"/>
                        <a:pt x="36" y="10"/>
                        <a:pt x="43" y="0"/>
                      </a:cubicBezTo>
                      <a:cubicBezTo>
                        <a:pt x="52" y="3"/>
                        <a:pt x="52" y="6"/>
                        <a:pt x="49" y="14"/>
                      </a:cubicBezTo>
                      <a:cubicBezTo>
                        <a:pt x="59" y="17"/>
                        <a:pt x="53" y="25"/>
                        <a:pt x="51" y="34"/>
                      </a:cubicBezTo>
                      <a:cubicBezTo>
                        <a:pt x="54" y="46"/>
                        <a:pt x="49" y="59"/>
                        <a:pt x="39" y="66"/>
                      </a:cubicBezTo>
                      <a:cubicBezTo>
                        <a:pt x="32" y="61"/>
                        <a:pt x="31" y="64"/>
                        <a:pt x="35"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1" name="Freeform 121"/>
                <p:cNvSpPr/>
                <p:nvPr/>
              </p:nvSpPr>
              <p:spPr>
                <a:xfrm>
                  <a:off x="3585960" y="3684600"/>
                  <a:ext cx="33120" cy="34920"/>
                </a:xfrm>
                <a:custGeom>
                  <a:avLst/>
                  <a:gdLst/>
                  <a:ahLst/>
                  <a:rect l="l" t="t" r="r" b="b"/>
                  <a:pathLst>
                    <a:path w="35" h="32">
                      <a:moveTo>
                        <a:pt x="4" y="22"/>
                      </a:moveTo>
                      <a:cubicBezTo>
                        <a:pt x="6" y="13"/>
                        <a:pt x="13" y="5"/>
                        <a:pt x="20" y="0"/>
                      </a:cubicBezTo>
                      <a:cubicBezTo>
                        <a:pt x="35" y="5"/>
                        <a:pt x="19" y="17"/>
                        <a:pt x="12" y="22"/>
                      </a:cubicBezTo>
                      <a:cubicBezTo>
                        <a:pt x="9" y="32"/>
                        <a:pt x="0" y="31"/>
                        <a:pt x="4" y="22"/>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02" name="Freeform 122"/>
                <p:cNvSpPr/>
                <p:nvPr/>
              </p:nvSpPr>
              <p:spPr>
                <a:xfrm>
                  <a:off x="3631320" y="3626640"/>
                  <a:ext cx="29160" cy="20160"/>
                </a:xfrm>
                <a:custGeom>
                  <a:avLst/>
                  <a:gdLst/>
                  <a:ahLst/>
                  <a:rect l="l" t="t" r="r" b="b"/>
                  <a:pathLst>
                    <a:path w="30" h="16">
                      <a:moveTo>
                        <a:pt x="4" y="12"/>
                      </a:moveTo>
                      <a:cubicBezTo>
                        <a:pt x="1" y="3"/>
                        <a:pt x="6" y="3"/>
                        <a:pt x="14" y="0"/>
                      </a:cubicBezTo>
                      <a:cubicBezTo>
                        <a:pt x="30" y="5"/>
                        <a:pt x="14" y="12"/>
                        <a:pt x="6" y="14"/>
                      </a:cubicBezTo>
                      <a:cubicBezTo>
                        <a:pt x="4" y="14"/>
                        <a:pt x="2" y="15"/>
                        <a:pt x="0" y="16"/>
                      </a:cubicBezTo>
                      <a:cubicBezTo>
                        <a:pt x="2" y="9"/>
                        <a:pt x="1" y="9"/>
                        <a:pt x="4" y="12"/>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grpSp>
          <p:grpSp>
            <p:nvGrpSpPr>
              <p:cNvPr id="203" name="Group 123"/>
              <p:cNvGrpSpPr/>
              <p:nvPr/>
            </p:nvGrpSpPr>
            <p:grpSpPr>
              <a:xfrm>
                <a:off x="2122920" y="1447920"/>
                <a:ext cx="3131640" cy="4097520"/>
                <a:chOff x="2122920" y="1447920"/>
                <a:chExt cx="3131640" cy="4097520"/>
              </a:xfrm>
            </p:grpSpPr>
            <p:sp>
              <p:nvSpPr>
                <p:cNvPr id="204" name="Freeform 124"/>
                <p:cNvSpPr/>
                <p:nvPr/>
              </p:nvSpPr>
              <p:spPr>
                <a:xfrm>
                  <a:off x="3059280" y="4323960"/>
                  <a:ext cx="275400" cy="327240"/>
                </a:xfrm>
                <a:custGeom>
                  <a:avLst/>
                  <a:gdLst/>
                  <a:ahLst/>
                  <a:rect l="l" t="t" r="r" b="b"/>
                  <a:pathLst>
                    <a:path w="292" h="274">
                      <a:moveTo>
                        <a:pt x="69" y="73"/>
                      </a:moveTo>
                      <a:cubicBezTo>
                        <a:pt x="83" y="82"/>
                        <a:pt x="85" y="82"/>
                        <a:pt x="102" y="79"/>
                      </a:cubicBezTo>
                      <a:cubicBezTo>
                        <a:pt x="129" y="61"/>
                        <a:pt x="143" y="39"/>
                        <a:pt x="177" y="34"/>
                      </a:cubicBezTo>
                      <a:cubicBezTo>
                        <a:pt x="183" y="30"/>
                        <a:pt x="189" y="26"/>
                        <a:pt x="195" y="22"/>
                      </a:cubicBezTo>
                      <a:cubicBezTo>
                        <a:pt x="198" y="20"/>
                        <a:pt x="204" y="16"/>
                        <a:pt x="204" y="16"/>
                      </a:cubicBezTo>
                      <a:cubicBezTo>
                        <a:pt x="206" y="13"/>
                        <a:pt x="207" y="9"/>
                        <a:pt x="210" y="7"/>
                      </a:cubicBezTo>
                      <a:cubicBezTo>
                        <a:pt x="215" y="4"/>
                        <a:pt x="228" y="1"/>
                        <a:pt x="228" y="1"/>
                      </a:cubicBezTo>
                      <a:cubicBezTo>
                        <a:pt x="250" y="5"/>
                        <a:pt x="240" y="0"/>
                        <a:pt x="255" y="22"/>
                      </a:cubicBezTo>
                      <a:cubicBezTo>
                        <a:pt x="257" y="25"/>
                        <a:pt x="263" y="24"/>
                        <a:pt x="267" y="25"/>
                      </a:cubicBezTo>
                      <a:cubicBezTo>
                        <a:pt x="273" y="27"/>
                        <a:pt x="285" y="31"/>
                        <a:pt x="285" y="31"/>
                      </a:cubicBezTo>
                      <a:cubicBezTo>
                        <a:pt x="287" y="34"/>
                        <a:pt x="292" y="37"/>
                        <a:pt x="291" y="40"/>
                      </a:cubicBezTo>
                      <a:cubicBezTo>
                        <a:pt x="290" y="43"/>
                        <a:pt x="284" y="41"/>
                        <a:pt x="282" y="43"/>
                      </a:cubicBezTo>
                      <a:cubicBezTo>
                        <a:pt x="266" y="59"/>
                        <a:pt x="273" y="63"/>
                        <a:pt x="252" y="70"/>
                      </a:cubicBezTo>
                      <a:cubicBezTo>
                        <a:pt x="247" y="78"/>
                        <a:pt x="240" y="97"/>
                        <a:pt x="240" y="97"/>
                      </a:cubicBezTo>
                      <a:cubicBezTo>
                        <a:pt x="254" y="118"/>
                        <a:pt x="254" y="108"/>
                        <a:pt x="249" y="124"/>
                      </a:cubicBezTo>
                      <a:cubicBezTo>
                        <a:pt x="252" y="133"/>
                        <a:pt x="270" y="145"/>
                        <a:pt x="270" y="145"/>
                      </a:cubicBezTo>
                      <a:cubicBezTo>
                        <a:pt x="278" y="170"/>
                        <a:pt x="277" y="164"/>
                        <a:pt x="252" y="169"/>
                      </a:cubicBezTo>
                      <a:cubicBezTo>
                        <a:pt x="247" y="176"/>
                        <a:pt x="244" y="190"/>
                        <a:pt x="237" y="196"/>
                      </a:cubicBezTo>
                      <a:cubicBezTo>
                        <a:pt x="232" y="200"/>
                        <a:pt x="225" y="201"/>
                        <a:pt x="219" y="205"/>
                      </a:cubicBezTo>
                      <a:cubicBezTo>
                        <a:pt x="209" y="220"/>
                        <a:pt x="207" y="238"/>
                        <a:pt x="201" y="256"/>
                      </a:cubicBezTo>
                      <a:cubicBezTo>
                        <a:pt x="199" y="262"/>
                        <a:pt x="171" y="272"/>
                        <a:pt x="165" y="274"/>
                      </a:cubicBezTo>
                      <a:cubicBezTo>
                        <a:pt x="162" y="273"/>
                        <a:pt x="158" y="273"/>
                        <a:pt x="156" y="271"/>
                      </a:cubicBezTo>
                      <a:cubicBezTo>
                        <a:pt x="154" y="269"/>
                        <a:pt x="156" y="264"/>
                        <a:pt x="153" y="262"/>
                      </a:cubicBezTo>
                      <a:cubicBezTo>
                        <a:pt x="148" y="258"/>
                        <a:pt x="135" y="256"/>
                        <a:pt x="135" y="256"/>
                      </a:cubicBezTo>
                      <a:cubicBezTo>
                        <a:pt x="132" y="252"/>
                        <a:pt x="127" y="241"/>
                        <a:pt x="120" y="241"/>
                      </a:cubicBezTo>
                      <a:cubicBezTo>
                        <a:pt x="114" y="241"/>
                        <a:pt x="102" y="247"/>
                        <a:pt x="102" y="247"/>
                      </a:cubicBezTo>
                      <a:cubicBezTo>
                        <a:pt x="95" y="245"/>
                        <a:pt x="87" y="246"/>
                        <a:pt x="81" y="241"/>
                      </a:cubicBezTo>
                      <a:cubicBezTo>
                        <a:pt x="79" y="239"/>
                        <a:pt x="80" y="234"/>
                        <a:pt x="78" y="232"/>
                      </a:cubicBezTo>
                      <a:cubicBezTo>
                        <a:pt x="76" y="229"/>
                        <a:pt x="72" y="228"/>
                        <a:pt x="69" y="226"/>
                      </a:cubicBezTo>
                      <a:cubicBezTo>
                        <a:pt x="60" y="229"/>
                        <a:pt x="42" y="223"/>
                        <a:pt x="42" y="223"/>
                      </a:cubicBezTo>
                      <a:cubicBezTo>
                        <a:pt x="33" y="210"/>
                        <a:pt x="44" y="187"/>
                        <a:pt x="33" y="175"/>
                      </a:cubicBezTo>
                      <a:cubicBezTo>
                        <a:pt x="29" y="170"/>
                        <a:pt x="15" y="169"/>
                        <a:pt x="15" y="169"/>
                      </a:cubicBezTo>
                      <a:cubicBezTo>
                        <a:pt x="9" y="151"/>
                        <a:pt x="3" y="137"/>
                        <a:pt x="0" y="118"/>
                      </a:cubicBezTo>
                      <a:cubicBezTo>
                        <a:pt x="3" y="102"/>
                        <a:pt x="2" y="87"/>
                        <a:pt x="18" y="82"/>
                      </a:cubicBezTo>
                      <a:cubicBezTo>
                        <a:pt x="34" y="93"/>
                        <a:pt x="40" y="94"/>
                        <a:pt x="57" y="100"/>
                      </a:cubicBezTo>
                      <a:cubicBezTo>
                        <a:pt x="52" y="86"/>
                        <a:pt x="53" y="73"/>
                        <a:pt x="69" y="73"/>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5" name="Freeform 125"/>
                <p:cNvSpPr/>
                <p:nvPr/>
              </p:nvSpPr>
              <p:spPr>
                <a:xfrm>
                  <a:off x="2975040" y="4643280"/>
                  <a:ext cx="363240" cy="175680"/>
                </a:xfrm>
                <a:custGeom>
                  <a:avLst/>
                  <a:gdLst/>
                  <a:ahLst/>
                  <a:rect l="l" t="t" r="r" b="b"/>
                  <a:pathLst>
                    <a:path w="384" h="144">
                      <a:moveTo>
                        <a:pt x="0" y="12"/>
                      </a:moveTo>
                      <a:cubicBezTo>
                        <a:pt x="18" y="0"/>
                        <a:pt x="27" y="5"/>
                        <a:pt x="48" y="12"/>
                      </a:cubicBezTo>
                      <a:cubicBezTo>
                        <a:pt x="57" y="15"/>
                        <a:pt x="75" y="21"/>
                        <a:pt x="75" y="21"/>
                      </a:cubicBezTo>
                      <a:cubicBezTo>
                        <a:pt x="83" y="33"/>
                        <a:pt x="95" y="39"/>
                        <a:pt x="108" y="45"/>
                      </a:cubicBezTo>
                      <a:cubicBezTo>
                        <a:pt x="114" y="48"/>
                        <a:pt x="126" y="51"/>
                        <a:pt x="126" y="51"/>
                      </a:cubicBezTo>
                      <a:cubicBezTo>
                        <a:pt x="138" y="43"/>
                        <a:pt x="141" y="40"/>
                        <a:pt x="153" y="48"/>
                      </a:cubicBezTo>
                      <a:cubicBezTo>
                        <a:pt x="164" y="65"/>
                        <a:pt x="182" y="64"/>
                        <a:pt x="201" y="66"/>
                      </a:cubicBezTo>
                      <a:cubicBezTo>
                        <a:pt x="222" y="73"/>
                        <a:pt x="214" y="68"/>
                        <a:pt x="228" y="78"/>
                      </a:cubicBezTo>
                      <a:cubicBezTo>
                        <a:pt x="214" y="88"/>
                        <a:pt x="222" y="91"/>
                        <a:pt x="234" y="99"/>
                      </a:cubicBezTo>
                      <a:cubicBezTo>
                        <a:pt x="261" y="95"/>
                        <a:pt x="273" y="109"/>
                        <a:pt x="297" y="117"/>
                      </a:cubicBezTo>
                      <a:cubicBezTo>
                        <a:pt x="306" y="120"/>
                        <a:pt x="324" y="126"/>
                        <a:pt x="324" y="126"/>
                      </a:cubicBezTo>
                      <a:cubicBezTo>
                        <a:pt x="344" y="121"/>
                        <a:pt x="364" y="128"/>
                        <a:pt x="384" y="135"/>
                      </a:cubicBezTo>
                      <a:cubicBezTo>
                        <a:pt x="370" y="144"/>
                        <a:pt x="359" y="137"/>
                        <a:pt x="342" y="135"/>
                      </a:cubicBezTo>
                      <a:cubicBezTo>
                        <a:pt x="328" y="140"/>
                        <a:pt x="281" y="126"/>
                        <a:pt x="267" y="117"/>
                      </a:cubicBezTo>
                      <a:cubicBezTo>
                        <a:pt x="259" y="112"/>
                        <a:pt x="240" y="105"/>
                        <a:pt x="240" y="105"/>
                      </a:cubicBezTo>
                      <a:cubicBezTo>
                        <a:pt x="226" y="110"/>
                        <a:pt x="203" y="103"/>
                        <a:pt x="189" y="102"/>
                      </a:cubicBezTo>
                      <a:cubicBezTo>
                        <a:pt x="174" y="107"/>
                        <a:pt x="158" y="94"/>
                        <a:pt x="144" y="87"/>
                      </a:cubicBezTo>
                      <a:cubicBezTo>
                        <a:pt x="122" y="76"/>
                        <a:pt x="99" y="68"/>
                        <a:pt x="75" y="63"/>
                      </a:cubicBezTo>
                      <a:cubicBezTo>
                        <a:pt x="51" y="47"/>
                        <a:pt x="10" y="43"/>
                        <a:pt x="0" y="1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6" name="Freeform 126"/>
                <p:cNvSpPr/>
                <p:nvPr/>
              </p:nvSpPr>
              <p:spPr>
                <a:xfrm>
                  <a:off x="3016800" y="4562280"/>
                  <a:ext cx="28080" cy="30240"/>
                </a:xfrm>
                <a:custGeom>
                  <a:avLst/>
                  <a:gdLst/>
                  <a:ahLst/>
                  <a:rect l="l" t="t" r="r" b="b"/>
                  <a:pathLst>
                    <a:path w="30" h="24">
                      <a:moveTo>
                        <a:pt x="18" y="24"/>
                      </a:moveTo>
                      <a:cubicBezTo>
                        <a:pt x="6" y="16"/>
                        <a:pt x="0" y="13"/>
                        <a:pt x="9" y="0"/>
                      </a:cubicBezTo>
                      <a:cubicBezTo>
                        <a:pt x="23" y="3"/>
                        <a:pt x="30" y="12"/>
                        <a:pt x="18" y="24"/>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07" name="Freeform 127"/>
                <p:cNvSpPr/>
                <p:nvPr/>
              </p:nvSpPr>
              <p:spPr>
                <a:xfrm>
                  <a:off x="3292560" y="4179600"/>
                  <a:ext cx="70560" cy="75600"/>
                </a:xfrm>
                <a:custGeom>
                  <a:avLst/>
                  <a:gdLst/>
                  <a:ahLst/>
                  <a:rect l="l" t="t" r="r" b="b"/>
                  <a:pathLst>
                    <a:path w="75" h="63">
                      <a:moveTo>
                        <a:pt x="8" y="51"/>
                      </a:moveTo>
                      <a:cubicBezTo>
                        <a:pt x="27" y="38"/>
                        <a:pt x="43" y="22"/>
                        <a:pt x="50" y="0"/>
                      </a:cubicBezTo>
                      <a:cubicBezTo>
                        <a:pt x="75" y="6"/>
                        <a:pt x="57" y="21"/>
                        <a:pt x="44" y="30"/>
                      </a:cubicBezTo>
                      <a:cubicBezTo>
                        <a:pt x="36" y="43"/>
                        <a:pt x="23" y="49"/>
                        <a:pt x="11" y="57"/>
                      </a:cubicBezTo>
                      <a:cubicBezTo>
                        <a:pt x="8" y="59"/>
                        <a:pt x="3" y="63"/>
                        <a:pt x="2" y="60"/>
                      </a:cubicBezTo>
                      <a:cubicBezTo>
                        <a:pt x="0" y="57"/>
                        <a:pt x="6" y="54"/>
                        <a:pt x="8" y="51"/>
                      </a:cubicBezTo>
                      <a:close/>
                    </a:path>
                  </a:pathLst>
                </a:custGeom>
                <a:solidFill>
                  <a:srgbClr val="ce000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Black"/>
                  </a:endParaRPr>
                </a:p>
              </p:txBody>
            </p:sp>
            <p:sp>
              <p:nvSpPr>
                <p:cNvPr id="208" name="Freeform 128"/>
                <p:cNvSpPr/>
                <p:nvPr/>
              </p:nvSpPr>
              <p:spPr>
                <a:xfrm>
                  <a:off x="3361320" y="3928320"/>
                  <a:ext cx="151920" cy="341640"/>
                </a:xfrm>
                <a:custGeom>
                  <a:avLst/>
                  <a:gdLst/>
                  <a:ahLst/>
                  <a:rect l="l" t="t" r="r" b="b"/>
                  <a:pathLst>
                    <a:path w="163" h="279">
                      <a:moveTo>
                        <a:pt x="31" y="126"/>
                      </a:moveTo>
                      <a:cubicBezTo>
                        <a:pt x="18" y="122"/>
                        <a:pt x="15" y="118"/>
                        <a:pt x="19" y="105"/>
                      </a:cubicBezTo>
                      <a:cubicBezTo>
                        <a:pt x="0" y="99"/>
                        <a:pt x="0" y="83"/>
                        <a:pt x="16" y="72"/>
                      </a:cubicBezTo>
                      <a:cubicBezTo>
                        <a:pt x="24" y="47"/>
                        <a:pt x="31" y="22"/>
                        <a:pt x="46" y="0"/>
                      </a:cubicBezTo>
                      <a:cubicBezTo>
                        <a:pt x="60" y="3"/>
                        <a:pt x="71" y="1"/>
                        <a:pt x="76" y="15"/>
                      </a:cubicBezTo>
                      <a:cubicBezTo>
                        <a:pt x="74" y="32"/>
                        <a:pt x="75" y="65"/>
                        <a:pt x="64" y="81"/>
                      </a:cubicBezTo>
                      <a:cubicBezTo>
                        <a:pt x="55" y="95"/>
                        <a:pt x="56" y="84"/>
                        <a:pt x="49" y="99"/>
                      </a:cubicBezTo>
                      <a:cubicBezTo>
                        <a:pt x="46" y="105"/>
                        <a:pt x="43" y="117"/>
                        <a:pt x="43" y="117"/>
                      </a:cubicBezTo>
                      <a:cubicBezTo>
                        <a:pt x="47" y="129"/>
                        <a:pt x="53" y="128"/>
                        <a:pt x="64" y="135"/>
                      </a:cubicBezTo>
                      <a:cubicBezTo>
                        <a:pt x="79" y="130"/>
                        <a:pt x="86" y="139"/>
                        <a:pt x="100" y="144"/>
                      </a:cubicBezTo>
                      <a:cubicBezTo>
                        <a:pt x="105" y="143"/>
                        <a:pt x="110" y="141"/>
                        <a:pt x="115" y="141"/>
                      </a:cubicBezTo>
                      <a:cubicBezTo>
                        <a:pt x="117" y="141"/>
                        <a:pt x="140" y="144"/>
                        <a:pt x="124" y="153"/>
                      </a:cubicBezTo>
                      <a:cubicBezTo>
                        <a:pt x="119" y="156"/>
                        <a:pt x="112" y="155"/>
                        <a:pt x="106" y="156"/>
                      </a:cubicBezTo>
                      <a:cubicBezTo>
                        <a:pt x="117" y="173"/>
                        <a:pt x="126" y="181"/>
                        <a:pt x="145" y="186"/>
                      </a:cubicBezTo>
                      <a:cubicBezTo>
                        <a:pt x="155" y="193"/>
                        <a:pt x="159" y="198"/>
                        <a:pt x="163" y="210"/>
                      </a:cubicBezTo>
                      <a:cubicBezTo>
                        <a:pt x="156" y="231"/>
                        <a:pt x="163" y="226"/>
                        <a:pt x="148" y="231"/>
                      </a:cubicBezTo>
                      <a:cubicBezTo>
                        <a:pt x="142" y="267"/>
                        <a:pt x="143" y="234"/>
                        <a:pt x="124" y="228"/>
                      </a:cubicBezTo>
                      <a:cubicBezTo>
                        <a:pt x="116" y="241"/>
                        <a:pt x="109" y="252"/>
                        <a:pt x="127" y="258"/>
                      </a:cubicBezTo>
                      <a:cubicBezTo>
                        <a:pt x="120" y="279"/>
                        <a:pt x="111" y="256"/>
                        <a:pt x="100" y="252"/>
                      </a:cubicBezTo>
                      <a:cubicBezTo>
                        <a:pt x="99" y="256"/>
                        <a:pt x="100" y="261"/>
                        <a:pt x="97" y="264"/>
                      </a:cubicBezTo>
                      <a:cubicBezTo>
                        <a:pt x="92" y="268"/>
                        <a:pt x="79" y="270"/>
                        <a:pt x="79" y="270"/>
                      </a:cubicBezTo>
                      <a:cubicBezTo>
                        <a:pt x="74" y="256"/>
                        <a:pt x="80" y="246"/>
                        <a:pt x="88" y="234"/>
                      </a:cubicBezTo>
                      <a:cubicBezTo>
                        <a:pt x="120" y="240"/>
                        <a:pt x="91" y="239"/>
                        <a:pt x="109" y="228"/>
                      </a:cubicBezTo>
                      <a:cubicBezTo>
                        <a:pt x="117" y="223"/>
                        <a:pt x="136" y="219"/>
                        <a:pt x="136" y="219"/>
                      </a:cubicBezTo>
                      <a:cubicBezTo>
                        <a:pt x="137" y="216"/>
                        <a:pt x="140" y="213"/>
                        <a:pt x="139" y="210"/>
                      </a:cubicBezTo>
                      <a:cubicBezTo>
                        <a:pt x="137" y="203"/>
                        <a:pt x="127" y="192"/>
                        <a:pt x="127" y="192"/>
                      </a:cubicBezTo>
                      <a:cubicBezTo>
                        <a:pt x="124" y="193"/>
                        <a:pt x="119" y="192"/>
                        <a:pt x="118" y="195"/>
                      </a:cubicBezTo>
                      <a:cubicBezTo>
                        <a:pt x="117" y="198"/>
                        <a:pt x="124" y="203"/>
                        <a:pt x="121" y="204"/>
                      </a:cubicBezTo>
                      <a:cubicBezTo>
                        <a:pt x="111" y="209"/>
                        <a:pt x="88" y="195"/>
                        <a:pt x="88" y="195"/>
                      </a:cubicBezTo>
                      <a:cubicBezTo>
                        <a:pt x="95" y="173"/>
                        <a:pt x="106" y="166"/>
                        <a:pt x="76" y="156"/>
                      </a:cubicBezTo>
                      <a:cubicBezTo>
                        <a:pt x="64" y="160"/>
                        <a:pt x="61" y="154"/>
                        <a:pt x="49" y="150"/>
                      </a:cubicBezTo>
                      <a:cubicBezTo>
                        <a:pt x="42" y="172"/>
                        <a:pt x="45" y="162"/>
                        <a:pt x="40" y="180"/>
                      </a:cubicBezTo>
                      <a:cubicBezTo>
                        <a:pt x="25" y="176"/>
                        <a:pt x="25" y="170"/>
                        <a:pt x="13" y="162"/>
                      </a:cubicBezTo>
                      <a:cubicBezTo>
                        <a:pt x="14" y="158"/>
                        <a:pt x="14" y="154"/>
                        <a:pt x="16" y="150"/>
                      </a:cubicBezTo>
                      <a:cubicBezTo>
                        <a:pt x="18" y="146"/>
                        <a:pt x="23" y="145"/>
                        <a:pt x="25" y="141"/>
                      </a:cubicBezTo>
                      <a:cubicBezTo>
                        <a:pt x="27" y="135"/>
                        <a:pt x="26" y="129"/>
                        <a:pt x="28" y="123"/>
                      </a:cubicBezTo>
                      <a:cubicBezTo>
                        <a:pt x="29" y="122"/>
                        <a:pt x="30" y="125"/>
                        <a:pt x="31" y="126"/>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9" name="Freeform 129"/>
                <p:cNvSpPr/>
                <p:nvPr/>
              </p:nvSpPr>
              <p:spPr>
                <a:xfrm>
                  <a:off x="3399120" y="4265280"/>
                  <a:ext cx="146160" cy="120240"/>
                </a:xfrm>
                <a:custGeom>
                  <a:avLst/>
                  <a:gdLst/>
                  <a:ahLst/>
                  <a:rect l="l" t="t" r="r" b="b"/>
                  <a:pathLst>
                    <a:path w="153" h="99">
                      <a:moveTo>
                        <a:pt x="3" y="54"/>
                      </a:moveTo>
                      <a:cubicBezTo>
                        <a:pt x="9" y="35"/>
                        <a:pt x="17" y="34"/>
                        <a:pt x="36" y="30"/>
                      </a:cubicBezTo>
                      <a:cubicBezTo>
                        <a:pt x="47" y="23"/>
                        <a:pt x="51" y="20"/>
                        <a:pt x="63" y="24"/>
                      </a:cubicBezTo>
                      <a:cubicBezTo>
                        <a:pt x="65" y="27"/>
                        <a:pt x="66" y="32"/>
                        <a:pt x="69" y="33"/>
                      </a:cubicBezTo>
                      <a:cubicBezTo>
                        <a:pt x="69" y="33"/>
                        <a:pt x="100" y="15"/>
                        <a:pt x="105" y="12"/>
                      </a:cubicBezTo>
                      <a:cubicBezTo>
                        <a:pt x="111" y="8"/>
                        <a:pt x="123" y="0"/>
                        <a:pt x="123" y="0"/>
                      </a:cubicBezTo>
                      <a:cubicBezTo>
                        <a:pt x="136" y="9"/>
                        <a:pt x="134" y="21"/>
                        <a:pt x="147" y="30"/>
                      </a:cubicBezTo>
                      <a:cubicBezTo>
                        <a:pt x="153" y="47"/>
                        <a:pt x="142" y="69"/>
                        <a:pt x="132" y="84"/>
                      </a:cubicBezTo>
                      <a:cubicBezTo>
                        <a:pt x="116" y="60"/>
                        <a:pt x="114" y="91"/>
                        <a:pt x="102" y="99"/>
                      </a:cubicBezTo>
                      <a:cubicBezTo>
                        <a:pt x="92" y="96"/>
                        <a:pt x="75" y="84"/>
                        <a:pt x="75" y="84"/>
                      </a:cubicBezTo>
                      <a:cubicBezTo>
                        <a:pt x="70" y="70"/>
                        <a:pt x="82" y="54"/>
                        <a:pt x="63" y="48"/>
                      </a:cubicBezTo>
                      <a:cubicBezTo>
                        <a:pt x="57" y="50"/>
                        <a:pt x="52" y="57"/>
                        <a:pt x="45" y="57"/>
                      </a:cubicBezTo>
                      <a:cubicBezTo>
                        <a:pt x="39" y="57"/>
                        <a:pt x="27" y="51"/>
                        <a:pt x="27" y="51"/>
                      </a:cubicBezTo>
                      <a:cubicBezTo>
                        <a:pt x="16" y="55"/>
                        <a:pt x="11" y="62"/>
                        <a:pt x="0" y="66"/>
                      </a:cubicBezTo>
                      <a:cubicBezTo>
                        <a:pt x="0" y="65"/>
                        <a:pt x="11" y="29"/>
                        <a:pt x="3" y="54"/>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0" name="Freeform 130"/>
                <p:cNvSpPr/>
                <p:nvPr/>
              </p:nvSpPr>
              <p:spPr>
                <a:xfrm>
                  <a:off x="3413880" y="4167720"/>
                  <a:ext cx="28440" cy="50400"/>
                </a:xfrm>
                <a:custGeom>
                  <a:avLst/>
                  <a:gdLst/>
                  <a:ahLst/>
                  <a:rect l="l" t="t" r="r" b="b"/>
                  <a:pathLst>
                    <a:path w="29" h="43">
                      <a:moveTo>
                        <a:pt x="1" y="34"/>
                      </a:moveTo>
                      <a:cubicBezTo>
                        <a:pt x="4" y="13"/>
                        <a:pt x="2" y="0"/>
                        <a:pt x="22" y="13"/>
                      </a:cubicBezTo>
                      <a:cubicBezTo>
                        <a:pt x="24" y="20"/>
                        <a:pt x="29" y="25"/>
                        <a:pt x="19" y="31"/>
                      </a:cubicBezTo>
                      <a:cubicBezTo>
                        <a:pt x="0" y="43"/>
                        <a:pt x="1" y="42"/>
                        <a:pt x="1" y="34"/>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11" name="Freeform 131"/>
                <p:cNvSpPr/>
                <p:nvPr/>
              </p:nvSpPr>
              <p:spPr>
                <a:xfrm>
                  <a:off x="3564360" y="4511880"/>
                  <a:ext cx="45000" cy="95040"/>
                </a:xfrm>
                <a:custGeom>
                  <a:avLst/>
                  <a:gdLst/>
                  <a:ahLst/>
                  <a:rect l="l" t="t" r="r" b="b"/>
                  <a:pathLst>
                    <a:path w="48" h="81">
                      <a:moveTo>
                        <a:pt x="24" y="81"/>
                      </a:moveTo>
                      <a:cubicBezTo>
                        <a:pt x="13" y="77"/>
                        <a:pt x="10" y="70"/>
                        <a:pt x="0" y="63"/>
                      </a:cubicBezTo>
                      <a:cubicBezTo>
                        <a:pt x="4" y="50"/>
                        <a:pt x="23" y="41"/>
                        <a:pt x="0" y="33"/>
                      </a:cubicBezTo>
                      <a:cubicBezTo>
                        <a:pt x="3" y="19"/>
                        <a:pt x="4" y="11"/>
                        <a:pt x="12" y="0"/>
                      </a:cubicBezTo>
                      <a:cubicBezTo>
                        <a:pt x="25" y="4"/>
                        <a:pt x="25" y="9"/>
                        <a:pt x="21" y="21"/>
                      </a:cubicBezTo>
                      <a:cubicBezTo>
                        <a:pt x="43" y="25"/>
                        <a:pt x="46" y="35"/>
                        <a:pt x="24" y="42"/>
                      </a:cubicBezTo>
                      <a:cubicBezTo>
                        <a:pt x="15" y="69"/>
                        <a:pt x="48" y="44"/>
                        <a:pt x="24" y="60"/>
                      </a:cubicBezTo>
                      <a:cubicBezTo>
                        <a:pt x="21" y="70"/>
                        <a:pt x="24" y="71"/>
                        <a:pt x="24" y="8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2" name="Freeform 132"/>
                <p:cNvSpPr/>
                <p:nvPr/>
              </p:nvSpPr>
              <p:spPr>
                <a:xfrm>
                  <a:off x="3522960" y="4674600"/>
                  <a:ext cx="37440" cy="20160"/>
                </a:xfrm>
                <a:custGeom>
                  <a:avLst/>
                  <a:gdLst/>
                  <a:ahLst/>
                  <a:rect l="l" t="t" r="r" b="b"/>
                  <a:pathLst>
                    <a:path w="38" h="15">
                      <a:moveTo>
                        <a:pt x="24" y="15"/>
                      </a:moveTo>
                      <a:cubicBezTo>
                        <a:pt x="13" y="12"/>
                        <a:pt x="0" y="6"/>
                        <a:pt x="18" y="0"/>
                      </a:cubicBezTo>
                      <a:cubicBezTo>
                        <a:pt x="21" y="1"/>
                        <a:pt x="38" y="1"/>
                        <a:pt x="33" y="12"/>
                      </a:cubicBezTo>
                      <a:cubicBezTo>
                        <a:pt x="32" y="15"/>
                        <a:pt x="24" y="15"/>
                        <a:pt x="24" y="15"/>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13" name="Freeform 133"/>
                <p:cNvSpPr/>
                <p:nvPr/>
              </p:nvSpPr>
              <p:spPr>
                <a:xfrm>
                  <a:off x="3576600" y="4663440"/>
                  <a:ext cx="69480" cy="30960"/>
                </a:xfrm>
                <a:custGeom>
                  <a:avLst/>
                  <a:gdLst/>
                  <a:ahLst/>
                  <a:rect l="l" t="t" r="r" b="b"/>
                  <a:pathLst>
                    <a:path w="75" h="26">
                      <a:moveTo>
                        <a:pt x="9" y="18"/>
                      </a:moveTo>
                      <a:cubicBezTo>
                        <a:pt x="21" y="0"/>
                        <a:pt x="8" y="14"/>
                        <a:pt x="24" y="12"/>
                      </a:cubicBezTo>
                      <a:cubicBezTo>
                        <a:pt x="30" y="11"/>
                        <a:pt x="42" y="6"/>
                        <a:pt x="42" y="6"/>
                      </a:cubicBezTo>
                      <a:cubicBezTo>
                        <a:pt x="59" y="9"/>
                        <a:pt x="66" y="7"/>
                        <a:pt x="75" y="21"/>
                      </a:cubicBezTo>
                      <a:cubicBezTo>
                        <a:pt x="60" y="26"/>
                        <a:pt x="69" y="25"/>
                        <a:pt x="48" y="18"/>
                      </a:cubicBezTo>
                      <a:cubicBezTo>
                        <a:pt x="45" y="17"/>
                        <a:pt x="39" y="15"/>
                        <a:pt x="39" y="15"/>
                      </a:cubicBezTo>
                      <a:cubicBezTo>
                        <a:pt x="30" y="18"/>
                        <a:pt x="0" y="9"/>
                        <a:pt x="9" y="18"/>
                      </a:cubicBezTo>
                      <a:close/>
                    </a:path>
                  </a:pathLst>
                </a:custGeom>
                <a:solidFill>
                  <a:srgbClr val="ce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Black"/>
                  </a:endParaRPr>
                </a:p>
              </p:txBody>
            </p:sp>
            <p:sp>
              <p:nvSpPr>
                <p:cNvPr id="214" name="Freeform 134"/>
                <p:cNvSpPr/>
                <p:nvPr/>
              </p:nvSpPr>
              <p:spPr>
                <a:xfrm>
                  <a:off x="3332880" y="4514400"/>
                  <a:ext cx="172440" cy="216360"/>
                </a:xfrm>
                <a:custGeom>
                  <a:avLst/>
                  <a:gdLst/>
                  <a:ahLst/>
                  <a:rect l="l" t="t" r="r" b="b"/>
                  <a:pathLst>
                    <a:path w="184" h="180">
                      <a:moveTo>
                        <a:pt x="21" y="12"/>
                      </a:moveTo>
                      <a:cubicBezTo>
                        <a:pt x="32" y="9"/>
                        <a:pt x="40" y="4"/>
                        <a:pt x="51" y="0"/>
                      </a:cubicBezTo>
                      <a:cubicBezTo>
                        <a:pt x="69" y="12"/>
                        <a:pt x="96" y="20"/>
                        <a:pt x="117" y="27"/>
                      </a:cubicBezTo>
                      <a:cubicBezTo>
                        <a:pt x="144" y="20"/>
                        <a:pt x="133" y="24"/>
                        <a:pt x="150" y="18"/>
                      </a:cubicBezTo>
                      <a:cubicBezTo>
                        <a:pt x="154" y="6"/>
                        <a:pt x="159" y="4"/>
                        <a:pt x="171" y="0"/>
                      </a:cubicBezTo>
                      <a:cubicBezTo>
                        <a:pt x="184" y="13"/>
                        <a:pt x="178" y="17"/>
                        <a:pt x="162" y="21"/>
                      </a:cubicBezTo>
                      <a:cubicBezTo>
                        <a:pt x="151" y="37"/>
                        <a:pt x="166" y="35"/>
                        <a:pt x="147" y="45"/>
                      </a:cubicBezTo>
                      <a:cubicBezTo>
                        <a:pt x="133" y="42"/>
                        <a:pt x="105" y="36"/>
                        <a:pt x="105" y="36"/>
                      </a:cubicBezTo>
                      <a:cubicBezTo>
                        <a:pt x="91" y="26"/>
                        <a:pt x="99" y="31"/>
                        <a:pt x="78" y="24"/>
                      </a:cubicBezTo>
                      <a:cubicBezTo>
                        <a:pt x="75" y="23"/>
                        <a:pt x="69" y="21"/>
                        <a:pt x="69" y="21"/>
                      </a:cubicBezTo>
                      <a:cubicBezTo>
                        <a:pt x="56" y="25"/>
                        <a:pt x="44" y="25"/>
                        <a:pt x="33" y="33"/>
                      </a:cubicBezTo>
                      <a:cubicBezTo>
                        <a:pt x="31" y="36"/>
                        <a:pt x="28" y="38"/>
                        <a:pt x="27" y="42"/>
                      </a:cubicBezTo>
                      <a:cubicBezTo>
                        <a:pt x="26" y="49"/>
                        <a:pt x="56" y="76"/>
                        <a:pt x="63" y="78"/>
                      </a:cubicBezTo>
                      <a:lnTo>
                        <a:pt x="120" y="72"/>
                      </a:lnTo>
                      <a:cubicBezTo>
                        <a:pt x="120" y="72"/>
                        <a:pt x="93" y="81"/>
                        <a:pt x="93" y="81"/>
                      </a:cubicBezTo>
                      <a:cubicBezTo>
                        <a:pt x="87" y="83"/>
                        <a:pt x="75" y="87"/>
                        <a:pt x="75" y="87"/>
                      </a:cubicBezTo>
                      <a:cubicBezTo>
                        <a:pt x="79" y="108"/>
                        <a:pt x="88" y="101"/>
                        <a:pt x="84" y="123"/>
                      </a:cubicBezTo>
                      <a:cubicBezTo>
                        <a:pt x="88" y="137"/>
                        <a:pt x="95" y="137"/>
                        <a:pt x="99" y="150"/>
                      </a:cubicBezTo>
                      <a:cubicBezTo>
                        <a:pt x="94" y="164"/>
                        <a:pt x="91" y="155"/>
                        <a:pt x="78" y="159"/>
                      </a:cubicBezTo>
                      <a:cubicBezTo>
                        <a:pt x="63" y="154"/>
                        <a:pt x="73" y="160"/>
                        <a:pt x="66" y="147"/>
                      </a:cubicBezTo>
                      <a:cubicBezTo>
                        <a:pt x="62" y="141"/>
                        <a:pt x="54" y="129"/>
                        <a:pt x="54" y="129"/>
                      </a:cubicBezTo>
                      <a:cubicBezTo>
                        <a:pt x="50" y="114"/>
                        <a:pt x="46" y="108"/>
                        <a:pt x="36" y="123"/>
                      </a:cubicBezTo>
                      <a:cubicBezTo>
                        <a:pt x="41" y="137"/>
                        <a:pt x="30" y="172"/>
                        <a:pt x="18" y="180"/>
                      </a:cubicBezTo>
                      <a:cubicBezTo>
                        <a:pt x="13" y="166"/>
                        <a:pt x="18" y="155"/>
                        <a:pt x="21" y="141"/>
                      </a:cubicBezTo>
                      <a:cubicBezTo>
                        <a:pt x="7" y="120"/>
                        <a:pt x="15" y="127"/>
                        <a:pt x="0" y="117"/>
                      </a:cubicBezTo>
                      <a:cubicBezTo>
                        <a:pt x="3" y="104"/>
                        <a:pt x="6" y="91"/>
                        <a:pt x="9" y="78"/>
                      </a:cubicBezTo>
                      <a:cubicBezTo>
                        <a:pt x="11" y="69"/>
                        <a:pt x="18" y="51"/>
                        <a:pt x="18" y="51"/>
                      </a:cubicBezTo>
                      <a:cubicBezTo>
                        <a:pt x="9" y="37"/>
                        <a:pt x="8" y="25"/>
                        <a:pt x="21" y="1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5" name="Freeform 135"/>
                <p:cNvSpPr/>
                <p:nvPr/>
              </p:nvSpPr>
              <p:spPr>
                <a:xfrm>
                  <a:off x="3332880" y="4805640"/>
                  <a:ext cx="107640" cy="55080"/>
                </a:xfrm>
                <a:custGeom>
                  <a:avLst/>
                  <a:gdLst/>
                  <a:ahLst/>
                  <a:rect l="l" t="t" r="r" b="b"/>
                  <a:pathLst>
                    <a:path w="114" h="48">
                      <a:moveTo>
                        <a:pt x="27" y="0"/>
                      </a:moveTo>
                      <a:cubicBezTo>
                        <a:pt x="33" y="1"/>
                        <a:pt x="39" y="2"/>
                        <a:pt x="45" y="3"/>
                      </a:cubicBezTo>
                      <a:cubicBezTo>
                        <a:pt x="51" y="5"/>
                        <a:pt x="63" y="9"/>
                        <a:pt x="63" y="9"/>
                      </a:cubicBezTo>
                      <a:cubicBezTo>
                        <a:pt x="81" y="5"/>
                        <a:pt x="96" y="2"/>
                        <a:pt x="114" y="6"/>
                      </a:cubicBezTo>
                      <a:cubicBezTo>
                        <a:pt x="113" y="9"/>
                        <a:pt x="114" y="13"/>
                        <a:pt x="111" y="15"/>
                      </a:cubicBezTo>
                      <a:cubicBezTo>
                        <a:pt x="106" y="19"/>
                        <a:pt x="93" y="21"/>
                        <a:pt x="93" y="21"/>
                      </a:cubicBezTo>
                      <a:cubicBezTo>
                        <a:pt x="79" y="20"/>
                        <a:pt x="65" y="18"/>
                        <a:pt x="51" y="18"/>
                      </a:cubicBezTo>
                      <a:cubicBezTo>
                        <a:pt x="47" y="18"/>
                        <a:pt x="40" y="17"/>
                        <a:pt x="39" y="21"/>
                      </a:cubicBezTo>
                      <a:cubicBezTo>
                        <a:pt x="38" y="24"/>
                        <a:pt x="45" y="25"/>
                        <a:pt x="48" y="27"/>
                      </a:cubicBezTo>
                      <a:cubicBezTo>
                        <a:pt x="53" y="42"/>
                        <a:pt x="47" y="44"/>
                        <a:pt x="33" y="48"/>
                      </a:cubicBezTo>
                      <a:cubicBezTo>
                        <a:pt x="20" y="39"/>
                        <a:pt x="15" y="29"/>
                        <a:pt x="0" y="24"/>
                      </a:cubicBezTo>
                      <a:cubicBezTo>
                        <a:pt x="14" y="15"/>
                        <a:pt x="15" y="26"/>
                        <a:pt x="24" y="12"/>
                      </a:cubicBezTo>
                      <a:cubicBezTo>
                        <a:pt x="20" y="1"/>
                        <a:pt x="18" y="4"/>
                        <a:pt x="27" y="0"/>
                      </a:cubicBezTo>
                      <a:close/>
                    </a:path>
                  </a:pathLst>
                </a:custGeom>
                <a:solidFill>
                  <a:srgbClr val="ce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216" name="Freeform 136"/>
                <p:cNvSpPr/>
                <p:nvPr/>
              </p:nvSpPr>
              <p:spPr>
                <a:xfrm>
                  <a:off x="3460680" y="4813920"/>
                  <a:ext cx="95040" cy="66240"/>
                </a:xfrm>
                <a:custGeom>
                  <a:avLst/>
                  <a:gdLst/>
                  <a:ahLst/>
                  <a:rect l="l" t="t" r="r" b="b"/>
                  <a:pathLst>
                    <a:path w="97" h="56">
                      <a:moveTo>
                        <a:pt x="3" y="50"/>
                      </a:moveTo>
                      <a:cubicBezTo>
                        <a:pt x="4" y="45"/>
                        <a:pt x="3" y="39"/>
                        <a:pt x="6" y="35"/>
                      </a:cubicBezTo>
                      <a:cubicBezTo>
                        <a:pt x="11" y="26"/>
                        <a:pt x="67" y="10"/>
                        <a:pt x="78" y="8"/>
                      </a:cubicBezTo>
                      <a:cubicBezTo>
                        <a:pt x="56" y="1"/>
                        <a:pt x="84" y="0"/>
                        <a:pt x="90" y="2"/>
                      </a:cubicBezTo>
                      <a:cubicBezTo>
                        <a:pt x="92" y="8"/>
                        <a:pt x="94" y="14"/>
                        <a:pt x="96" y="20"/>
                      </a:cubicBezTo>
                      <a:cubicBezTo>
                        <a:pt x="97" y="23"/>
                        <a:pt x="90" y="22"/>
                        <a:pt x="87" y="23"/>
                      </a:cubicBezTo>
                      <a:cubicBezTo>
                        <a:pt x="84" y="25"/>
                        <a:pt x="81" y="28"/>
                        <a:pt x="78" y="29"/>
                      </a:cubicBezTo>
                      <a:cubicBezTo>
                        <a:pt x="72" y="32"/>
                        <a:pt x="66" y="33"/>
                        <a:pt x="60" y="35"/>
                      </a:cubicBezTo>
                      <a:cubicBezTo>
                        <a:pt x="44" y="40"/>
                        <a:pt x="31" y="51"/>
                        <a:pt x="15" y="56"/>
                      </a:cubicBezTo>
                      <a:cubicBezTo>
                        <a:pt x="11" y="55"/>
                        <a:pt x="6" y="56"/>
                        <a:pt x="3" y="53"/>
                      </a:cubicBezTo>
                      <a:cubicBezTo>
                        <a:pt x="1" y="51"/>
                        <a:pt x="0" y="47"/>
                        <a:pt x="0" y="44"/>
                      </a:cubicBezTo>
                      <a:cubicBezTo>
                        <a:pt x="0" y="42"/>
                        <a:pt x="2" y="48"/>
                        <a:pt x="3" y="50"/>
                      </a:cubicBezTo>
                      <a:close/>
                    </a:path>
                  </a:pathLst>
                </a:custGeom>
                <a:solidFill>
                  <a:srgbClr val="ce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Black"/>
                  </a:endParaRPr>
                </a:p>
              </p:txBody>
            </p:sp>
            <p:sp>
              <p:nvSpPr>
                <p:cNvPr id="217" name="Freeform 137"/>
                <p:cNvSpPr/>
                <p:nvPr/>
              </p:nvSpPr>
              <p:spPr>
                <a:xfrm>
                  <a:off x="3666960" y="4804560"/>
                  <a:ext cx="20520" cy="29880"/>
                </a:xfrm>
                <a:custGeom>
                  <a:avLst/>
                  <a:gdLst/>
                  <a:ahLst/>
                  <a:rect l="l" t="t" r="r" b="b"/>
                  <a:pathLst>
                    <a:path w="22" h="25">
                      <a:moveTo>
                        <a:pt x="7" y="18"/>
                      </a:moveTo>
                      <a:cubicBezTo>
                        <a:pt x="11" y="7"/>
                        <a:pt x="17" y="0"/>
                        <a:pt x="22" y="15"/>
                      </a:cubicBezTo>
                      <a:cubicBezTo>
                        <a:pt x="3" y="21"/>
                        <a:pt x="0" y="25"/>
                        <a:pt x="7" y="18"/>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18" name="Freeform 138"/>
                <p:cNvSpPr/>
                <p:nvPr/>
              </p:nvSpPr>
              <p:spPr>
                <a:xfrm>
                  <a:off x="3751200" y="4740480"/>
                  <a:ext cx="28800" cy="40680"/>
                </a:xfrm>
                <a:custGeom>
                  <a:avLst/>
                  <a:gdLst/>
                  <a:ahLst/>
                  <a:rect l="l" t="t" r="r" b="b"/>
                  <a:pathLst>
                    <a:path w="29" h="33">
                      <a:moveTo>
                        <a:pt x="12" y="28"/>
                      </a:moveTo>
                      <a:cubicBezTo>
                        <a:pt x="10" y="23"/>
                        <a:pt x="0" y="0"/>
                        <a:pt x="27" y="22"/>
                      </a:cubicBezTo>
                      <a:cubicBezTo>
                        <a:pt x="29" y="24"/>
                        <a:pt x="27" y="30"/>
                        <a:pt x="24" y="31"/>
                      </a:cubicBezTo>
                      <a:cubicBezTo>
                        <a:pt x="20" y="33"/>
                        <a:pt x="16" y="29"/>
                        <a:pt x="12" y="28"/>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19" name="Freeform 139"/>
                <p:cNvSpPr/>
                <p:nvPr/>
              </p:nvSpPr>
              <p:spPr>
                <a:xfrm>
                  <a:off x="3737160" y="4786560"/>
                  <a:ext cx="28800" cy="29880"/>
                </a:xfrm>
                <a:custGeom>
                  <a:avLst/>
                  <a:gdLst/>
                  <a:ahLst/>
                  <a:rect l="l" t="t" r="r" b="b"/>
                  <a:pathLst>
                    <a:path w="33" h="24">
                      <a:moveTo>
                        <a:pt x="25" y="0"/>
                      </a:moveTo>
                      <a:cubicBezTo>
                        <a:pt x="33" y="24"/>
                        <a:pt x="0" y="17"/>
                        <a:pt x="25" y="0"/>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20" name="Freeform 140"/>
                <p:cNvSpPr/>
                <p:nvPr/>
              </p:nvSpPr>
              <p:spPr>
                <a:xfrm>
                  <a:off x="3658680" y="4598640"/>
                  <a:ext cx="573840" cy="272880"/>
                </a:xfrm>
                <a:custGeom>
                  <a:avLst/>
                  <a:gdLst/>
                  <a:ahLst/>
                  <a:rect l="l" t="t" r="r" b="b"/>
                  <a:pathLst>
                    <a:path w="607" h="228">
                      <a:moveTo>
                        <a:pt x="238" y="186"/>
                      </a:moveTo>
                      <a:cubicBezTo>
                        <a:pt x="234" y="173"/>
                        <a:pt x="229" y="173"/>
                        <a:pt x="217" y="177"/>
                      </a:cubicBezTo>
                      <a:cubicBezTo>
                        <a:pt x="209" y="189"/>
                        <a:pt x="208" y="196"/>
                        <a:pt x="223" y="201"/>
                      </a:cubicBezTo>
                      <a:cubicBezTo>
                        <a:pt x="230" y="199"/>
                        <a:pt x="236" y="192"/>
                        <a:pt x="244" y="192"/>
                      </a:cubicBezTo>
                      <a:cubicBezTo>
                        <a:pt x="250" y="192"/>
                        <a:pt x="262" y="198"/>
                        <a:pt x="262" y="198"/>
                      </a:cubicBezTo>
                      <a:cubicBezTo>
                        <a:pt x="291" y="192"/>
                        <a:pt x="307" y="211"/>
                        <a:pt x="334" y="216"/>
                      </a:cubicBezTo>
                      <a:cubicBezTo>
                        <a:pt x="350" y="212"/>
                        <a:pt x="364" y="215"/>
                        <a:pt x="382" y="213"/>
                      </a:cubicBezTo>
                      <a:cubicBezTo>
                        <a:pt x="383" y="210"/>
                        <a:pt x="387" y="207"/>
                        <a:pt x="385" y="204"/>
                      </a:cubicBezTo>
                      <a:cubicBezTo>
                        <a:pt x="381" y="198"/>
                        <a:pt x="367" y="192"/>
                        <a:pt x="367" y="192"/>
                      </a:cubicBezTo>
                      <a:cubicBezTo>
                        <a:pt x="365" y="189"/>
                        <a:pt x="358" y="184"/>
                        <a:pt x="361" y="183"/>
                      </a:cubicBezTo>
                      <a:cubicBezTo>
                        <a:pt x="367" y="181"/>
                        <a:pt x="379" y="189"/>
                        <a:pt x="379" y="189"/>
                      </a:cubicBezTo>
                      <a:cubicBezTo>
                        <a:pt x="398" y="183"/>
                        <a:pt x="413" y="175"/>
                        <a:pt x="433" y="171"/>
                      </a:cubicBezTo>
                      <a:cubicBezTo>
                        <a:pt x="447" y="176"/>
                        <a:pt x="457" y="178"/>
                        <a:pt x="469" y="186"/>
                      </a:cubicBezTo>
                      <a:cubicBezTo>
                        <a:pt x="478" y="200"/>
                        <a:pt x="497" y="207"/>
                        <a:pt x="511" y="216"/>
                      </a:cubicBezTo>
                      <a:cubicBezTo>
                        <a:pt x="519" y="221"/>
                        <a:pt x="538" y="228"/>
                        <a:pt x="538" y="228"/>
                      </a:cubicBezTo>
                      <a:cubicBezTo>
                        <a:pt x="563" y="220"/>
                        <a:pt x="550" y="221"/>
                        <a:pt x="577" y="225"/>
                      </a:cubicBezTo>
                      <a:cubicBezTo>
                        <a:pt x="585" y="224"/>
                        <a:pt x="594" y="226"/>
                        <a:pt x="601" y="222"/>
                      </a:cubicBezTo>
                      <a:cubicBezTo>
                        <a:pt x="607" y="219"/>
                        <a:pt x="598" y="207"/>
                        <a:pt x="592" y="204"/>
                      </a:cubicBezTo>
                      <a:cubicBezTo>
                        <a:pt x="586" y="201"/>
                        <a:pt x="578" y="202"/>
                        <a:pt x="571" y="201"/>
                      </a:cubicBezTo>
                      <a:cubicBezTo>
                        <a:pt x="565" y="197"/>
                        <a:pt x="560" y="191"/>
                        <a:pt x="553" y="189"/>
                      </a:cubicBezTo>
                      <a:cubicBezTo>
                        <a:pt x="547" y="187"/>
                        <a:pt x="535" y="183"/>
                        <a:pt x="535" y="183"/>
                      </a:cubicBezTo>
                      <a:cubicBezTo>
                        <a:pt x="531" y="170"/>
                        <a:pt x="517" y="161"/>
                        <a:pt x="505" y="153"/>
                      </a:cubicBezTo>
                      <a:cubicBezTo>
                        <a:pt x="504" y="150"/>
                        <a:pt x="501" y="147"/>
                        <a:pt x="502" y="144"/>
                      </a:cubicBezTo>
                      <a:cubicBezTo>
                        <a:pt x="503" y="141"/>
                        <a:pt x="510" y="144"/>
                        <a:pt x="511" y="141"/>
                      </a:cubicBezTo>
                      <a:cubicBezTo>
                        <a:pt x="512" y="138"/>
                        <a:pt x="503" y="124"/>
                        <a:pt x="502" y="123"/>
                      </a:cubicBezTo>
                      <a:cubicBezTo>
                        <a:pt x="502" y="123"/>
                        <a:pt x="480" y="116"/>
                        <a:pt x="475" y="114"/>
                      </a:cubicBezTo>
                      <a:cubicBezTo>
                        <a:pt x="472" y="113"/>
                        <a:pt x="466" y="111"/>
                        <a:pt x="466" y="111"/>
                      </a:cubicBezTo>
                      <a:cubicBezTo>
                        <a:pt x="437" y="82"/>
                        <a:pt x="395" y="70"/>
                        <a:pt x="355" y="66"/>
                      </a:cubicBezTo>
                      <a:cubicBezTo>
                        <a:pt x="330" y="58"/>
                        <a:pt x="305" y="48"/>
                        <a:pt x="280" y="42"/>
                      </a:cubicBezTo>
                      <a:cubicBezTo>
                        <a:pt x="264" y="47"/>
                        <a:pt x="255" y="39"/>
                        <a:pt x="241" y="33"/>
                      </a:cubicBezTo>
                      <a:cubicBezTo>
                        <a:pt x="235" y="30"/>
                        <a:pt x="223" y="27"/>
                        <a:pt x="223" y="27"/>
                      </a:cubicBezTo>
                      <a:cubicBezTo>
                        <a:pt x="205" y="30"/>
                        <a:pt x="195" y="36"/>
                        <a:pt x="178" y="42"/>
                      </a:cubicBezTo>
                      <a:cubicBezTo>
                        <a:pt x="170" y="31"/>
                        <a:pt x="161" y="32"/>
                        <a:pt x="166" y="18"/>
                      </a:cubicBezTo>
                      <a:cubicBezTo>
                        <a:pt x="158" y="7"/>
                        <a:pt x="155" y="5"/>
                        <a:pt x="142" y="9"/>
                      </a:cubicBezTo>
                      <a:cubicBezTo>
                        <a:pt x="148" y="27"/>
                        <a:pt x="165" y="18"/>
                        <a:pt x="142" y="24"/>
                      </a:cubicBezTo>
                      <a:cubicBezTo>
                        <a:pt x="146" y="37"/>
                        <a:pt x="153" y="36"/>
                        <a:pt x="166" y="39"/>
                      </a:cubicBezTo>
                      <a:cubicBezTo>
                        <a:pt x="168" y="42"/>
                        <a:pt x="173" y="45"/>
                        <a:pt x="172" y="48"/>
                      </a:cubicBezTo>
                      <a:cubicBezTo>
                        <a:pt x="171" y="51"/>
                        <a:pt x="165" y="49"/>
                        <a:pt x="163" y="51"/>
                      </a:cubicBezTo>
                      <a:cubicBezTo>
                        <a:pt x="147" y="67"/>
                        <a:pt x="175" y="55"/>
                        <a:pt x="151" y="63"/>
                      </a:cubicBezTo>
                      <a:cubicBezTo>
                        <a:pt x="142" y="76"/>
                        <a:pt x="139" y="76"/>
                        <a:pt x="124" y="72"/>
                      </a:cubicBezTo>
                      <a:cubicBezTo>
                        <a:pt x="117" y="51"/>
                        <a:pt x="123" y="58"/>
                        <a:pt x="109" y="48"/>
                      </a:cubicBezTo>
                      <a:cubicBezTo>
                        <a:pt x="99" y="33"/>
                        <a:pt x="104" y="17"/>
                        <a:pt x="88" y="6"/>
                      </a:cubicBezTo>
                      <a:cubicBezTo>
                        <a:pt x="73" y="11"/>
                        <a:pt x="82" y="10"/>
                        <a:pt x="61" y="3"/>
                      </a:cubicBezTo>
                      <a:cubicBezTo>
                        <a:pt x="58" y="2"/>
                        <a:pt x="52" y="0"/>
                        <a:pt x="52" y="0"/>
                      </a:cubicBezTo>
                      <a:cubicBezTo>
                        <a:pt x="38" y="4"/>
                        <a:pt x="25" y="7"/>
                        <a:pt x="13" y="15"/>
                      </a:cubicBezTo>
                      <a:cubicBezTo>
                        <a:pt x="0" y="35"/>
                        <a:pt x="17" y="36"/>
                        <a:pt x="34" y="39"/>
                      </a:cubicBezTo>
                      <a:cubicBezTo>
                        <a:pt x="37" y="43"/>
                        <a:pt x="42" y="54"/>
                        <a:pt x="49" y="54"/>
                      </a:cubicBezTo>
                      <a:cubicBezTo>
                        <a:pt x="55" y="54"/>
                        <a:pt x="67" y="48"/>
                        <a:pt x="67" y="48"/>
                      </a:cubicBezTo>
                      <a:cubicBezTo>
                        <a:pt x="76" y="49"/>
                        <a:pt x="88" y="45"/>
                        <a:pt x="94" y="51"/>
                      </a:cubicBezTo>
                      <a:cubicBezTo>
                        <a:pt x="98" y="55"/>
                        <a:pt x="82" y="55"/>
                        <a:pt x="76" y="57"/>
                      </a:cubicBezTo>
                      <a:cubicBezTo>
                        <a:pt x="67" y="60"/>
                        <a:pt x="49" y="66"/>
                        <a:pt x="49" y="66"/>
                      </a:cubicBezTo>
                      <a:cubicBezTo>
                        <a:pt x="53" y="81"/>
                        <a:pt x="58" y="85"/>
                        <a:pt x="70" y="93"/>
                      </a:cubicBezTo>
                      <a:cubicBezTo>
                        <a:pt x="88" y="87"/>
                        <a:pt x="81" y="71"/>
                        <a:pt x="97" y="66"/>
                      </a:cubicBezTo>
                      <a:cubicBezTo>
                        <a:pt x="97" y="68"/>
                        <a:pt x="90" y="88"/>
                        <a:pt x="97" y="93"/>
                      </a:cubicBezTo>
                      <a:cubicBezTo>
                        <a:pt x="102" y="97"/>
                        <a:pt x="115" y="99"/>
                        <a:pt x="115" y="99"/>
                      </a:cubicBezTo>
                      <a:cubicBezTo>
                        <a:pt x="120" y="91"/>
                        <a:pt x="121" y="84"/>
                        <a:pt x="133" y="93"/>
                      </a:cubicBezTo>
                      <a:cubicBezTo>
                        <a:pt x="135" y="95"/>
                        <a:pt x="134" y="100"/>
                        <a:pt x="136" y="102"/>
                      </a:cubicBezTo>
                      <a:cubicBezTo>
                        <a:pt x="150" y="120"/>
                        <a:pt x="199" y="125"/>
                        <a:pt x="220" y="132"/>
                      </a:cubicBezTo>
                      <a:cubicBezTo>
                        <a:pt x="226" y="138"/>
                        <a:pt x="233" y="141"/>
                        <a:pt x="238" y="147"/>
                      </a:cubicBezTo>
                      <a:cubicBezTo>
                        <a:pt x="254" y="167"/>
                        <a:pt x="238" y="198"/>
                        <a:pt x="274" y="198"/>
                      </a:cubicBezTo>
                      <a:lnTo>
                        <a:pt x="238" y="186"/>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21" name="Freeform 141"/>
                <p:cNvSpPr/>
                <p:nvPr/>
              </p:nvSpPr>
              <p:spPr>
                <a:xfrm>
                  <a:off x="4102200" y="4613040"/>
                  <a:ext cx="57240" cy="34920"/>
                </a:xfrm>
                <a:custGeom>
                  <a:avLst/>
                  <a:gdLst/>
                  <a:ahLst/>
                  <a:rect l="l" t="t" r="r" b="b"/>
                  <a:pathLst>
                    <a:path w="58" h="27">
                      <a:moveTo>
                        <a:pt x="6" y="9"/>
                      </a:moveTo>
                      <a:cubicBezTo>
                        <a:pt x="12" y="7"/>
                        <a:pt x="18" y="5"/>
                        <a:pt x="24" y="3"/>
                      </a:cubicBezTo>
                      <a:cubicBezTo>
                        <a:pt x="27" y="2"/>
                        <a:pt x="33" y="0"/>
                        <a:pt x="33" y="0"/>
                      </a:cubicBezTo>
                      <a:cubicBezTo>
                        <a:pt x="58" y="8"/>
                        <a:pt x="19" y="14"/>
                        <a:pt x="12" y="18"/>
                      </a:cubicBezTo>
                      <a:cubicBezTo>
                        <a:pt x="9" y="20"/>
                        <a:pt x="5" y="27"/>
                        <a:pt x="3" y="24"/>
                      </a:cubicBezTo>
                      <a:cubicBezTo>
                        <a:pt x="0" y="20"/>
                        <a:pt x="5" y="14"/>
                        <a:pt x="6" y="9"/>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22" name="Freeform 142"/>
                <p:cNvSpPr/>
                <p:nvPr/>
              </p:nvSpPr>
              <p:spPr>
                <a:xfrm>
                  <a:off x="4208040" y="4613040"/>
                  <a:ext cx="11880" cy="24840"/>
                </a:xfrm>
                <a:custGeom>
                  <a:avLst/>
                  <a:gdLst/>
                  <a:ahLst/>
                  <a:rect l="l" t="t" r="r" b="b"/>
                  <a:pathLst>
                    <a:path w="13" h="21">
                      <a:moveTo>
                        <a:pt x="0" y="18"/>
                      </a:moveTo>
                      <a:cubicBezTo>
                        <a:pt x="5" y="0"/>
                        <a:pt x="13" y="5"/>
                        <a:pt x="9" y="21"/>
                      </a:cubicBezTo>
                      <a:cubicBezTo>
                        <a:pt x="6" y="20"/>
                        <a:pt x="0" y="18"/>
                        <a:pt x="0" y="18"/>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23" name="Freeform 143"/>
                <p:cNvSpPr/>
                <p:nvPr/>
              </p:nvSpPr>
              <p:spPr>
                <a:xfrm>
                  <a:off x="4161960" y="4622760"/>
                  <a:ext cx="137520" cy="131040"/>
                </a:xfrm>
                <a:custGeom>
                  <a:avLst/>
                  <a:gdLst/>
                  <a:ahLst/>
                  <a:rect l="l" t="t" r="r" b="b"/>
                  <a:pathLst>
                    <a:path w="146" h="107">
                      <a:moveTo>
                        <a:pt x="93" y="20"/>
                      </a:moveTo>
                      <a:cubicBezTo>
                        <a:pt x="90" y="16"/>
                        <a:pt x="78" y="0"/>
                        <a:pt x="90" y="2"/>
                      </a:cubicBezTo>
                      <a:cubicBezTo>
                        <a:pt x="90" y="2"/>
                        <a:pt x="112" y="17"/>
                        <a:pt x="117" y="20"/>
                      </a:cubicBezTo>
                      <a:cubicBezTo>
                        <a:pt x="123" y="24"/>
                        <a:pt x="135" y="32"/>
                        <a:pt x="135" y="32"/>
                      </a:cubicBezTo>
                      <a:cubicBezTo>
                        <a:pt x="142" y="53"/>
                        <a:pt x="146" y="46"/>
                        <a:pt x="132" y="56"/>
                      </a:cubicBezTo>
                      <a:cubicBezTo>
                        <a:pt x="120" y="48"/>
                        <a:pt x="125" y="39"/>
                        <a:pt x="111" y="44"/>
                      </a:cubicBezTo>
                      <a:cubicBezTo>
                        <a:pt x="117" y="61"/>
                        <a:pt x="114" y="46"/>
                        <a:pt x="108" y="62"/>
                      </a:cubicBezTo>
                      <a:cubicBezTo>
                        <a:pt x="106" y="67"/>
                        <a:pt x="108" y="73"/>
                        <a:pt x="105" y="77"/>
                      </a:cubicBezTo>
                      <a:cubicBezTo>
                        <a:pt x="101" y="84"/>
                        <a:pt x="92" y="83"/>
                        <a:pt x="87" y="86"/>
                      </a:cubicBezTo>
                      <a:cubicBezTo>
                        <a:pt x="76" y="92"/>
                        <a:pt x="62" y="100"/>
                        <a:pt x="51" y="107"/>
                      </a:cubicBezTo>
                      <a:cubicBezTo>
                        <a:pt x="45" y="105"/>
                        <a:pt x="39" y="102"/>
                        <a:pt x="33" y="101"/>
                      </a:cubicBezTo>
                      <a:cubicBezTo>
                        <a:pt x="28" y="100"/>
                        <a:pt x="23" y="99"/>
                        <a:pt x="18" y="98"/>
                      </a:cubicBezTo>
                      <a:cubicBezTo>
                        <a:pt x="12" y="96"/>
                        <a:pt x="0" y="92"/>
                        <a:pt x="0" y="92"/>
                      </a:cubicBezTo>
                      <a:cubicBezTo>
                        <a:pt x="2" y="86"/>
                        <a:pt x="3" y="77"/>
                        <a:pt x="12" y="77"/>
                      </a:cubicBezTo>
                      <a:cubicBezTo>
                        <a:pt x="18" y="77"/>
                        <a:pt x="30" y="83"/>
                        <a:pt x="30" y="83"/>
                      </a:cubicBezTo>
                      <a:cubicBezTo>
                        <a:pt x="45" y="79"/>
                        <a:pt x="47" y="71"/>
                        <a:pt x="60" y="80"/>
                      </a:cubicBezTo>
                      <a:cubicBezTo>
                        <a:pt x="71" y="76"/>
                        <a:pt x="87" y="59"/>
                        <a:pt x="87" y="59"/>
                      </a:cubicBezTo>
                      <a:cubicBezTo>
                        <a:pt x="93" y="30"/>
                        <a:pt x="103" y="54"/>
                        <a:pt x="93" y="2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24" name="Freeform 144"/>
                <p:cNvSpPr/>
                <p:nvPr/>
              </p:nvSpPr>
              <p:spPr>
                <a:xfrm>
                  <a:off x="4336560" y="4688640"/>
                  <a:ext cx="32760" cy="51840"/>
                </a:xfrm>
                <a:custGeom>
                  <a:avLst/>
                  <a:gdLst/>
                  <a:ahLst/>
                  <a:rect l="l" t="t" r="r" b="b"/>
                  <a:pathLst>
                    <a:path w="34" h="41">
                      <a:moveTo>
                        <a:pt x="13" y="24"/>
                      </a:moveTo>
                      <a:cubicBezTo>
                        <a:pt x="5" y="12"/>
                        <a:pt x="0" y="9"/>
                        <a:pt x="13" y="0"/>
                      </a:cubicBezTo>
                      <a:cubicBezTo>
                        <a:pt x="24" y="7"/>
                        <a:pt x="25" y="15"/>
                        <a:pt x="34" y="24"/>
                      </a:cubicBezTo>
                      <a:cubicBezTo>
                        <a:pt x="29" y="38"/>
                        <a:pt x="26" y="41"/>
                        <a:pt x="13" y="33"/>
                      </a:cubicBezTo>
                      <a:cubicBezTo>
                        <a:pt x="10" y="23"/>
                        <a:pt x="7" y="24"/>
                        <a:pt x="13" y="24"/>
                      </a:cubicBezTo>
                      <a:close/>
                    </a:path>
                  </a:pathLst>
                </a:custGeom>
                <a:solidFill>
                  <a:srgbClr val="ce0000"/>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Black"/>
                  </a:endParaRPr>
                </a:p>
              </p:txBody>
            </p:sp>
            <p:sp>
              <p:nvSpPr>
                <p:cNvPr id="225" name="Freeform 145"/>
                <p:cNvSpPr/>
                <p:nvPr/>
              </p:nvSpPr>
              <p:spPr>
                <a:xfrm>
                  <a:off x="4375080" y="4703040"/>
                  <a:ext cx="36720" cy="50760"/>
                </a:xfrm>
                <a:custGeom>
                  <a:avLst/>
                  <a:gdLst/>
                  <a:ahLst/>
                  <a:rect l="l" t="t" r="r" b="b"/>
                  <a:pathLst>
                    <a:path w="39" h="41">
                      <a:moveTo>
                        <a:pt x="7" y="20"/>
                      </a:moveTo>
                      <a:cubicBezTo>
                        <a:pt x="0" y="0"/>
                        <a:pt x="20" y="13"/>
                        <a:pt x="31" y="17"/>
                      </a:cubicBezTo>
                      <a:cubicBezTo>
                        <a:pt x="39" y="41"/>
                        <a:pt x="2" y="25"/>
                        <a:pt x="1" y="23"/>
                      </a:cubicBezTo>
                      <a:cubicBezTo>
                        <a:pt x="0" y="21"/>
                        <a:pt x="5" y="21"/>
                        <a:pt x="7" y="20"/>
                      </a:cubicBezTo>
                      <a:close/>
                    </a:path>
                  </a:pathLst>
                </a:custGeom>
                <a:solidFill>
                  <a:srgbClr val="ce000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Black"/>
                  </a:endParaRPr>
                </a:p>
              </p:txBody>
            </p:sp>
            <p:sp>
              <p:nvSpPr>
                <p:cNvPr id="226" name="Freeform 146"/>
                <p:cNvSpPr/>
                <p:nvPr/>
              </p:nvSpPr>
              <p:spPr>
                <a:xfrm>
                  <a:off x="4437720" y="4723560"/>
                  <a:ext cx="24120" cy="30240"/>
                </a:xfrm>
                <a:custGeom>
                  <a:avLst/>
                  <a:gdLst/>
                  <a:ahLst/>
                  <a:rect l="l" t="t" r="r" b="b"/>
                  <a:pathLst>
                    <a:path w="26" h="24">
                      <a:moveTo>
                        <a:pt x="16" y="21"/>
                      </a:moveTo>
                      <a:cubicBezTo>
                        <a:pt x="4" y="13"/>
                        <a:pt x="0" y="9"/>
                        <a:pt x="13" y="0"/>
                      </a:cubicBezTo>
                      <a:cubicBezTo>
                        <a:pt x="24" y="8"/>
                        <a:pt x="26" y="11"/>
                        <a:pt x="22" y="24"/>
                      </a:cubicBezTo>
                      <a:cubicBezTo>
                        <a:pt x="8" y="21"/>
                        <a:pt x="6" y="21"/>
                        <a:pt x="16" y="21"/>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27" name="Freeform 147"/>
                <p:cNvSpPr/>
                <p:nvPr/>
              </p:nvSpPr>
              <p:spPr>
                <a:xfrm>
                  <a:off x="4470480" y="4725000"/>
                  <a:ext cx="24480" cy="24840"/>
                </a:xfrm>
                <a:custGeom>
                  <a:avLst/>
                  <a:gdLst/>
                  <a:ahLst/>
                  <a:rect l="l" t="t" r="r" b="b"/>
                  <a:pathLst>
                    <a:path w="28" h="21">
                      <a:moveTo>
                        <a:pt x="16" y="21"/>
                      </a:moveTo>
                      <a:cubicBezTo>
                        <a:pt x="4" y="13"/>
                        <a:pt x="0" y="9"/>
                        <a:pt x="13" y="0"/>
                      </a:cubicBezTo>
                      <a:cubicBezTo>
                        <a:pt x="18" y="2"/>
                        <a:pt x="28" y="2"/>
                        <a:pt x="25" y="12"/>
                      </a:cubicBezTo>
                      <a:cubicBezTo>
                        <a:pt x="24" y="16"/>
                        <a:pt x="16" y="21"/>
                        <a:pt x="16" y="21"/>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28" name="Freeform 148"/>
                <p:cNvSpPr/>
                <p:nvPr/>
              </p:nvSpPr>
              <p:spPr>
                <a:xfrm>
                  <a:off x="4461120" y="4755960"/>
                  <a:ext cx="20520" cy="25200"/>
                </a:xfrm>
                <a:custGeom>
                  <a:avLst/>
                  <a:gdLst/>
                  <a:ahLst/>
                  <a:rect l="l" t="t" r="r" b="b"/>
                  <a:pathLst>
                    <a:path w="24" h="20">
                      <a:moveTo>
                        <a:pt x="0" y="8"/>
                      </a:moveTo>
                      <a:cubicBezTo>
                        <a:pt x="13" y="0"/>
                        <a:pt x="16" y="2"/>
                        <a:pt x="24" y="14"/>
                      </a:cubicBezTo>
                      <a:cubicBezTo>
                        <a:pt x="17" y="16"/>
                        <a:pt x="11" y="20"/>
                        <a:pt x="3" y="14"/>
                      </a:cubicBezTo>
                      <a:cubicBezTo>
                        <a:pt x="0" y="11"/>
                        <a:pt x="0" y="0"/>
                        <a:pt x="0" y="8"/>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29" name="Freeform 149"/>
                <p:cNvSpPr/>
                <p:nvPr/>
              </p:nvSpPr>
              <p:spPr>
                <a:xfrm>
                  <a:off x="4516920" y="5007600"/>
                  <a:ext cx="78120" cy="66240"/>
                </a:xfrm>
                <a:custGeom>
                  <a:avLst/>
                  <a:gdLst/>
                  <a:ahLst/>
                  <a:rect l="l" t="t" r="r" b="b"/>
                  <a:pathLst>
                    <a:path w="81" h="54">
                      <a:moveTo>
                        <a:pt x="39" y="27"/>
                      </a:moveTo>
                      <a:cubicBezTo>
                        <a:pt x="27" y="9"/>
                        <a:pt x="0" y="0"/>
                        <a:pt x="45" y="6"/>
                      </a:cubicBezTo>
                      <a:cubicBezTo>
                        <a:pt x="59" y="15"/>
                        <a:pt x="70" y="22"/>
                        <a:pt x="81" y="33"/>
                      </a:cubicBezTo>
                      <a:cubicBezTo>
                        <a:pt x="74" y="54"/>
                        <a:pt x="50" y="38"/>
                        <a:pt x="39" y="27"/>
                      </a:cubicBezTo>
                      <a:close/>
                    </a:path>
                  </a:pathLst>
                </a:custGeom>
                <a:solidFill>
                  <a:srgbClr val="ce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Black"/>
                  </a:endParaRPr>
                </a:p>
              </p:txBody>
            </p:sp>
            <p:sp>
              <p:nvSpPr>
                <p:cNvPr id="230" name="Freeform 150"/>
                <p:cNvSpPr/>
                <p:nvPr/>
              </p:nvSpPr>
              <p:spPr>
                <a:xfrm>
                  <a:off x="3222360" y="4902840"/>
                  <a:ext cx="1018440" cy="583560"/>
                </a:xfrm>
                <a:custGeom>
                  <a:avLst/>
                  <a:gdLst/>
                  <a:ahLst/>
                  <a:rect l="l" t="t" r="r" b="b"/>
                  <a:pathLst>
                    <a:path w="1079" h="486">
                      <a:moveTo>
                        <a:pt x="449" y="60"/>
                      </a:moveTo>
                      <a:cubicBezTo>
                        <a:pt x="453" y="48"/>
                        <a:pt x="458" y="46"/>
                        <a:pt x="470" y="42"/>
                      </a:cubicBezTo>
                      <a:cubicBezTo>
                        <a:pt x="474" y="30"/>
                        <a:pt x="471" y="26"/>
                        <a:pt x="464" y="15"/>
                      </a:cubicBezTo>
                      <a:cubicBezTo>
                        <a:pt x="487" y="7"/>
                        <a:pt x="476" y="8"/>
                        <a:pt x="497" y="12"/>
                      </a:cubicBezTo>
                      <a:cubicBezTo>
                        <a:pt x="496" y="15"/>
                        <a:pt x="496" y="19"/>
                        <a:pt x="494" y="21"/>
                      </a:cubicBezTo>
                      <a:cubicBezTo>
                        <a:pt x="492" y="23"/>
                        <a:pt x="486" y="21"/>
                        <a:pt x="485" y="24"/>
                      </a:cubicBezTo>
                      <a:cubicBezTo>
                        <a:pt x="480" y="33"/>
                        <a:pt x="494" y="35"/>
                        <a:pt x="497" y="36"/>
                      </a:cubicBezTo>
                      <a:cubicBezTo>
                        <a:pt x="535" y="31"/>
                        <a:pt x="514" y="37"/>
                        <a:pt x="521" y="15"/>
                      </a:cubicBezTo>
                      <a:cubicBezTo>
                        <a:pt x="534" y="19"/>
                        <a:pt x="544" y="26"/>
                        <a:pt x="557" y="30"/>
                      </a:cubicBezTo>
                      <a:cubicBezTo>
                        <a:pt x="569" y="34"/>
                        <a:pt x="593" y="36"/>
                        <a:pt x="593" y="36"/>
                      </a:cubicBezTo>
                      <a:cubicBezTo>
                        <a:pt x="607" y="31"/>
                        <a:pt x="619" y="35"/>
                        <a:pt x="632" y="39"/>
                      </a:cubicBezTo>
                      <a:cubicBezTo>
                        <a:pt x="628" y="55"/>
                        <a:pt x="622" y="74"/>
                        <a:pt x="608" y="84"/>
                      </a:cubicBezTo>
                      <a:cubicBezTo>
                        <a:pt x="604" y="96"/>
                        <a:pt x="599" y="98"/>
                        <a:pt x="587" y="102"/>
                      </a:cubicBezTo>
                      <a:cubicBezTo>
                        <a:pt x="598" y="106"/>
                        <a:pt x="603" y="101"/>
                        <a:pt x="614" y="105"/>
                      </a:cubicBezTo>
                      <a:cubicBezTo>
                        <a:pt x="625" y="122"/>
                        <a:pt x="643" y="121"/>
                        <a:pt x="662" y="123"/>
                      </a:cubicBezTo>
                      <a:cubicBezTo>
                        <a:pt x="673" y="130"/>
                        <a:pt x="677" y="133"/>
                        <a:pt x="689" y="129"/>
                      </a:cubicBezTo>
                      <a:cubicBezTo>
                        <a:pt x="701" y="133"/>
                        <a:pt x="711" y="134"/>
                        <a:pt x="722" y="141"/>
                      </a:cubicBezTo>
                      <a:cubicBezTo>
                        <a:pt x="756" y="138"/>
                        <a:pt x="755" y="136"/>
                        <a:pt x="779" y="120"/>
                      </a:cubicBezTo>
                      <a:cubicBezTo>
                        <a:pt x="789" y="91"/>
                        <a:pt x="773" y="13"/>
                        <a:pt x="812" y="0"/>
                      </a:cubicBezTo>
                      <a:cubicBezTo>
                        <a:pt x="828" y="5"/>
                        <a:pt x="822" y="18"/>
                        <a:pt x="830" y="30"/>
                      </a:cubicBezTo>
                      <a:cubicBezTo>
                        <a:pt x="839" y="43"/>
                        <a:pt x="849" y="53"/>
                        <a:pt x="857" y="66"/>
                      </a:cubicBezTo>
                      <a:cubicBezTo>
                        <a:pt x="863" y="111"/>
                        <a:pt x="856" y="76"/>
                        <a:pt x="878" y="69"/>
                      </a:cubicBezTo>
                      <a:cubicBezTo>
                        <a:pt x="881" y="70"/>
                        <a:pt x="885" y="69"/>
                        <a:pt x="887" y="72"/>
                      </a:cubicBezTo>
                      <a:cubicBezTo>
                        <a:pt x="897" y="86"/>
                        <a:pt x="896" y="108"/>
                        <a:pt x="902" y="123"/>
                      </a:cubicBezTo>
                      <a:cubicBezTo>
                        <a:pt x="903" y="126"/>
                        <a:pt x="906" y="129"/>
                        <a:pt x="908" y="132"/>
                      </a:cubicBezTo>
                      <a:cubicBezTo>
                        <a:pt x="909" y="135"/>
                        <a:pt x="910" y="138"/>
                        <a:pt x="911" y="141"/>
                      </a:cubicBezTo>
                      <a:cubicBezTo>
                        <a:pt x="911" y="141"/>
                        <a:pt x="916" y="161"/>
                        <a:pt x="917" y="162"/>
                      </a:cubicBezTo>
                      <a:cubicBezTo>
                        <a:pt x="930" y="175"/>
                        <a:pt x="962" y="177"/>
                        <a:pt x="980" y="189"/>
                      </a:cubicBezTo>
                      <a:cubicBezTo>
                        <a:pt x="987" y="199"/>
                        <a:pt x="992" y="203"/>
                        <a:pt x="998" y="213"/>
                      </a:cubicBezTo>
                      <a:cubicBezTo>
                        <a:pt x="1002" y="219"/>
                        <a:pt x="1006" y="225"/>
                        <a:pt x="1010" y="231"/>
                      </a:cubicBezTo>
                      <a:cubicBezTo>
                        <a:pt x="1012" y="234"/>
                        <a:pt x="1016" y="240"/>
                        <a:pt x="1016" y="240"/>
                      </a:cubicBezTo>
                      <a:cubicBezTo>
                        <a:pt x="1023" y="220"/>
                        <a:pt x="999" y="219"/>
                        <a:pt x="1028" y="225"/>
                      </a:cubicBezTo>
                      <a:cubicBezTo>
                        <a:pt x="1030" y="231"/>
                        <a:pt x="1032" y="237"/>
                        <a:pt x="1034" y="243"/>
                      </a:cubicBezTo>
                      <a:cubicBezTo>
                        <a:pt x="1036" y="249"/>
                        <a:pt x="1052" y="249"/>
                        <a:pt x="1052" y="249"/>
                      </a:cubicBezTo>
                      <a:cubicBezTo>
                        <a:pt x="1073" y="270"/>
                        <a:pt x="1063" y="262"/>
                        <a:pt x="1079" y="273"/>
                      </a:cubicBezTo>
                      <a:cubicBezTo>
                        <a:pt x="1072" y="310"/>
                        <a:pt x="1079" y="264"/>
                        <a:pt x="1079" y="306"/>
                      </a:cubicBezTo>
                      <a:cubicBezTo>
                        <a:pt x="1079" y="330"/>
                        <a:pt x="1061" y="353"/>
                        <a:pt x="1049" y="372"/>
                      </a:cubicBezTo>
                      <a:cubicBezTo>
                        <a:pt x="1044" y="380"/>
                        <a:pt x="1011" y="394"/>
                        <a:pt x="1004" y="399"/>
                      </a:cubicBezTo>
                      <a:cubicBezTo>
                        <a:pt x="996" y="404"/>
                        <a:pt x="977" y="411"/>
                        <a:pt x="977" y="411"/>
                      </a:cubicBezTo>
                      <a:cubicBezTo>
                        <a:pt x="966" y="422"/>
                        <a:pt x="960" y="435"/>
                        <a:pt x="947" y="444"/>
                      </a:cubicBezTo>
                      <a:cubicBezTo>
                        <a:pt x="930" y="469"/>
                        <a:pt x="885" y="463"/>
                        <a:pt x="860" y="480"/>
                      </a:cubicBezTo>
                      <a:cubicBezTo>
                        <a:pt x="854" y="476"/>
                        <a:pt x="850" y="465"/>
                        <a:pt x="842" y="465"/>
                      </a:cubicBezTo>
                      <a:cubicBezTo>
                        <a:pt x="838" y="465"/>
                        <a:pt x="839" y="472"/>
                        <a:pt x="836" y="474"/>
                      </a:cubicBezTo>
                      <a:cubicBezTo>
                        <a:pt x="831" y="477"/>
                        <a:pt x="818" y="480"/>
                        <a:pt x="818" y="480"/>
                      </a:cubicBezTo>
                      <a:cubicBezTo>
                        <a:pt x="799" y="474"/>
                        <a:pt x="758" y="486"/>
                        <a:pt x="758" y="486"/>
                      </a:cubicBezTo>
                      <a:cubicBezTo>
                        <a:pt x="741" y="480"/>
                        <a:pt x="743" y="476"/>
                        <a:pt x="722" y="480"/>
                      </a:cubicBezTo>
                      <a:cubicBezTo>
                        <a:pt x="710" y="476"/>
                        <a:pt x="707" y="468"/>
                        <a:pt x="698" y="459"/>
                      </a:cubicBezTo>
                      <a:cubicBezTo>
                        <a:pt x="693" y="440"/>
                        <a:pt x="687" y="447"/>
                        <a:pt x="674" y="456"/>
                      </a:cubicBezTo>
                      <a:cubicBezTo>
                        <a:pt x="658" y="455"/>
                        <a:pt x="622" y="451"/>
                        <a:pt x="653" y="441"/>
                      </a:cubicBezTo>
                      <a:cubicBezTo>
                        <a:pt x="656" y="431"/>
                        <a:pt x="669" y="407"/>
                        <a:pt x="677" y="402"/>
                      </a:cubicBezTo>
                      <a:cubicBezTo>
                        <a:pt x="674" y="388"/>
                        <a:pt x="677" y="377"/>
                        <a:pt x="662" y="387"/>
                      </a:cubicBezTo>
                      <a:cubicBezTo>
                        <a:pt x="657" y="403"/>
                        <a:pt x="661" y="393"/>
                        <a:pt x="647" y="414"/>
                      </a:cubicBezTo>
                      <a:cubicBezTo>
                        <a:pt x="643" y="420"/>
                        <a:pt x="629" y="426"/>
                        <a:pt x="629" y="426"/>
                      </a:cubicBezTo>
                      <a:cubicBezTo>
                        <a:pt x="620" y="439"/>
                        <a:pt x="619" y="445"/>
                        <a:pt x="602" y="441"/>
                      </a:cubicBezTo>
                      <a:cubicBezTo>
                        <a:pt x="596" y="423"/>
                        <a:pt x="562" y="414"/>
                        <a:pt x="545" y="408"/>
                      </a:cubicBezTo>
                      <a:cubicBezTo>
                        <a:pt x="534" y="404"/>
                        <a:pt x="512" y="399"/>
                        <a:pt x="512" y="399"/>
                      </a:cubicBezTo>
                      <a:cubicBezTo>
                        <a:pt x="500" y="403"/>
                        <a:pt x="492" y="399"/>
                        <a:pt x="479" y="396"/>
                      </a:cubicBezTo>
                      <a:cubicBezTo>
                        <a:pt x="457" y="400"/>
                        <a:pt x="438" y="397"/>
                        <a:pt x="416" y="402"/>
                      </a:cubicBezTo>
                      <a:cubicBezTo>
                        <a:pt x="400" y="398"/>
                        <a:pt x="385" y="401"/>
                        <a:pt x="368" y="399"/>
                      </a:cubicBezTo>
                      <a:cubicBezTo>
                        <a:pt x="352" y="403"/>
                        <a:pt x="336" y="406"/>
                        <a:pt x="320" y="411"/>
                      </a:cubicBezTo>
                      <a:cubicBezTo>
                        <a:pt x="314" y="413"/>
                        <a:pt x="302" y="417"/>
                        <a:pt x="302" y="417"/>
                      </a:cubicBezTo>
                      <a:cubicBezTo>
                        <a:pt x="275" y="408"/>
                        <a:pt x="271" y="408"/>
                        <a:pt x="239" y="405"/>
                      </a:cubicBezTo>
                      <a:cubicBezTo>
                        <a:pt x="227" y="407"/>
                        <a:pt x="206" y="420"/>
                        <a:pt x="206" y="420"/>
                      </a:cubicBezTo>
                      <a:cubicBezTo>
                        <a:pt x="197" y="417"/>
                        <a:pt x="179" y="423"/>
                        <a:pt x="179" y="423"/>
                      </a:cubicBezTo>
                      <a:cubicBezTo>
                        <a:pt x="158" y="420"/>
                        <a:pt x="154" y="417"/>
                        <a:pt x="137" y="411"/>
                      </a:cubicBezTo>
                      <a:cubicBezTo>
                        <a:pt x="97" y="371"/>
                        <a:pt x="132" y="412"/>
                        <a:pt x="116" y="378"/>
                      </a:cubicBezTo>
                      <a:cubicBezTo>
                        <a:pt x="101" y="346"/>
                        <a:pt x="67" y="310"/>
                        <a:pt x="38" y="291"/>
                      </a:cubicBezTo>
                      <a:cubicBezTo>
                        <a:pt x="31" y="271"/>
                        <a:pt x="18" y="272"/>
                        <a:pt x="2" y="261"/>
                      </a:cubicBezTo>
                      <a:cubicBezTo>
                        <a:pt x="3" y="258"/>
                        <a:pt x="3" y="254"/>
                        <a:pt x="5" y="252"/>
                      </a:cubicBezTo>
                      <a:cubicBezTo>
                        <a:pt x="8" y="249"/>
                        <a:pt x="17" y="253"/>
                        <a:pt x="17" y="249"/>
                      </a:cubicBezTo>
                      <a:cubicBezTo>
                        <a:pt x="17" y="242"/>
                        <a:pt x="5" y="231"/>
                        <a:pt x="5" y="231"/>
                      </a:cubicBezTo>
                      <a:cubicBezTo>
                        <a:pt x="8" y="222"/>
                        <a:pt x="2" y="204"/>
                        <a:pt x="2" y="204"/>
                      </a:cubicBezTo>
                      <a:cubicBezTo>
                        <a:pt x="5" y="196"/>
                        <a:pt x="0" y="178"/>
                        <a:pt x="8" y="180"/>
                      </a:cubicBezTo>
                      <a:cubicBezTo>
                        <a:pt x="15" y="181"/>
                        <a:pt x="20" y="198"/>
                        <a:pt x="20" y="198"/>
                      </a:cubicBezTo>
                      <a:cubicBezTo>
                        <a:pt x="43" y="190"/>
                        <a:pt x="64" y="179"/>
                        <a:pt x="89" y="174"/>
                      </a:cubicBezTo>
                      <a:cubicBezTo>
                        <a:pt x="137" y="176"/>
                        <a:pt x="142" y="178"/>
                        <a:pt x="179" y="171"/>
                      </a:cubicBezTo>
                      <a:cubicBezTo>
                        <a:pt x="193" y="168"/>
                        <a:pt x="218" y="153"/>
                        <a:pt x="218" y="153"/>
                      </a:cubicBezTo>
                      <a:cubicBezTo>
                        <a:pt x="227" y="140"/>
                        <a:pt x="215" y="129"/>
                        <a:pt x="233" y="123"/>
                      </a:cubicBezTo>
                      <a:cubicBezTo>
                        <a:pt x="255" y="91"/>
                        <a:pt x="249" y="118"/>
                        <a:pt x="260" y="135"/>
                      </a:cubicBezTo>
                      <a:cubicBezTo>
                        <a:pt x="269" y="121"/>
                        <a:pt x="258" y="120"/>
                        <a:pt x="272" y="111"/>
                      </a:cubicBezTo>
                      <a:cubicBezTo>
                        <a:pt x="276" y="99"/>
                        <a:pt x="280" y="94"/>
                        <a:pt x="290" y="87"/>
                      </a:cubicBezTo>
                      <a:cubicBezTo>
                        <a:pt x="308" y="93"/>
                        <a:pt x="302" y="74"/>
                        <a:pt x="317" y="69"/>
                      </a:cubicBezTo>
                      <a:cubicBezTo>
                        <a:pt x="335" y="73"/>
                        <a:pt x="334" y="68"/>
                        <a:pt x="350" y="63"/>
                      </a:cubicBezTo>
                      <a:cubicBezTo>
                        <a:pt x="371" y="68"/>
                        <a:pt x="369" y="73"/>
                        <a:pt x="386" y="84"/>
                      </a:cubicBezTo>
                      <a:cubicBezTo>
                        <a:pt x="388" y="87"/>
                        <a:pt x="395" y="100"/>
                        <a:pt x="401" y="99"/>
                      </a:cubicBezTo>
                      <a:cubicBezTo>
                        <a:pt x="404" y="98"/>
                        <a:pt x="402" y="92"/>
                        <a:pt x="404" y="90"/>
                      </a:cubicBezTo>
                      <a:cubicBezTo>
                        <a:pt x="406" y="88"/>
                        <a:pt x="410" y="88"/>
                        <a:pt x="413" y="87"/>
                      </a:cubicBezTo>
                      <a:cubicBezTo>
                        <a:pt x="425" y="91"/>
                        <a:pt x="425" y="98"/>
                        <a:pt x="437" y="102"/>
                      </a:cubicBezTo>
                      <a:cubicBezTo>
                        <a:pt x="440" y="93"/>
                        <a:pt x="434" y="75"/>
                        <a:pt x="434" y="75"/>
                      </a:cubicBezTo>
                      <a:cubicBezTo>
                        <a:pt x="438" y="69"/>
                        <a:pt x="449" y="60"/>
                        <a:pt x="449"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31" name="Freeform 151"/>
                <p:cNvSpPr/>
                <p:nvPr/>
              </p:nvSpPr>
              <p:spPr>
                <a:xfrm>
                  <a:off x="3996720" y="5495040"/>
                  <a:ext cx="74520" cy="50400"/>
                </a:xfrm>
                <a:custGeom>
                  <a:avLst/>
                  <a:gdLst/>
                  <a:ahLst/>
                  <a:rect l="l" t="t" r="r" b="b"/>
                  <a:pathLst>
                    <a:path w="77" h="42">
                      <a:moveTo>
                        <a:pt x="12" y="3"/>
                      </a:moveTo>
                      <a:cubicBezTo>
                        <a:pt x="28" y="8"/>
                        <a:pt x="44" y="4"/>
                        <a:pt x="60" y="0"/>
                      </a:cubicBezTo>
                      <a:cubicBezTo>
                        <a:pt x="77" y="6"/>
                        <a:pt x="71" y="14"/>
                        <a:pt x="66" y="30"/>
                      </a:cubicBezTo>
                      <a:cubicBezTo>
                        <a:pt x="63" y="39"/>
                        <a:pt x="35" y="41"/>
                        <a:pt x="30" y="42"/>
                      </a:cubicBezTo>
                      <a:cubicBezTo>
                        <a:pt x="24" y="41"/>
                        <a:pt x="13" y="39"/>
                        <a:pt x="9" y="33"/>
                      </a:cubicBezTo>
                      <a:cubicBezTo>
                        <a:pt x="6" y="28"/>
                        <a:pt x="5" y="21"/>
                        <a:pt x="3" y="15"/>
                      </a:cubicBezTo>
                      <a:cubicBezTo>
                        <a:pt x="2" y="12"/>
                        <a:pt x="0" y="6"/>
                        <a:pt x="0" y="6"/>
                      </a:cubicBezTo>
                      <a:cubicBezTo>
                        <a:pt x="10" y="3"/>
                        <a:pt x="6" y="3"/>
                        <a:pt x="12" y="3"/>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32" name="Freeform 152"/>
                <p:cNvSpPr/>
                <p:nvPr/>
              </p:nvSpPr>
              <p:spPr>
                <a:xfrm>
                  <a:off x="4647240" y="4899600"/>
                  <a:ext cx="28080" cy="20160"/>
                </a:xfrm>
                <a:custGeom>
                  <a:avLst/>
                  <a:gdLst/>
                  <a:ahLst/>
                  <a:rect l="l" t="t" r="r" b="b"/>
                  <a:pathLst>
                    <a:path w="29" h="18">
                      <a:moveTo>
                        <a:pt x="2" y="9"/>
                      </a:moveTo>
                      <a:cubicBezTo>
                        <a:pt x="14" y="1"/>
                        <a:pt x="29" y="0"/>
                        <a:pt x="11" y="18"/>
                      </a:cubicBezTo>
                      <a:cubicBezTo>
                        <a:pt x="0" y="14"/>
                        <a:pt x="2" y="18"/>
                        <a:pt x="2" y="9"/>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33" name="Freeform 153"/>
                <p:cNvSpPr/>
                <p:nvPr/>
              </p:nvSpPr>
              <p:spPr>
                <a:xfrm>
                  <a:off x="4614120" y="4844160"/>
                  <a:ext cx="33120" cy="61200"/>
                </a:xfrm>
                <a:custGeom>
                  <a:avLst/>
                  <a:gdLst/>
                  <a:ahLst/>
                  <a:rect l="l" t="t" r="r" b="b"/>
                  <a:pathLst>
                    <a:path w="36" h="49">
                      <a:moveTo>
                        <a:pt x="27" y="49"/>
                      </a:moveTo>
                      <a:cubicBezTo>
                        <a:pt x="3" y="44"/>
                        <a:pt x="11" y="36"/>
                        <a:pt x="0" y="19"/>
                      </a:cubicBezTo>
                      <a:cubicBezTo>
                        <a:pt x="6" y="0"/>
                        <a:pt x="21" y="10"/>
                        <a:pt x="36" y="13"/>
                      </a:cubicBezTo>
                      <a:cubicBezTo>
                        <a:pt x="21" y="35"/>
                        <a:pt x="17" y="4"/>
                        <a:pt x="24" y="31"/>
                      </a:cubicBezTo>
                      <a:cubicBezTo>
                        <a:pt x="20" y="43"/>
                        <a:pt x="19" y="37"/>
                        <a:pt x="27" y="49"/>
                      </a:cubicBezTo>
                      <a:close/>
                    </a:path>
                  </a:pathLst>
                </a:custGeom>
                <a:solidFill>
                  <a:srgbClr val="ce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Black"/>
                  </a:endParaRPr>
                </a:p>
              </p:txBody>
            </p:sp>
            <p:sp>
              <p:nvSpPr>
                <p:cNvPr id="234" name="Freeform 154"/>
                <p:cNvSpPr/>
                <p:nvPr/>
              </p:nvSpPr>
              <p:spPr>
                <a:xfrm>
                  <a:off x="4833000" y="4809240"/>
                  <a:ext cx="37800" cy="30240"/>
                </a:xfrm>
                <a:custGeom>
                  <a:avLst/>
                  <a:gdLst/>
                  <a:ahLst/>
                  <a:rect l="l" t="t" r="r" b="b"/>
                  <a:pathLst>
                    <a:path w="39" h="25">
                      <a:moveTo>
                        <a:pt x="9" y="19"/>
                      </a:moveTo>
                      <a:cubicBezTo>
                        <a:pt x="14" y="0"/>
                        <a:pt x="20" y="4"/>
                        <a:pt x="39" y="7"/>
                      </a:cubicBezTo>
                      <a:cubicBezTo>
                        <a:pt x="34" y="22"/>
                        <a:pt x="39" y="15"/>
                        <a:pt x="18" y="22"/>
                      </a:cubicBezTo>
                      <a:cubicBezTo>
                        <a:pt x="15" y="23"/>
                        <a:pt x="9" y="25"/>
                        <a:pt x="9" y="25"/>
                      </a:cubicBezTo>
                      <a:cubicBezTo>
                        <a:pt x="2" y="14"/>
                        <a:pt x="0" y="14"/>
                        <a:pt x="9" y="19"/>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35" name="Freeform 155"/>
                <p:cNvSpPr/>
                <p:nvPr/>
              </p:nvSpPr>
              <p:spPr>
                <a:xfrm>
                  <a:off x="4872600" y="4746600"/>
                  <a:ext cx="40320" cy="40680"/>
                </a:xfrm>
                <a:custGeom>
                  <a:avLst/>
                  <a:gdLst/>
                  <a:ahLst/>
                  <a:rect l="l" t="t" r="r" b="b"/>
                  <a:pathLst>
                    <a:path w="44" h="33">
                      <a:moveTo>
                        <a:pt x="20" y="33"/>
                      </a:moveTo>
                      <a:cubicBezTo>
                        <a:pt x="13" y="32"/>
                        <a:pt x="0" y="33"/>
                        <a:pt x="2" y="21"/>
                      </a:cubicBezTo>
                      <a:cubicBezTo>
                        <a:pt x="4" y="11"/>
                        <a:pt x="26" y="0"/>
                        <a:pt x="26" y="0"/>
                      </a:cubicBezTo>
                      <a:cubicBezTo>
                        <a:pt x="44" y="6"/>
                        <a:pt x="35" y="33"/>
                        <a:pt x="20" y="33"/>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36" name="Freeform 156"/>
                <p:cNvSpPr/>
                <p:nvPr/>
              </p:nvSpPr>
              <p:spPr>
                <a:xfrm>
                  <a:off x="5051160" y="4668120"/>
                  <a:ext cx="11880" cy="30240"/>
                </a:xfrm>
                <a:custGeom>
                  <a:avLst/>
                  <a:gdLst/>
                  <a:ahLst/>
                  <a:rect l="l" t="t" r="r" b="b"/>
                  <a:pathLst>
                    <a:path w="15" h="25">
                      <a:moveTo>
                        <a:pt x="0" y="24"/>
                      </a:moveTo>
                      <a:cubicBezTo>
                        <a:pt x="3" y="13"/>
                        <a:pt x="9" y="0"/>
                        <a:pt x="15" y="18"/>
                      </a:cubicBezTo>
                      <a:cubicBezTo>
                        <a:pt x="4" y="25"/>
                        <a:pt x="10" y="24"/>
                        <a:pt x="0" y="24"/>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37" name="Freeform 157"/>
                <p:cNvSpPr/>
                <p:nvPr/>
              </p:nvSpPr>
              <p:spPr>
                <a:xfrm>
                  <a:off x="5154840" y="3255480"/>
                  <a:ext cx="21600" cy="20160"/>
                </a:xfrm>
                <a:custGeom>
                  <a:avLst/>
                  <a:gdLst/>
                  <a:ahLst/>
                  <a:rect l="l" t="t" r="r" b="b"/>
                  <a:pathLst>
                    <a:path w="23" h="15">
                      <a:moveTo>
                        <a:pt x="5" y="0"/>
                      </a:moveTo>
                      <a:cubicBezTo>
                        <a:pt x="16" y="4"/>
                        <a:pt x="23" y="10"/>
                        <a:pt x="8" y="15"/>
                      </a:cubicBezTo>
                      <a:cubicBezTo>
                        <a:pt x="1" y="4"/>
                        <a:pt x="0" y="9"/>
                        <a:pt x="5" y="0"/>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38" name="Freeform 158"/>
                <p:cNvSpPr/>
                <p:nvPr/>
              </p:nvSpPr>
              <p:spPr>
                <a:xfrm>
                  <a:off x="5183280" y="3248280"/>
                  <a:ext cx="29160" cy="25200"/>
                </a:xfrm>
                <a:custGeom>
                  <a:avLst/>
                  <a:gdLst/>
                  <a:ahLst/>
                  <a:rect l="l" t="t" r="r" b="b"/>
                  <a:pathLst>
                    <a:path w="31" h="20">
                      <a:moveTo>
                        <a:pt x="16" y="15"/>
                      </a:moveTo>
                      <a:cubicBezTo>
                        <a:pt x="2" y="20"/>
                        <a:pt x="0" y="12"/>
                        <a:pt x="4" y="0"/>
                      </a:cubicBezTo>
                      <a:cubicBezTo>
                        <a:pt x="11" y="2"/>
                        <a:pt x="31" y="7"/>
                        <a:pt x="16" y="15"/>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39" name="Freeform 159"/>
                <p:cNvSpPr/>
                <p:nvPr/>
              </p:nvSpPr>
              <p:spPr>
                <a:xfrm>
                  <a:off x="5195520" y="3248280"/>
                  <a:ext cx="59040" cy="59760"/>
                </a:xfrm>
                <a:custGeom>
                  <a:avLst/>
                  <a:gdLst/>
                  <a:ahLst/>
                  <a:rect l="l" t="t" r="r" b="b"/>
                  <a:pathLst>
                    <a:path w="64" h="51">
                      <a:moveTo>
                        <a:pt x="24" y="15"/>
                      </a:moveTo>
                      <a:cubicBezTo>
                        <a:pt x="13" y="12"/>
                        <a:pt x="0" y="6"/>
                        <a:pt x="18" y="0"/>
                      </a:cubicBezTo>
                      <a:cubicBezTo>
                        <a:pt x="28" y="3"/>
                        <a:pt x="35" y="9"/>
                        <a:pt x="45" y="12"/>
                      </a:cubicBezTo>
                      <a:cubicBezTo>
                        <a:pt x="56" y="28"/>
                        <a:pt x="64" y="43"/>
                        <a:pt x="39" y="51"/>
                      </a:cubicBezTo>
                      <a:cubicBezTo>
                        <a:pt x="26" y="42"/>
                        <a:pt x="24" y="30"/>
                        <a:pt x="24" y="15"/>
                      </a:cubicBezTo>
                      <a:close/>
                    </a:path>
                  </a:pathLst>
                </a:custGeom>
                <a:solidFill>
                  <a:srgbClr val="ce00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Black"/>
                  </a:endParaRPr>
                </a:p>
              </p:txBody>
            </p:sp>
            <p:sp>
              <p:nvSpPr>
                <p:cNvPr id="240" name="Freeform 160"/>
                <p:cNvSpPr/>
                <p:nvPr/>
              </p:nvSpPr>
              <p:spPr>
                <a:xfrm>
                  <a:off x="4260240" y="1677600"/>
                  <a:ext cx="855000" cy="754560"/>
                </a:xfrm>
                <a:custGeom>
                  <a:avLst/>
                  <a:gdLst/>
                  <a:ahLst/>
                  <a:rect l="l" t="t" r="r" b="b"/>
                  <a:pathLst>
                    <a:path w="906" h="630">
                      <a:moveTo>
                        <a:pt x="906" y="531"/>
                      </a:moveTo>
                      <a:cubicBezTo>
                        <a:pt x="901" y="524"/>
                        <a:pt x="892" y="508"/>
                        <a:pt x="885" y="504"/>
                      </a:cubicBezTo>
                      <a:cubicBezTo>
                        <a:pt x="877" y="499"/>
                        <a:pt x="866" y="500"/>
                        <a:pt x="858" y="495"/>
                      </a:cubicBezTo>
                      <a:cubicBezTo>
                        <a:pt x="847" y="488"/>
                        <a:pt x="834" y="481"/>
                        <a:pt x="822" y="477"/>
                      </a:cubicBezTo>
                      <a:cubicBezTo>
                        <a:pt x="812" y="462"/>
                        <a:pt x="793" y="460"/>
                        <a:pt x="780" y="447"/>
                      </a:cubicBezTo>
                      <a:cubicBezTo>
                        <a:pt x="757" y="424"/>
                        <a:pt x="769" y="434"/>
                        <a:pt x="744" y="417"/>
                      </a:cubicBezTo>
                      <a:cubicBezTo>
                        <a:pt x="712" y="396"/>
                        <a:pt x="761" y="429"/>
                        <a:pt x="726" y="402"/>
                      </a:cubicBezTo>
                      <a:cubicBezTo>
                        <a:pt x="720" y="398"/>
                        <a:pt x="708" y="390"/>
                        <a:pt x="708" y="390"/>
                      </a:cubicBezTo>
                      <a:cubicBezTo>
                        <a:pt x="698" y="375"/>
                        <a:pt x="705" y="383"/>
                        <a:pt x="684" y="369"/>
                      </a:cubicBezTo>
                      <a:cubicBezTo>
                        <a:pt x="681" y="367"/>
                        <a:pt x="675" y="363"/>
                        <a:pt x="675" y="363"/>
                      </a:cubicBezTo>
                      <a:cubicBezTo>
                        <a:pt x="669" y="354"/>
                        <a:pt x="652" y="341"/>
                        <a:pt x="642" y="336"/>
                      </a:cubicBezTo>
                      <a:cubicBezTo>
                        <a:pt x="636" y="333"/>
                        <a:pt x="624" y="330"/>
                        <a:pt x="624" y="330"/>
                      </a:cubicBezTo>
                      <a:cubicBezTo>
                        <a:pt x="613" y="314"/>
                        <a:pt x="618" y="304"/>
                        <a:pt x="597" y="297"/>
                      </a:cubicBezTo>
                      <a:cubicBezTo>
                        <a:pt x="588" y="325"/>
                        <a:pt x="596" y="289"/>
                        <a:pt x="603" y="309"/>
                      </a:cubicBezTo>
                      <a:cubicBezTo>
                        <a:pt x="605" y="314"/>
                        <a:pt x="601" y="319"/>
                        <a:pt x="600" y="324"/>
                      </a:cubicBezTo>
                      <a:cubicBezTo>
                        <a:pt x="582" y="320"/>
                        <a:pt x="581" y="311"/>
                        <a:pt x="564" y="303"/>
                      </a:cubicBezTo>
                      <a:cubicBezTo>
                        <a:pt x="543" y="294"/>
                        <a:pt x="520" y="294"/>
                        <a:pt x="498" y="291"/>
                      </a:cubicBezTo>
                      <a:cubicBezTo>
                        <a:pt x="479" y="294"/>
                        <a:pt x="459" y="288"/>
                        <a:pt x="441" y="294"/>
                      </a:cubicBezTo>
                      <a:cubicBezTo>
                        <a:pt x="435" y="290"/>
                        <a:pt x="432" y="283"/>
                        <a:pt x="426" y="279"/>
                      </a:cubicBezTo>
                      <a:cubicBezTo>
                        <a:pt x="421" y="276"/>
                        <a:pt x="414" y="275"/>
                        <a:pt x="408" y="273"/>
                      </a:cubicBezTo>
                      <a:cubicBezTo>
                        <a:pt x="405" y="272"/>
                        <a:pt x="402" y="269"/>
                        <a:pt x="399" y="267"/>
                      </a:cubicBezTo>
                      <a:cubicBezTo>
                        <a:pt x="392" y="278"/>
                        <a:pt x="394" y="287"/>
                        <a:pt x="381" y="291"/>
                      </a:cubicBezTo>
                      <a:cubicBezTo>
                        <a:pt x="368" y="287"/>
                        <a:pt x="362" y="290"/>
                        <a:pt x="351" y="297"/>
                      </a:cubicBezTo>
                      <a:cubicBezTo>
                        <a:pt x="344" y="317"/>
                        <a:pt x="338" y="323"/>
                        <a:pt x="318" y="330"/>
                      </a:cubicBezTo>
                      <a:cubicBezTo>
                        <a:pt x="314" y="343"/>
                        <a:pt x="317" y="347"/>
                        <a:pt x="330" y="351"/>
                      </a:cubicBezTo>
                      <a:cubicBezTo>
                        <a:pt x="333" y="364"/>
                        <a:pt x="340" y="369"/>
                        <a:pt x="336" y="381"/>
                      </a:cubicBezTo>
                      <a:cubicBezTo>
                        <a:pt x="321" y="376"/>
                        <a:pt x="327" y="369"/>
                        <a:pt x="318" y="360"/>
                      </a:cubicBezTo>
                      <a:cubicBezTo>
                        <a:pt x="313" y="355"/>
                        <a:pt x="306" y="355"/>
                        <a:pt x="300" y="351"/>
                      </a:cubicBezTo>
                      <a:cubicBezTo>
                        <a:pt x="301" y="355"/>
                        <a:pt x="300" y="360"/>
                        <a:pt x="303" y="363"/>
                      </a:cubicBezTo>
                      <a:cubicBezTo>
                        <a:pt x="308" y="368"/>
                        <a:pt x="321" y="375"/>
                        <a:pt x="321" y="375"/>
                      </a:cubicBezTo>
                      <a:cubicBezTo>
                        <a:pt x="330" y="388"/>
                        <a:pt x="326" y="392"/>
                        <a:pt x="342" y="396"/>
                      </a:cubicBezTo>
                      <a:cubicBezTo>
                        <a:pt x="349" y="407"/>
                        <a:pt x="352" y="413"/>
                        <a:pt x="366" y="408"/>
                      </a:cubicBezTo>
                      <a:cubicBezTo>
                        <a:pt x="380" y="417"/>
                        <a:pt x="386" y="437"/>
                        <a:pt x="366" y="444"/>
                      </a:cubicBezTo>
                      <a:cubicBezTo>
                        <a:pt x="363" y="442"/>
                        <a:pt x="359" y="435"/>
                        <a:pt x="357" y="438"/>
                      </a:cubicBezTo>
                      <a:cubicBezTo>
                        <a:pt x="355" y="442"/>
                        <a:pt x="370" y="487"/>
                        <a:pt x="372" y="492"/>
                      </a:cubicBezTo>
                      <a:cubicBezTo>
                        <a:pt x="374" y="498"/>
                        <a:pt x="378" y="510"/>
                        <a:pt x="378" y="510"/>
                      </a:cubicBezTo>
                      <a:cubicBezTo>
                        <a:pt x="376" y="516"/>
                        <a:pt x="370" y="522"/>
                        <a:pt x="372" y="528"/>
                      </a:cubicBezTo>
                      <a:cubicBezTo>
                        <a:pt x="374" y="534"/>
                        <a:pt x="376" y="540"/>
                        <a:pt x="378" y="546"/>
                      </a:cubicBezTo>
                      <a:cubicBezTo>
                        <a:pt x="379" y="549"/>
                        <a:pt x="381" y="555"/>
                        <a:pt x="381" y="555"/>
                      </a:cubicBezTo>
                      <a:cubicBezTo>
                        <a:pt x="373" y="579"/>
                        <a:pt x="376" y="567"/>
                        <a:pt x="372" y="591"/>
                      </a:cubicBezTo>
                      <a:cubicBezTo>
                        <a:pt x="377" y="607"/>
                        <a:pt x="393" y="603"/>
                        <a:pt x="375" y="609"/>
                      </a:cubicBezTo>
                      <a:cubicBezTo>
                        <a:pt x="368" y="620"/>
                        <a:pt x="369" y="626"/>
                        <a:pt x="357" y="630"/>
                      </a:cubicBezTo>
                      <a:cubicBezTo>
                        <a:pt x="347" y="616"/>
                        <a:pt x="350" y="624"/>
                        <a:pt x="357" y="603"/>
                      </a:cubicBezTo>
                      <a:cubicBezTo>
                        <a:pt x="359" y="597"/>
                        <a:pt x="363" y="585"/>
                        <a:pt x="363" y="585"/>
                      </a:cubicBezTo>
                      <a:cubicBezTo>
                        <a:pt x="355" y="573"/>
                        <a:pt x="350" y="570"/>
                        <a:pt x="363" y="561"/>
                      </a:cubicBezTo>
                      <a:cubicBezTo>
                        <a:pt x="361" y="553"/>
                        <a:pt x="356" y="545"/>
                        <a:pt x="357" y="537"/>
                      </a:cubicBezTo>
                      <a:cubicBezTo>
                        <a:pt x="358" y="531"/>
                        <a:pt x="363" y="519"/>
                        <a:pt x="363" y="519"/>
                      </a:cubicBezTo>
                      <a:cubicBezTo>
                        <a:pt x="355" y="495"/>
                        <a:pt x="363" y="525"/>
                        <a:pt x="363" y="501"/>
                      </a:cubicBezTo>
                      <a:cubicBezTo>
                        <a:pt x="363" y="492"/>
                        <a:pt x="354" y="483"/>
                        <a:pt x="351" y="474"/>
                      </a:cubicBezTo>
                      <a:cubicBezTo>
                        <a:pt x="350" y="470"/>
                        <a:pt x="351" y="465"/>
                        <a:pt x="348" y="462"/>
                      </a:cubicBezTo>
                      <a:cubicBezTo>
                        <a:pt x="344" y="457"/>
                        <a:pt x="336" y="457"/>
                        <a:pt x="330" y="453"/>
                      </a:cubicBezTo>
                      <a:cubicBezTo>
                        <a:pt x="323" y="432"/>
                        <a:pt x="330" y="433"/>
                        <a:pt x="315" y="438"/>
                      </a:cubicBezTo>
                      <a:cubicBezTo>
                        <a:pt x="311" y="450"/>
                        <a:pt x="309" y="455"/>
                        <a:pt x="297" y="459"/>
                      </a:cubicBezTo>
                      <a:cubicBezTo>
                        <a:pt x="296" y="462"/>
                        <a:pt x="296" y="466"/>
                        <a:pt x="294" y="468"/>
                      </a:cubicBezTo>
                      <a:cubicBezTo>
                        <a:pt x="280" y="486"/>
                        <a:pt x="278" y="453"/>
                        <a:pt x="270" y="447"/>
                      </a:cubicBezTo>
                      <a:cubicBezTo>
                        <a:pt x="268" y="445"/>
                        <a:pt x="264" y="445"/>
                        <a:pt x="261" y="444"/>
                      </a:cubicBezTo>
                      <a:cubicBezTo>
                        <a:pt x="257" y="445"/>
                        <a:pt x="251" y="444"/>
                        <a:pt x="249" y="447"/>
                      </a:cubicBezTo>
                      <a:cubicBezTo>
                        <a:pt x="247" y="450"/>
                        <a:pt x="252" y="453"/>
                        <a:pt x="252" y="456"/>
                      </a:cubicBezTo>
                      <a:cubicBezTo>
                        <a:pt x="252" y="465"/>
                        <a:pt x="243" y="474"/>
                        <a:pt x="240" y="483"/>
                      </a:cubicBezTo>
                      <a:cubicBezTo>
                        <a:pt x="225" y="473"/>
                        <a:pt x="234" y="469"/>
                        <a:pt x="225" y="456"/>
                      </a:cubicBezTo>
                      <a:cubicBezTo>
                        <a:pt x="220" y="448"/>
                        <a:pt x="198" y="444"/>
                        <a:pt x="198" y="444"/>
                      </a:cubicBezTo>
                      <a:cubicBezTo>
                        <a:pt x="184" y="423"/>
                        <a:pt x="192" y="430"/>
                        <a:pt x="177" y="420"/>
                      </a:cubicBezTo>
                      <a:cubicBezTo>
                        <a:pt x="175" y="416"/>
                        <a:pt x="167" y="407"/>
                        <a:pt x="168" y="402"/>
                      </a:cubicBezTo>
                      <a:cubicBezTo>
                        <a:pt x="169" y="396"/>
                        <a:pt x="174" y="384"/>
                        <a:pt x="174" y="384"/>
                      </a:cubicBezTo>
                      <a:cubicBezTo>
                        <a:pt x="170" y="372"/>
                        <a:pt x="165" y="370"/>
                        <a:pt x="153" y="366"/>
                      </a:cubicBezTo>
                      <a:cubicBezTo>
                        <a:pt x="150" y="367"/>
                        <a:pt x="146" y="366"/>
                        <a:pt x="144" y="369"/>
                      </a:cubicBezTo>
                      <a:cubicBezTo>
                        <a:pt x="140" y="374"/>
                        <a:pt x="138" y="387"/>
                        <a:pt x="138" y="387"/>
                      </a:cubicBezTo>
                      <a:cubicBezTo>
                        <a:pt x="130" y="386"/>
                        <a:pt x="121" y="388"/>
                        <a:pt x="114" y="384"/>
                      </a:cubicBezTo>
                      <a:cubicBezTo>
                        <a:pt x="111" y="382"/>
                        <a:pt x="119" y="377"/>
                        <a:pt x="117" y="375"/>
                      </a:cubicBezTo>
                      <a:cubicBezTo>
                        <a:pt x="110" y="368"/>
                        <a:pt x="90" y="366"/>
                        <a:pt x="90" y="366"/>
                      </a:cubicBezTo>
                      <a:cubicBezTo>
                        <a:pt x="86" y="350"/>
                        <a:pt x="85" y="343"/>
                        <a:pt x="102" y="339"/>
                      </a:cubicBezTo>
                      <a:cubicBezTo>
                        <a:pt x="110" y="326"/>
                        <a:pt x="108" y="323"/>
                        <a:pt x="96" y="315"/>
                      </a:cubicBezTo>
                      <a:cubicBezTo>
                        <a:pt x="82" y="336"/>
                        <a:pt x="91" y="337"/>
                        <a:pt x="60" y="327"/>
                      </a:cubicBezTo>
                      <a:cubicBezTo>
                        <a:pt x="31" y="337"/>
                        <a:pt x="38" y="321"/>
                        <a:pt x="21" y="315"/>
                      </a:cubicBezTo>
                      <a:cubicBezTo>
                        <a:pt x="14" y="294"/>
                        <a:pt x="7" y="273"/>
                        <a:pt x="0" y="252"/>
                      </a:cubicBezTo>
                      <a:cubicBezTo>
                        <a:pt x="5" y="227"/>
                        <a:pt x="14" y="229"/>
                        <a:pt x="36" y="222"/>
                      </a:cubicBezTo>
                      <a:cubicBezTo>
                        <a:pt x="37" y="219"/>
                        <a:pt x="36" y="215"/>
                        <a:pt x="39" y="213"/>
                      </a:cubicBezTo>
                      <a:cubicBezTo>
                        <a:pt x="44" y="209"/>
                        <a:pt x="57" y="207"/>
                        <a:pt x="57" y="207"/>
                      </a:cubicBezTo>
                      <a:cubicBezTo>
                        <a:pt x="61" y="195"/>
                        <a:pt x="67" y="190"/>
                        <a:pt x="78" y="183"/>
                      </a:cubicBezTo>
                      <a:cubicBezTo>
                        <a:pt x="79" y="180"/>
                        <a:pt x="78" y="176"/>
                        <a:pt x="81" y="174"/>
                      </a:cubicBezTo>
                      <a:cubicBezTo>
                        <a:pt x="86" y="170"/>
                        <a:pt x="99" y="168"/>
                        <a:pt x="99" y="168"/>
                      </a:cubicBezTo>
                      <a:cubicBezTo>
                        <a:pt x="105" y="150"/>
                        <a:pt x="112" y="148"/>
                        <a:pt x="93" y="135"/>
                      </a:cubicBezTo>
                      <a:cubicBezTo>
                        <a:pt x="98" y="121"/>
                        <a:pt x="92" y="118"/>
                        <a:pt x="81" y="111"/>
                      </a:cubicBezTo>
                      <a:cubicBezTo>
                        <a:pt x="74" y="90"/>
                        <a:pt x="70" y="97"/>
                        <a:pt x="84" y="87"/>
                      </a:cubicBezTo>
                      <a:cubicBezTo>
                        <a:pt x="82" y="81"/>
                        <a:pt x="75" y="76"/>
                        <a:pt x="75" y="69"/>
                      </a:cubicBezTo>
                      <a:cubicBezTo>
                        <a:pt x="75" y="63"/>
                        <a:pt x="81" y="51"/>
                        <a:pt x="81" y="51"/>
                      </a:cubicBezTo>
                      <a:cubicBezTo>
                        <a:pt x="93" y="55"/>
                        <a:pt x="98" y="55"/>
                        <a:pt x="102" y="42"/>
                      </a:cubicBezTo>
                      <a:cubicBezTo>
                        <a:pt x="101" y="30"/>
                        <a:pt x="97" y="18"/>
                        <a:pt x="99" y="6"/>
                      </a:cubicBezTo>
                      <a:cubicBezTo>
                        <a:pt x="100" y="2"/>
                        <a:pt x="105" y="9"/>
                        <a:pt x="108" y="12"/>
                      </a:cubicBezTo>
                      <a:cubicBezTo>
                        <a:pt x="117" y="21"/>
                        <a:pt x="132" y="39"/>
                        <a:pt x="132" y="39"/>
                      </a:cubicBezTo>
                      <a:cubicBezTo>
                        <a:pt x="136" y="52"/>
                        <a:pt x="147" y="64"/>
                        <a:pt x="159" y="72"/>
                      </a:cubicBezTo>
                      <a:cubicBezTo>
                        <a:pt x="158" y="76"/>
                        <a:pt x="159" y="81"/>
                        <a:pt x="156" y="84"/>
                      </a:cubicBezTo>
                      <a:cubicBezTo>
                        <a:pt x="154" y="86"/>
                        <a:pt x="148" y="84"/>
                        <a:pt x="147" y="87"/>
                      </a:cubicBezTo>
                      <a:cubicBezTo>
                        <a:pt x="143" y="96"/>
                        <a:pt x="168" y="108"/>
                        <a:pt x="168" y="108"/>
                      </a:cubicBezTo>
                      <a:cubicBezTo>
                        <a:pt x="174" y="127"/>
                        <a:pt x="177" y="110"/>
                        <a:pt x="186" y="105"/>
                      </a:cubicBezTo>
                      <a:cubicBezTo>
                        <a:pt x="191" y="102"/>
                        <a:pt x="204" y="99"/>
                        <a:pt x="204" y="99"/>
                      </a:cubicBezTo>
                      <a:cubicBezTo>
                        <a:pt x="184" y="85"/>
                        <a:pt x="211" y="77"/>
                        <a:pt x="225" y="72"/>
                      </a:cubicBezTo>
                      <a:cubicBezTo>
                        <a:pt x="230" y="87"/>
                        <a:pt x="234" y="88"/>
                        <a:pt x="249" y="84"/>
                      </a:cubicBezTo>
                      <a:cubicBezTo>
                        <a:pt x="265" y="89"/>
                        <a:pt x="256" y="84"/>
                        <a:pt x="270" y="105"/>
                      </a:cubicBezTo>
                      <a:cubicBezTo>
                        <a:pt x="272" y="108"/>
                        <a:pt x="276" y="114"/>
                        <a:pt x="276" y="114"/>
                      </a:cubicBezTo>
                      <a:cubicBezTo>
                        <a:pt x="283" y="104"/>
                        <a:pt x="289" y="94"/>
                        <a:pt x="282" y="81"/>
                      </a:cubicBezTo>
                      <a:cubicBezTo>
                        <a:pt x="275" y="70"/>
                        <a:pt x="253" y="72"/>
                        <a:pt x="243" y="66"/>
                      </a:cubicBezTo>
                      <a:cubicBezTo>
                        <a:pt x="237" y="62"/>
                        <a:pt x="225" y="54"/>
                        <a:pt x="225" y="54"/>
                      </a:cubicBezTo>
                      <a:cubicBezTo>
                        <a:pt x="221" y="48"/>
                        <a:pt x="203" y="37"/>
                        <a:pt x="213" y="30"/>
                      </a:cubicBezTo>
                      <a:cubicBezTo>
                        <a:pt x="221" y="24"/>
                        <a:pt x="240" y="20"/>
                        <a:pt x="249" y="15"/>
                      </a:cubicBezTo>
                      <a:cubicBezTo>
                        <a:pt x="255" y="11"/>
                        <a:pt x="260" y="5"/>
                        <a:pt x="267" y="3"/>
                      </a:cubicBezTo>
                      <a:cubicBezTo>
                        <a:pt x="270" y="2"/>
                        <a:pt x="276" y="0"/>
                        <a:pt x="276" y="0"/>
                      </a:cubicBezTo>
                      <a:lnTo>
                        <a:pt x="402" y="69"/>
                      </a:lnTo>
                      <a:lnTo>
                        <a:pt x="504" y="135"/>
                      </a:lnTo>
                      <a:lnTo>
                        <a:pt x="588" y="198"/>
                      </a:lnTo>
                      <a:lnTo>
                        <a:pt x="666" y="261"/>
                      </a:lnTo>
                      <a:lnTo>
                        <a:pt x="750" y="345"/>
                      </a:lnTo>
                      <a:lnTo>
                        <a:pt x="828" y="429"/>
                      </a:lnTo>
                      <a:cubicBezTo>
                        <a:pt x="854" y="463"/>
                        <a:pt x="906" y="531"/>
                        <a:pt x="906" y="53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1" name="Freeform 161"/>
                <p:cNvSpPr/>
                <p:nvPr/>
              </p:nvSpPr>
              <p:spPr>
                <a:xfrm>
                  <a:off x="3963600" y="1461240"/>
                  <a:ext cx="145080" cy="120240"/>
                </a:xfrm>
                <a:custGeom>
                  <a:avLst/>
                  <a:gdLst/>
                  <a:ahLst/>
                  <a:rect l="l" t="t" r="r" b="b"/>
                  <a:pathLst>
                    <a:path w="155" h="100">
                      <a:moveTo>
                        <a:pt x="51" y="52"/>
                      </a:moveTo>
                      <a:cubicBezTo>
                        <a:pt x="43" y="40"/>
                        <a:pt x="31" y="34"/>
                        <a:pt x="18" y="28"/>
                      </a:cubicBezTo>
                      <a:cubicBezTo>
                        <a:pt x="12" y="25"/>
                        <a:pt x="0" y="22"/>
                        <a:pt x="0" y="22"/>
                      </a:cubicBezTo>
                      <a:cubicBezTo>
                        <a:pt x="4" y="10"/>
                        <a:pt x="1" y="8"/>
                        <a:pt x="21" y="16"/>
                      </a:cubicBezTo>
                      <a:cubicBezTo>
                        <a:pt x="28" y="19"/>
                        <a:pt x="39" y="28"/>
                        <a:pt x="39" y="28"/>
                      </a:cubicBezTo>
                      <a:cubicBezTo>
                        <a:pt x="33" y="0"/>
                        <a:pt x="42" y="2"/>
                        <a:pt x="66" y="10"/>
                      </a:cubicBezTo>
                      <a:cubicBezTo>
                        <a:pt x="72" y="27"/>
                        <a:pt x="79" y="33"/>
                        <a:pt x="96" y="37"/>
                      </a:cubicBezTo>
                      <a:cubicBezTo>
                        <a:pt x="101" y="57"/>
                        <a:pt x="105" y="58"/>
                        <a:pt x="123" y="70"/>
                      </a:cubicBezTo>
                      <a:cubicBezTo>
                        <a:pt x="131" y="75"/>
                        <a:pt x="150" y="79"/>
                        <a:pt x="150" y="79"/>
                      </a:cubicBezTo>
                      <a:cubicBezTo>
                        <a:pt x="151" y="82"/>
                        <a:pt x="155" y="85"/>
                        <a:pt x="153" y="88"/>
                      </a:cubicBezTo>
                      <a:cubicBezTo>
                        <a:pt x="149" y="94"/>
                        <a:pt x="135" y="100"/>
                        <a:pt x="135" y="100"/>
                      </a:cubicBezTo>
                      <a:cubicBezTo>
                        <a:pt x="123" y="92"/>
                        <a:pt x="119" y="96"/>
                        <a:pt x="105" y="100"/>
                      </a:cubicBezTo>
                      <a:cubicBezTo>
                        <a:pt x="91" y="97"/>
                        <a:pt x="80" y="97"/>
                        <a:pt x="90" y="82"/>
                      </a:cubicBezTo>
                      <a:cubicBezTo>
                        <a:pt x="80" y="75"/>
                        <a:pt x="70" y="74"/>
                        <a:pt x="60" y="67"/>
                      </a:cubicBezTo>
                      <a:cubicBezTo>
                        <a:pt x="56" y="60"/>
                        <a:pt x="39" y="52"/>
                        <a:pt x="51" y="5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2" name="Freeform 162"/>
                <p:cNvSpPr/>
                <p:nvPr/>
              </p:nvSpPr>
              <p:spPr>
                <a:xfrm>
                  <a:off x="4025160" y="1589760"/>
                  <a:ext cx="62280" cy="65160"/>
                </a:xfrm>
                <a:custGeom>
                  <a:avLst/>
                  <a:gdLst/>
                  <a:ahLst/>
                  <a:rect l="l" t="t" r="r" b="b"/>
                  <a:pathLst>
                    <a:path w="67" h="53">
                      <a:moveTo>
                        <a:pt x="5" y="17"/>
                      </a:moveTo>
                      <a:cubicBezTo>
                        <a:pt x="0" y="3"/>
                        <a:pt x="8" y="1"/>
                        <a:pt x="20" y="5"/>
                      </a:cubicBezTo>
                      <a:cubicBezTo>
                        <a:pt x="36" y="0"/>
                        <a:pt x="44" y="9"/>
                        <a:pt x="59" y="14"/>
                      </a:cubicBezTo>
                      <a:cubicBezTo>
                        <a:pt x="61" y="17"/>
                        <a:pt x="67" y="20"/>
                        <a:pt x="65" y="23"/>
                      </a:cubicBezTo>
                      <a:cubicBezTo>
                        <a:pt x="61" y="29"/>
                        <a:pt x="47" y="35"/>
                        <a:pt x="47" y="35"/>
                      </a:cubicBezTo>
                      <a:cubicBezTo>
                        <a:pt x="47" y="35"/>
                        <a:pt x="55" y="53"/>
                        <a:pt x="47" y="53"/>
                      </a:cubicBezTo>
                      <a:cubicBezTo>
                        <a:pt x="40" y="53"/>
                        <a:pt x="41" y="37"/>
                        <a:pt x="38" y="35"/>
                      </a:cubicBezTo>
                      <a:cubicBezTo>
                        <a:pt x="33" y="31"/>
                        <a:pt x="20" y="29"/>
                        <a:pt x="20" y="29"/>
                      </a:cubicBezTo>
                      <a:cubicBezTo>
                        <a:pt x="9" y="18"/>
                        <a:pt x="15" y="22"/>
                        <a:pt x="5" y="17"/>
                      </a:cubicBezTo>
                      <a:close/>
                    </a:path>
                  </a:pathLst>
                </a:custGeom>
                <a:solidFill>
                  <a:srgbClr val="ce0000"/>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Black"/>
                  </a:endParaRPr>
                </a:p>
              </p:txBody>
            </p:sp>
            <p:sp>
              <p:nvSpPr>
                <p:cNvPr id="243" name="Freeform 163"/>
                <p:cNvSpPr/>
                <p:nvPr/>
              </p:nvSpPr>
              <p:spPr>
                <a:xfrm>
                  <a:off x="4019400" y="1639080"/>
                  <a:ext cx="28080" cy="34920"/>
                </a:xfrm>
                <a:custGeom>
                  <a:avLst/>
                  <a:gdLst/>
                  <a:ahLst/>
                  <a:rect l="l" t="t" r="r" b="b"/>
                  <a:pathLst>
                    <a:path w="31" h="31">
                      <a:moveTo>
                        <a:pt x="8" y="16"/>
                      </a:moveTo>
                      <a:cubicBezTo>
                        <a:pt x="3" y="0"/>
                        <a:pt x="13" y="3"/>
                        <a:pt x="23" y="10"/>
                      </a:cubicBezTo>
                      <a:cubicBezTo>
                        <a:pt x="31" y="22"/>
                        <a:pt x="31" y="26"/>
                        <a:pt x="17" y="31"/>
                      </a:cubicBezTo>
                      <a:cubicBezTo>
                        <a:pt x="10" y="29"/>
                        <a:pt x="0" y="24"/>
                        <a:pt x="8" y="16"/>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44" name="Freeform 164"/>
                <p:cNvSpPr/>
                <p:nvPr/>
              </p:nvSpPr>
              <p:spPr>
                <a:xfrm>
                  <a:off x="3936960" y="1608120"/>
                  <a:ext cx="65880" cy="40320"/>
                </a:xfrm>
                <a:custGeom>
                  <a:avLst/>
                  <a:gdLst/>
                  <a:ahLst/>
                  <a:rect l="l" t="t" r="r" b="b"/>
                  <a:pathLst>
                    <a:path w="70" h="33">
                      <a:moveTo>
                        <a:pt x="24" y="9"/>
                      </a:moveTo>
                      <a:cubicBezTo>
                        <a:pt x="37" y="0"/>
                        <a:pt x="48" y="4"/>
                        <a:pt x="63" y="9"/>
                      </a:cubicBezTo>
                      <a:cubicBezTo>
                        <a:pt x="65" y="12"/>
                        <a:pt x="70" y="14"/>
                        <a:pt x="69" y="18"/>
                      </a:cubicBezTo>
                      <a:cubicBezTo>
                        <a:pt x="67" y="28"/>
                        <a:pt x="51" y="27"/>
                        <a:pt x="42" y="30"/>
                      </a:cubicBezTo>
                      <a:cubicBezTo>
                        <a:pt x="39" y="31"/>
                        <a:pt x="33" y="33"/>
                        <a:pt x="33" y="33"/>
                      </a:cubicBezTo>
                      <a:cubicBezTo>
                        <a:pt x="28" y="32"/>
                        <a:pt x="23" y="31"/>
                        <a:pt x="18" y="30"/>
                      </a:cubicBezTo>
                      <a:cubicBezTo>
                        <a:pt x="15" y="29"/>
                        <a:pt x="10" y="30"/>
                        <a:pt x="9" y="27"/>
                      </a:cubicBezTo>
                      <a:cubicBezTo>
                        <a:pt x="0" y="10"/>
                        <a:pt x="45" y="19"/>
                        <a:pt x="24" y="9"/>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45" name="Freeform 165"/>
                <p:cNvSpPr/>
                <p:nvPr/>
              </p:nvSpPr>
              <p:spPr>
                <a:xfrm>
                  <a:off x="3839040" y="1562040"/>
                  <a:ext cx="136440" cy="90000"/>
                </a:xfrm>
                <a:custGeom>
                  <a:avLst/>
                  <a:gdLst/>
                  <a:ahLst/>
                  <a:rect l="l" t="t" r="r" b="b"/>
                  <a:pathLst>
                    <a:path w="145" h="77">
                      <a:moveTo>
                        <a:pt x="145" y="29"/>
                      </a:moveTo>
                      <a:cubicBezTo>
                        <a:pt x="138" y="0"/>
                        <a:pt x="110" y="30"/>
                        <a:pt x="91" y="35"/>
                      </a:cubicBezTo>
                      <a:cubicBezTo>
                        <a:pt x="75" y="30"/>
                        <a:pt x="49" y="31"/>
                        <a:pt x="34" y="41"/>
                      </a:cubicBezTo>
                      <a:cubicBezTo>
                        <a:pt x="28" y="45"/>
                        <a:pt x="16" y="53"/>
                        <a:pt x="16" y="53"/>
                      </a:cubicBezTo>
                      <a:cubicBezTo>
                        <a:pt x="0" y="76"/>
                        <a:pt x="22" y="70"/>
                        <a:pt x="43" y="68"/>
                      </a:cubicBezTo>
                      <a:cubicBezTo>
                        <a:pt x="49" y="69"/>
                        <a:pt x="55" y="70"/>
                        <a:pt x="61" y="71"/>
                      </a:cubicBezTo>
                      <a:cubicBezTo>
                        <a:pt x="67" y="73"/>
                        <a:pt x="79" y="77"/>
                        <a:pt x="79" y="77"/>
                      </a:cubicBezTo>
                      <a:cubicBezTo>
                        <a:pt x="94" y="72"/>
                        <a:pt x="87" y="77"/>
                        <a:pt x="94" y="56"/>
                      </a:cubicBezTo>
                      <a:cubicBezTo>
                        <a:pt x="97" y="46"/>
                        <a:pt x="123" y="43"/>
                        <a:pt x="133" y="41"/>
                      </a:cubicBezTo>
                      <a:cubicBezTo>
                        <a:pt x="137" y="29"/>
                        <a:pt x="133" y="33"/>
                        <a:pt x="145" y="29"/>
                      </a:cubicBezTo>
                      <a:close/>
                    </a:path>
                  </a:pathLst>
                </a:custGeom>
                <a:solidFill>
                  <a:srgbClr val="ce0000"/>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Black"/>
                  </a:endParaRPr>
                </a:p>
              </p:txBody>
            </p:sp>
            <p:sp>
              <p:nvSpPr>
                <p:cNvPr id="246" name="Freeform 166"/>
                <p:cNvSpPr/>
                <p:nvPr/>
              </p:nvSpPr>
              <p:spPr>
                <a:xfrm>
                  <a:off x="3560400" y="1447920"/>
                  <a:ext cx="376200" cy="187560"/>
                </a:xfrm>
                <a:custGeom>
                  <a:avLst/>
                  <a:gdLst/>
                  <a:ahLst/>
                  <a:rect l="l" t="t" r="r" b="b"/>
                  <a:pathLst>
                    <a:path w="397" h="156">
                      <a:moveTo>
                        <a:pt x="324" y="3"/>
                      </a:moveTo>
                      <a:cubicBezTo>
                        <a:pt x="319" y="22"/>
                        <a:pt x="324" y="13"/>
                        <a:pt x="303" y="27"/>
                      </a:cubicBezTo>
                      <a:cubicBezTo>
                        <a:pt x="300" y="29"/>
                        <a:pt x="294" y="33"/>
                        <a:pt x="294" y="33"/>
                      </a:cubicBezTo>
                      <a:cubicBezTo>
                        <a:pt x="301" y="54"/>
                        <a:pt x="295" y="47"/>
                        <a:pt x="309" y="57"/>
                      </a:cubicBezTo>
                      <a:cubicBezTo>
                        <a:pt x="330" y="88"/>
                        <a:pt x="353" y="82"/>
                        <a:pt x="387" y="90"/>
                      </a:cubicBezTo>
                      <a:cubicBezTo>
                        <a:pt x="397" y="119"/>
                        <a:pt x="337" y="116"/>
                        <a:pt x="324" y="117"/>
                      </a:cubicBezTo>
                      <a:cubicBezTo>
                        <a:pt x="319" y="125"/>
                        <a:pt x="318" y="128"/>
                        <a:pt x="309" y="132"/>
                      </a:cubicBezTo>
                      <a:cubicBezTo>
                        <a:pt x="303" y="135"/>
                        <a:pt x="291" y="138"/>
                        <a:pt x="291" y="138"/>
                      </a:cubicBezTo>
                      <a:cubicBezTo>
                        <a:pt x="273" y="132"/>
                        <a:pt x="259" y="131"/>
                        <a:pt x="240" y="129"/>
                      </a:cubicBezTo>
                      <a:cubicBezTo>
                        <a:pt x="202" y="116"/>
                        <a:pt x="224" y="137"/>
                        <a:pt x="207" y="147"/>
                      </a:cubicBezTo>
                      <a:cubicBezTo>
                        <a:pt x="202" y="150"/>
                        <a:pt x="184" y="154"/>
                        <a:pt x="177" y="156"/>
                      </a:cubicBezTo>
                      <a:cubicBezTo>
                        <a:pt x="157" y="143"/>
                        <a:pt x="176" y="128"/>
                        <a:pt x="147" y="147"/>
                      </a:cubicBezTo>
                      <a:cubicBezTo>
                        <a:pt x="137" y="137"/>
                        <a:pt x="139" y="127"/>
                        <a:pt x="126" y="123"/>
                      </a:cubicBezTo>
                      <a:cubicBezTo>
                        <a:pt x="122" y="134"/>
                        <a:pt x="112" y="147"/>
                        <a:pt x="102" y="153"/>
                      </a:cubicBezTo>
                      <a:cubicBezTo>
                        <a:pt x="91" y="146"/>
                        <a:pt x="85" y="143"/>
                        <a:pt x="90" y="129"/>
                      </a:cubicBezTo>
                      <a:cubicBezTo>
                        <a:pt x="81" y="120"/>
                        <a:pt x="75" y="115"/>
                        <a:pt x="63" y="111"/>
                      </a:cubicBezTo>
                      <a:cubicBezTo>
                        <a:pt x="56" y="101"/>
                        <a:pt x="49" y="97"/>
                        <a:pt x="42" y="87"/>
                      </a:cubicBezTo>
                      <a:cubicBezTo>
                        <a:pt x="50" y="62"/>
                        <a:pt x="17" y="66"/>
                        <a:pt x="0" y="60"/>
                      </a:cubicBezTo>
                      <a:cubicBezTo>
                        <a:pt x="11" y="53"/>
                        <a:pt x="20" y="55"/>
                        <a:pt x="24" y="42"/>
                      </a:cubicBezTo>
                      <a:cubicBezTo>
                        <a:pt x="16" y="30"/>
                        <a:pt x="16" y="26"/>
                        <a:pt x="30" y="21"/>
                      </a:cubicBezTo>
                      <a:cubicBezTo>
                        <a:pt x="42" y="29"/>
                        <a:pt x="45" y="31"/>
                        <a:pt x="60" y="27"/>
                      </a:cubicBezTo>
                      <a:cubicBezTo>
                        <a:pt x="85" y="35"/>
                        <a:pt x="77" y="19"/>
                        <a:pt x="90" y="6"/>
                      </a:cubicBezTo>
                      <a:lnTo>
                        <a:pt x="180" y="3"/>
                      </a:lnTo>
                      <a:lnTo>
                        <a:pt x="270" y="0"/>
                      </a:lnTo>
                      <a:lnTo>
                        <a:pt x="324" y="3"/>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7" name="Freeform 167"/>
                <p:cNvSpPr/>
                <p:nvPr/>
              </p:nvSpPr>
              <p:spPr>
                <a:xfrm>
                  <a:off x="4103280" y="1593360"/>
                  <a:ext cx="37440" cy="34920"/>
                </a:xfrm>
                <a:custGeom>
                  <a:avLst/>
                  <a:gdLst/>
                  <a:ahLst/>
                  <a:rect l="l" t="t" r="r" b="b"/>
                  <a:pathLst>
                    <a:path w="40" h="30">
                      <a:moveTo>
                        <a:pt x="6" y="6"/>
                      </a:moveTo>
                      <a:cubicBezTo>
                        <a:pt x="27" y="13"/>
                        <a:pt x="19" y="8"/>
                        <a:pt x="33" y="18"/>
                      </a:cubicBezTo>
                      <a:cubicBezTo>
                        <a:pt x="36" y="26"/>
                        <a:pt x="40" y="30"/>
                        <a:pt x="27" y="30"/>
                      </a:cubicBezTo>
                      <a:cubicBezTo>
                        <a:pt x="17" y="30"/>
                        <a:pt x="0" y="15"/>
                        <a:pt x="0" y="15"/>
                      </a:cubicBezTo>
                      <a:cubicBezTo>
                        <a:pt x="3" y="2"/>
                        <a:pt x="0" y="0"/>
                        <a:pt x="6" y="6"/>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48" name="Freeform 168"/>
                <p:cNvSpPr/>
                <p:nvPr/>
              </p:nvSpPr>
              <p:spPr>
                <a:xfrm>
                  <a:off x="4092120" y="1644120"/>
                  <a:ext cx="32760" cy="15480"/>
                </a:xfrm>
                <a:custGeom>
                  <a:avLst/>
                  <a:gdLst/>
                  <a:ahLst/>
                  <a:rect l="l" t="t" r="r" b="b"/>
                  <a:pathLst>
                    <a:path w="32" h="15">
                      <a:moveTo>
                        <a:pt x="9" y="0"/>
                      </a:moveTo>
                      <a:cubicBezTo>
                        <a:pt x="29" y="4"/>
                        <a:pt x="32" y="8"/>
                        <a:pt x="12" y="15"/>
                      </a:cubicBezTo>
                      <a:cubicBezTo>
                        <a:pt x="1" y="4"/>
                        <a:pt x="0" y="9"/>
                        <a:pt x="9" y="0"/>
                      </a:cubicBezTo>
                      <a:close/>
                    </a:path>
                  </a:pathLst>
                </a:custGeom>
                <a:solidFill>
                  <a:srgbClr val="ce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Black"/>
                  </a:endParaRPr>
                </a:p>
              </p:txBody>
            </p:sp>
            <p:sp>
              <p:nvSpPr>
                <p:cNvPr id="249" name="Freeform 169"/>
                <p:cNvSpPr/>
                <p:nvPr/>
              </p:nvSpPr>
              <p:spPr>
                <a:xfrm>
                  <a:off x="4118400" y="1661040"/>
                  <a:ext cx="65880" cy="80280"/>
                </a:xfrm>
                <a:custGeom>
                  <a:avLst/>
                  <a:gdLst/>
                  <a:ahLst/>
                  <a:rect l="l" t="t" r="r" b="b"/>
                  <a:pathLst>
                    <a:path w="69" h="66">
                      <a:moveTo>
                        <a:pt x="9" y="9"/>
                      </a:moveTo>
                      <a:cubicBezTo>
                        <a:pt x="23" y="0"/>
                        <a:pt x="32" y="3"/>
                        <a:pt x="45" y="12"/>
                      </a:cubicBezTo>
                      <a:cubicBezTo>
                        <a:pt x="47" y="18"/>
                        <a:pt x="47" y="26"/>
                        <a:pt x="51" y="30"/>
                      </a:cubicBezTo>
                      <a:cubicBezTo>
                        <a:pt x="57" y="36"/>
                        <a:pt x="69" y="48"/>
                        <a:pt x="69" y="48"/>
                      </a:cubicBezTo>
                      <a:cubicBezTo>
                        <a:pt x="63" y="66"/>
                        <a:pt x="51" y="59"/>
                        <a:pt x="36" y="54"/>
                      </a:cubicBezTo>
                      <a:cubicBezTo>
                        <a:pt x="27" y="40"/>
                        <a:pt x="15" y="43"/>
                        <a:pt x="0" y="39"/>
                      </a:cubicBezTo>
                      <a:cubicBezTo>
                        <a:pt x="4" y="26"/>
                        <a:pt x="9" y="26"/>
                        <a:pt x="21" y="30"/>
                      </a:cubicBezTo>
                      <a:cubicBezTo>
                        <a:pt x="41" y="23"/>
                        <a:pt x="9" y="21"/>
                        <a:pt x="0" y="18"/>
                      </a:cubicBezTo>
                      <a:cubicBezTo>
                        <a:pt x="3" y="15"/>
                        <a:pt x="9" y="9"/>
                        <a:pt x="9" y="9"/>
                      </a:cubicBezTo>
                      <a:close/>
                    </a:path>
                  </a:pathLst>
                </a:custGeom>
                <a:solidFill>
                  <a:srgbClr val="ce00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Black"/>
                  </a:endParaRPr>
                </a:p>
              </p:txBody>
            </p:sp>
            <p:sp>
              <p:nvSpPr>
                <p:cNvPr id="250" name="Freeform 170"/>
                <p:cNvSpPr/>
                <p:nvPr/>
              </p:nvSpPr>
              <p:spPr>
                <a:xfrm>
                  <a:off x="4198680" y="1699200"/>
                  <a:ext cx="82800" cy="69480"/>
                </a:xfrm>
                <a:custGeom>
                  <a:avLst/>
                  <a:gdLst/>
                  <a:ahLst/>
                  <a:rect l="l" t="t" r="r" b="b"/>
                  <a:pathLst>
                    <a:path w="90" h="60">
                      <a:moveTo>
                        <a:pt x="0" y="28"/>
                      </a:moveTo>
                      <a:cubicBezTo>
                        <a:pt x="9" y="0"/>
                        <a:pt x="34" y="29"/>
                        <a:pt x="57" y="37"/>
                      </a:cubicBezTo>
                      <a:cubicBezTo>
                        <a:pt x="66" y="40"/>
                        <a:pt x="84" y="46"/>
                        <a:pt x="84" y="46"/>
                      </a:cubicBezTo>
                      <a:cubicBezTo>
                        <a:pt x="85" y="49"/>
                        <a:pt x="90" y="54"/>
                        <a:pt x="87" y="55"/>
                      </a:cubicBezTo>
                      <a:cubicBezTo>
                        <a:pt x="64" y="60"/>
                        <a:pt x="26" y="43"/>
                        <a:pt x="3" y="40"/>
                      </a:cubicBezTo>
                      <a:cubicBezTo>
                        <a:pt x="0" y="30"/>
                        <a:pt x="0" y="34"/>
                        <a:pt x="0" y="28"/>
                      </a:cubicBezTo>
                      <a:close/>
                    </a:path>
                  </a:pathLst>
                </a:custGeom>
                <a:solidFill>
                  <a:srgbClr val="ce00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Black"/>
                  </a:endParaRPr>
                </a:p>
              </p:txBody>
            </p:sp>
            <p:sp>
              <p:nvSpPr>
                <p:cNvPr id="251" name="Freeform 171"/>
                <p:cNvSpPr/>
                <p:nvPr/>
              </p:nvSpPr>
              <p:spPr>
                <a:xfrm>
                  <a:off x="4192920" y="1652400"/>
                  <a:ext cx="153720" cy="94680"/>
                </a:xfrm>
                <a:custGeom>
                  <a:avLst/>
                  <a:gdLst/>
                  <a:ahLst/>
                  <a:rect l="l" t="t" r="r" b="b"/>
                  <a:pathLst>
                    <a:path w="162" h="81">
                      <a:moveTo>
                        <a:pt x="30" y="30"/>
                      </a:moveTo>
                      <a:cubicBezTo>
                        <a:pt x="25" y="15"/>
                        <a:pt x="16" y="18"/>
                        <a:pt x="0" y="15"/>
                      </a:cubicBezTo>
                      <a:cubicBezTo>
                        <a:pt x="1" y="12"/>
                        <a:pt x="0" y="6"/>
                        <a:pt x="3" y="6"/>
                      </a:cubicBezTo>
                      <a:cubicBezTo>
                        <a:pt x="9" y="5"/>
                        <a:pt x="21" y="12"/>
                        <a:pt x="21" y="12"/>
                      </a:cubicBezTo>
                      <a:cubicBezTo>
                        <a:pt x="31" y="9"/>
                        <a:pt x="38" y="3"/>
                        <a:pt x="48" y="0"/>
                      </a:cubicBezTo>
                      <a:cubicBezTo>
                        <a:pt x="82" y="3"/>
                        <a:pt x="109" y="16"/>
                        <a:pt x="141" y="27"/>
                      </a:cubicBezTo>
                      <a:cubicBezTo>
                        <a:pt x="156" y="49"/>
                        <a:pt x="162" y="47"/>
                        <a:pt x="132" y="54"/>
                      </a:cubicBezTo>
                      <a:cubicBezTo>
                        <a:pt x="129" y="64"/>
                        <a:pt x="123" y="71"/>
                        <a:pt x="120" y="81"/>
                      </a:cubicBezTo>
                      <a:cubicBezTo>
                        <a:pt x="92" y="75"/>
                        <a:pt x="107" y="66"/>
                        <a:pt x="93" y="45"/>
                      </a:cubicBezTo>
                      <a:cubicBezTo>
                        <a:pt x="89" y="58"/>
                        <a:pt x="90" y="64"/>
                        <a:pt x="78" y="72"/>
                      </a:cubicBezTo>
                      <a:cubicBezTo>
                        <a:pt x="60" y="66"/>
                        <a:pt x="77" y="74"/>
                        <a:pt x="63" y="60"/>
                      </a:cubicBezTo>
                      <a:cubicBezTo>
                        <a:pt x="39" y="36"/>
                        <a:pt x="42" y="65"/>
                        <a:pt x="30" y="3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52" name="Freeform 172"/>
                <p:cNvSpPr/>
                <p:nvPr/>
              </p:nvSpPr>
              <p:spPr>
                <a:xfrm>
                  <a:off x="4151160" y="1608120"/>
                  <a:ext cx="53640" cy="40320"/>
                </a:xfrm>
                <a:custGeom>
                  <a:avLst/>
                  <a:gdLst/>
                  <a:ahLst/>
                  <a:rect l="l" t="t" r="r" b="b"/>
                  <a:pathLst>
                    <a:path w="59" h="36">
                      <a:moveTo>
                        <a:pt x="14" y="0"/>
                      </a:moveTo>
                      <a:cubicBezTo>
                        <a:pt x="26" y="2"/>
                        <a:pt x="38" y="5"/>
                        <a:pt x="50" y="9"/>
                      </a:cubicBezTo>
                      <a:cubicBezTo>
                        <a:pt x="59" y="22"/>
                        <a:pt x="55" y="25"/>
                        <a:pt x="44" y="36"/>
                      </a:cubicBezTo>
                      <a:cubicBezTo>
                        <a:pt x="35" y="33"/>
                        <a:pt x="26" y="30"/>
                        <a:pt x="17" y="27"/>
                      </a:cubicBezTo>
                      <a:cubicBezTo>
                        <a:pt x="14" y="26"/>
                        <a:pt x="8" y="24"/>
                        <a:pt x="8" y="24"/>
                      </a:cubicBezTo>
                      <a:cubicBezTo>
                        <a:pt x="0" y="11"/>
                        <a:pt x="2" y="8"/>
                        <a:pt x="14" y="0"/>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53" name="Freeform 173"/>
                <p:cNvSpPr/>
                <p:nvPr/>
              </p:nvSpPr>
              <p:spPr>
                <a:xfrm>
                  <a:off x="4176000" y="1517760"/>
                  <a:ext cx="363240" cy="271800"/>
                </a:xfrm>
                <a:custGeom>
                  <a:avLst/>
                  <a:gdLst/>
                  <a:ahLst/>
                  <a:rect l="l" t="t" r="r" b="b"/>
                  <a:pathLst>
                    <a:path w="383" h="225">
                      <a:moveTo>
                        <a:pt x="11" y="0"/>
                      </a:moveTo>
                      <a:cubicBezTo>
                        <a:pt x="17" y="19"/>
                        <a:pt x="20" y="29"/>
                        <a:pt x="41" y="36"/>
                      </a:cubicBezTo>
                      <a:cubicBezTo>
                        <a:pt x="54" y="32"/>
                        <a:pt x="64" y="35"/>
                        <a:pt x="77" y="39"/>
                      </a:cubicBezTo>
                      <a:cubicBezTo>
                        <a:pt x="85" y="51"/>
                        <a:pt x="85" y="55"/>
                        <a:pt x="71" y="60"/>
                      </a:cubicBezTo>
                      <a:cubicBezTo>
                        <a:pt x="54" y="54"/>
                        <a:pt x="37" y="51"/>
                        <a:pt x="20" y="45"/>
                      </a:cubicBezTo>
                      <a:cubicBezTo>
                        <a:pt x="5" y="50"/>
                        <a:pt x="12" y="56"/>
                        <a:pt x="23" y="60"/>
                      </a:cubicBezTo>
                      <a:cubicBezTo>
                        <a:pt x="17" y="61"/>
                        <a:pt x="10" y="59"/>
                        <a:pt x="5" y="63"/>
                      </a:cubicBezTo>
                      <a:cubicBezTo>
                        <a:pt x="0" y="67"/>
                        <a:pt x="8" y="79"/>
                        <a:pt x="14" y="81"/>
                      </a:cubicBezTo>
                      <a:cubicBezTo>
                        <a:pt x="27" y="84"/>
                        <a:pt x="40" y="83"/>
                        <a:pt x="53" y="84"/>
                      </a:cubicBezTo>
                      <a:cubicBezTo>
                        <a:pt x="78" y="92"/>
                        <a:pt x="75" y="86"/>
                        <a:pt x="98" y="78"/>
                      </a:cubicBezTo>
                      <a:cubicBezTo>
                        <a:pt x="102" y="91"/>
                        <a:pt x="109" y="90"/>
                        <a:pt x="122" y="93"/>
                      </a:cubicBezTo>
                      <a:cubicBezTo>
                        <a:pt x="113" y="107"/>
                        <a:pt x="112" y="97"/>
                        <a:pt x="98" y="102"/>
                      </a:cubicBezTo>
                      <a:cubicBezTo>
                        <a:pt x="107" y="108"/>
                        <a:pt x="116" y="111"/>
                        <a:pt x="125" y="117"/>
                      </a:cubicBezTo>
                      <a:cubicBezTo>
                        <a:pt x="133" y="129"/>
                        <a:pt x="142" y="128"/>
                        <a:pt x="155" y="132"/>
                      </a:cubicBezTo>
                      <a:cubicBezTo>
                        <a:pt x="167" y="128"/>
                        <a:pt x="174" y="131"/>
                        <a:pt x="185" y="135"/>
                      </a:cubicBezTo>
                      <a:cubicBezTo>
                        <a:pt x="189" y="146"/>
                        <a:pt x="200" y="161"/>
                        <a:pt x="200" y="168"/>
                      </a:cubicBezTo>
                      <a:cubicBezTo>
                        <a:pt x="213" y="180"/>
                        <a:pt x="229" y="189"/>
                        <a:pt x="239" y="204"/>
                      </a:cubicBezTo>
                      <a:cubicBezTo>
                        <a:pt x="241" y="207"/>
                        <a:pt x="225" y="204"/>
                        <a:pt x="227" y="207"/>
                      </a:cubicBezTo>
                      <a:cubicBezTo>
                        <a:pt x="231" y="212"/>
                        <a:pt x="245" y="213"/>
                        <a:pt x="245" y="213"/>
                      </a:cubicBezTo>
                      <a:cubicBezTo>
                        <a:pt x="262" y="207"/>
                        <a:pt x="279" y="216"/>
                        <a:pt x="293" y="225"/>
                      </a:cubicBezTo>
                      <a:cubicBezTo>
                        <a:pt x="311" y="219"/>
                        <a:pt x="311" y="208"/>
                        <a:pt x="296" y="198"/>
                      </a:cubicBezTo>
                      <a:cubicBezTo>
                        <a:pt x="285" y="182"/>
                        <a:pt x="277" y="175"/>
                        <a:pt x="299" y="168"/>
                      </a:cubicBezTo>
                      <a:cubicBezTo>
                        <a:pt x="319" y="182"/>
                        <a:pt x="366" y="164"/>
                        <a:pt x="383" y="147"/>
                      </a:cubicBezTo>
                      <a:lnTo>
                        <a:pt x="260" y="81"/>
                      </a:lnTo>
                      <a:lnTo>
                        <a:pt x="134" y="36"/>
                      </a:lnTo>
                      <a:lnTo>
                        <a:pt x="59" y="12"/>
                      </a:lnTo>
                      <a:lnTo>
                        <a:pt x="11" y="0"/>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54" name="Freeform 174"/>
                <p:cNvSpPr/>
                <p:nvPr/>
              </p:nvSpPr>
              <p:spPr>
                <a:xfrm>
                  <a:off x="3370680" y="1494720"/>
                  <a:ext cx="76320" cy="45720"/>
                </a:xfrm>
                <a:custGeom>
                  <a:avLst/>
                  <a:gdLst/>
                  <a:ahLst/>
                  <a:rect l="l" t="t" r="r" b="b"/>
                  <a:pathLst>
                    <a:path w="81" h="39">
                      <a:moveTo>
                        <a:pt x="18" y="33"/>
                      </a:moveTo>
                      <a:cubicBezTo>
                        <a:pt x="0" y="6"/>
                        <a:pt x="43" y="6"/>
                        <a:pt x="60" y="0"/>
                      </a:cubicBezTo>
                      <a:cubicBezTo>
                        <a:pt x="72" y="4"/>
                        <a:pt x="77" y="6"/>
                        <a:pt x="81" y="18"/>
                      </a:cubicBezTo>
                      <a:cubicBezTo>
                        <a:pt x="70" y="25"/>
                        <a:pt x="66" y="28"/>
                        <a:pt x="54" y="24"/>
                      </a:cubicBezTo>
                      <a:cubicBezTo>
                        <a:pt x="44" y="27"/>
                        <a:pt x="27" y="39"/>
                        <a:pt x="27" y="39"/>
                      </a:cubicBezTo>
                      <a:cubicBezTo>
                        <a:pt x="18" y="36"/>
                        <a:pt x="4" y="19"/>
                        <a:pt x="18" y="33"/>
                      </a:cubicBezTo>
                      <a:close/>
                    </a:path>
                  </a:pathLst>
                </a:custGeom>
                <a:solidFill>
                  <a:srgbClr val="ce0000"/>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Black"/>
                  </a:endParaRPr>
                </a:p>
              </p:txBody>
            </p:sp>
            <p:sp>
              <p:nvSpPr>
                <p:cNvPr id="255" name="Freeform 175"/>
                <p:cNvSpPr/>
                <p:nvPr/>
              </p:nvSpPr>
              <p:spPr>
                <a:xfrm>
                  <a:off x="3427200" y="1658520"/>
                  <a:ext cx="86760" cy="50400"/>
                </a:xfrm>
                <a:custGeom>
                  <a:avLst/>
                  <a:gdLst/>
                  <a:ahLst/>
                  <a:rect l="l" t="t" r="r" b="b"/>
                  <a:pathLst>
                    <a:path w="93" h="40">
                      <a:moveTo>
                        <a:pt x="15" y="36"/>
                      </a:moveTo>
                      <a:cubicBezTo>
                        <a:pt x="0" y="14"/>
                        <a:pt x="36" y="10"/>
                        <a:pt x="51" y="6"/>
                      </a:cubicBezTo>
                      <a:cubicBezTo>
                        <a:pt x="57" y="4"/>
                        <a:pt x="69" y="0"/>
                        <a:pt x="69" y="0"/>
                      </a:cubicBezTo>
                      <a:cubicBezTo>
                        <a:pt x="82" y="3"/>
                        <a:pt x="89" y="2"/>
                        <a:pt x="93" y="15"/>
                      </a:cubicBezTo>
                      <a:cubicBezTo>
                        <a:pt x="59" y="24"/>
                        <a:pt x="65" y="16"/>
                        <a:pt x="42" y="39"/>
                      </a:cubicBezTo>
                      <a:cubicBezTo>
                        <a:pt x="31" y="38"/>
                        <a:pt x="19" y="40"/>
                        <a:pt x="9" y="36"/>
                      </a:cubicBezTo>
                      <a:cubicBezTo>
                        <a:pt x="6" y="35"/>
                        <a:pt x="9" y="27"/>
                        <a:pt x="12" y="27"/>
                      </a:cubicBezTo>
                      <a:cubicBezTo>
                        <a:pt x="15" y="27"/>
                        <a:pt x="14" y="33"/>
                        <a:pt x="15" y="36"/>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56" name="Freeform 176"/>
                <p:cNvSpPr/>
                <p:nvPr/>
              </p:nvSpPr>
              <p:spPr>
                <a:xfrm>
                  <a:off x="3475440" y="1685880"/>
                  <a:ext cx="50040" cy="34920"/>
                </a:xfrm>
                <a:custGeom>
                  <a:avLst/>
                  <a:gdLst/>
                  <a:ahLst/>
                  <a:rect l="l" t="t" r="r" b="b"/>
                  <a:pathLst>
                    <a:path w="53" h="31">
                      <a:moveTo>
                        <a:pt x="14" y="25"/>
                      </a:moveTo>
                      <a:cubicBezTo>
                        <a:pt x="8" y="6"/>
                        <a:pt x="19" y="5"/>
                        <a:pt x="35" y="1"/>
                      </a:cubicBezTo>
                      <a:cubicBezTo>
                        <a:pt x="39" y="2"/>
                        <a:pt x="46" y="0"/>
                        <a:pt x="47" y="4"/>
                      </a:cubicBezTo>
                      <a:cubicBezTo>
                        <a:pt x="53" y="24"/>
                        <a:pt x="41" y="21"/>
                        <a:pt x="32" y="25"/>
                      </a:cubicBezTo>
                      <a:cubicBezTo>
                        <a:pt x="29" y="27"/>
                        <a:pt x="26" y="29"/>
                        <a:pt x="23" y="31"/>
                      </a:cubicBezTo>
                      <a:cubicBezTo>
                        <a:pt x="14" y="28"/>
                        <a:pt x="0" y="11"/>
                        <a:pt x="14" y="25"/>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57" name="Freeform 177"/>
                <p:cNvSpPr/>
                <p:nvPr/>
              </p:nvSpPr>
              <p:spPr>
                <a:xfrm>
                  <a:off x="3478320" y="1762920"/>
                  <a:ext cx="57240" cy="25200"/>
                </a:xfrm>
                <a:custGeom>
                  <a:avLst/>
                  <a:gdLst/>
                  <a:ahLst/>
                  <a:rect l="l" t="t" r="r" b="b"/>
                  <a:pathLst>
                    <a:path w="62" h="21">
                      <a:moveTo>
                        <a:pt x="25" y="21"/>
                      </a:moveTo>
                      <a:cubicBezTo>
                        <a:pt x="0" y="4"/>
                        <a:pt x="10" y="5"/>
                        <a:pt x="31" y="0"/>
                      </a:cubicBezTo>
                      <a:cubicBezTo>
                        <a:pt x="62" y="6"/>
                        <a:pt x="40" y="16"/>
                        <a:pt x="25" y="21"/>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58" name="Freeform 178"/>
                <p:cNvSpPr/>
                <p:nvPr/>
              </p:nvSpPr>
              <p:spPr>
                <a:xfrm>
                  <a:off x="3489480" y="1801800"/>
                  <a:ext cx="45360" cy="36000"/>
                </a:xfrm>
                <a:custGeom>
                  <a:avLst/>
                  <a:gdLst/>
                  <a:ahLst/>
                  <a:rect l="l" t="t" r="r" b="b"/>
                  <a:pathLst>
                    <a:path w="45" h="31">
                      <a:moveTo>
                        <a:pt x="0" y="12"/>
                      </a:moveTo>
                      <a:cubicBezTo>
                        <a:pt x="17" y="0"/>
                        <a:pt x="29" y="4"/>
                        <a:pt x="45" y="15"/>
                      </a:cubicBezTo>
                      <a:cubicBezTo>
                        <a:pt x="34" y="31"/>
                        <a:pt x="29" y="20"/>
                        <a:pt x="15" y="15"/>
                      </a:cubicBezTo>
                      <a:cubicBezTo>
                        <a:pt x="10" y="13"/>
                        <a:pt x="0" y="12"/>
                        <a:pt x="0" y="12"/>
                      </a:cubicBezTo>
                      <a:close/>
                    </a:path>
                  </a:pathLst>
                </a:custGeom>
                <a:solidFill>
                  <a:srgbClr val="ce0000"/>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Black"/>
                  </a:endParaRPr>
                </a:p>
              </p:txBody>
            </p:sp>
            <p:sp>
              <p:nvSpPr>
                <p:cNvPr id="259" name="Freeform 179"/>
                <p:cNvSpPr/>
                <p:nvPr/>
              </p:nvSpPr>
              <p:spPr>
                <a:xfrm>
                  <a:off x="3576600" y="1864080"/>
                  <a:ext cx="53640" cy="34920"/>
                </a:xfrm>
                <a:custGeom>
                  <a:avLst/>
                  <a:gdLst/>
                  <a:ahLst/>
                  <a:rect l="l" t="t" r="r" b="b"/>
                  <a:pathLst>
                    <a:path w="54" h="30">
                      <a:moveTo>
                        <a:pt x="0" y="24"/>
                      </a:moveTo>
                      <a:cubicBezTo>
                        <a:pt x="16" y="0"/>
                        <a:pt x="54" y="18"/>
                        <a:pt x="18" y="30"/>
                      </a:cubicBezTo>
                      <a:cubicBezTo>
                        <a:pt x="13" y="28"/>
                        <a:pt x="0" y="18"/>
                        <a:pt x="0" y="24"/>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60" name="Freeform 180"/>
                <p:cNvSpPr/>
                <p:nvPr/>
              </p:nvSpPr>
              <p:spPr>
                <a:xfrm>
                  <a:off x="3559680" y="1906200"/>
                  <a:ext cx="37440" cy="29880"/>
                </a:xfrm>
                <a:custGeom>
                  <a:avLst/>
                  <a:gdLst/>
                  <a:ahLst/>
                  <a:rect l="l" t="t" r="r" b="b"/>
                  <a:pathLst>
                    <a:path w="40" h="24">
                      <a:moveTo>
                        <a:pt x="6" y="10"/>
                      </a:moveTo>
                      <a:cubicBezTo>
                        <a:pt x="17" y="3"/>
                        <a:pt x="21" y="0"/>
                        <a:pt x="33" y="4"/>
                      </a:cubicBezTo>
                      <a:cubicBezTo>
                        <a:pt x="40" y="24"/>
                        <a:pt x="33" y="22"/>
                        <a:pt x="12" y="19"/>
                      </a:cubicBezTo>
                      <a:cubicBezTo>
                        <a:pt x="2" y="12"/>
                        <a:pt x="0" y="16"/>
                        <a:pt x="6" y="10"/>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61" name="Freeform 181"/>
                <p:cNvSpPr/>
                <p:nvPr/>
              </p:nvSpPr>
              <p:spPr>
                <a:xfrm>
                  <a:off x="3572640" y="1947240"/>
                  <a:ext cx="28440" cy="25200"/>
                </a:xfrm>
                <a:custGeom>
                  <a:avLst/>
                  <a:gdLst/>
                  <a:ahLst/>
                  <a:rect l="l" t="t" r="r" b="b"/>
                  <a:pathLst>
                    <a:path w="30" h="20">
                      <a:moveTo>
                        <a:pt x="3" y="5"/>
                      </a:moveTo>
                      <a:cubicBezTo>
                        <a:pt x="16" y="1"/>
                        <a:pt x="25" y="0"/>
                        <a:pt x="30" y="14"/>
                      </a:cubicBezTo>
                      <a:cubicBezTo>
                        <a:pt x="23" y="16"/>
                        <a:pt x="19" y="20"/>
                        <a:pt x="12" y="14"/>
                      </a:cubicBezTo>
                      <a:cubicBezTo>
                        <a:pt x="0" y="4"/>
                        <a:pt x="11" y="5"/>
                        <a:pt x="3" y="5"/>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62" name="Freeform 182"/>
                <p:cNvSpPr/>
                <p:nvPr/>
              </p:nvSpPr>
              <p:spPr>
                <a:xfrm>
                  <a:off x="3784320" y="2038680"/>
                  <a:ext cx="57240" cy="50400"/>
                </a:xfrm>
                <a:custGeom>
                  <a:avLst/>
                  <a:gdLst/>
                  <a:ahLst/>
                  <a:rect l="l" t="t" r="r" b="b"/>
                  <a:pathLst>
                    <a:path w="62" h="41">
                      <a:moveTo>
                        <a:pt x="49" y="18"/>
                      </a:moveTo>
                      <a:cubicBezTo>
                        <a:pt x="41" y="41"/>
                        <a:pt x="20" y="31"/>
                        <a:pt x="4" y="21"/>
                      </a:cubicBezTo>
                      <a:cubicBezTo>
                        <a:pt x="0" y="8"/>
                        <a:pt x="3" y="4"/>
                        <a:pt x="16" y="0"/>
                      </a:cubicBezTo>
                      <a:cubicBezTo>
                        <a:pt x="27" y="4"/>
                        <a:pt x="34" y="7"/>
                        <a:pt x="46" y="3"/>
                      </a:cubicBezTo>
                      <a:cubicBezTo>
                        <a:pt x="49" y="5"/>
                        <a:pt x="62" y="12"/>
                        <a:pt x="61" y="18"/>
                      </a:cubicBezTo>
                      <a:cubicBezTo>
                        <a:pt x="58" y="29"/>
                        <a:pt x="51" y="20"/>
                        <a:pt x="49" y="18"/>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63" name="Freeform 183"/>
                <p:cNvSpPr/>
                <p:nvPr/>
              </p:nvSpPr>
              <p:spPr>
                <a:xfrm>
                  <a:off x="3846600" y="2048400"/>
                  <a:ext cx="42480" cy="19080"/>
                </a:xfrm>
                <a:custGeom>
                  <a:avLst/>
                  <a:gdLst/>
                  <a:ahLst/>
                  <a:rect l="l" t="t" r="r" b="b"/>
                  <a:pathLst>
                    <a:path w="45" h="18">
                      <a:moveTo>
                        <a:pt x="25" y="15"/>
                      </a:moveTo>
                      <a:cubicBezTo>
                        <a:pt x="13" y="11"/>
                        <a:pt x="0" y="10"/>
                        <a:pt x="16" y="0"/>
                      </a:cubicBezTo>
                      <a:cubicBezTo>
                        <a:pt x="31" y="3"/>
                        <a:pt x="45" y="2"/>
                        <a:pt x="34" y="18"/>
                      </a:cubicBezTo>
                      <a:cubicBezTo>
                        <a:pt x="31" y="17"/>
                        <a:pt x="25" y="15"/>
                        <a:pt x="25" y="15"/>
                      </a:cubicBezTo>
                      <a:close/>
                    </a:path>
                  </a:pathLst>
                </a:custGeom>
                <a:solidFill>
                  <a:srgbClr val="ce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Black"/>
                  </a:endParaRPr>
                </a:p>
              </p:txBody>
            </p:sp>
            <p:sp>
              <p:nvSpPr>
                <p:cNvPr id="264" name="Freeform 184"/>
                <p:cNvSpPr/>
                <p:nvPr/>
              </p:nvSpPr>
              <p:spPr>
                <a:xfrm>
                  <a:off x="3804840" y="2086920"/>
                  <a:ext cx="40320" cy="24840"/>
                </a:xfrm>
                <a:custGeom>
                  <a:avLst/>
                  <a:gdLst/>
                  <a:ahLst/>
                  <a:rect l="l" t="t" r="r" b="b"/>
                  <a:pathLst>
                    <a:path w="45" h="23">
                      <a:moveTo>
                        <a:pt x="8" y="8"/>
                      </a:moveTo>
                      <a:cubicBezTo>
                        <a:pt x="18" y="5"/>
                        <a:pt x="27" y="0"/>
                        <a:pt x="38" y="8"/>
                      </a:cubicBezTo>
                      <a:cubicBezTo>
                        <a:pt x="45" y="13"/>
                        <a:pt x="17" y="23"/>
                        <a:pt x="17" y="23"/>
                      </a:cubicBezTo>
                      <a:cubicBezTo>
                        <a:pt x="10" y="21"/>
                        <a:pt x="0" y="16"/>
                        <a:pt x="8" y="8"/>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65" name="Freeform 185"/>
                <p:cNvSpPr/>
                <p:nvPr/>
              </p:nvSpPr>
              <p:spPr>
                <a:xfrm>
                  <a:off x="4132440" y="2053080"/>
                  <a:ext cx="50760" cy="29880"/>
                </a:xfrm>
                <a:custGeom>
                  <a:avLst/>
                  <a:gdLst/>
                  <a:ahLst/>
                  <a:rect l="l" t="t" r="r" b="b"/>
                  <a:pathLst>
                    <a:path w="50" h="26">
                      <a:moveTo>
                        <a:pt x="22" y="2"/>
                      </a:moveTo>
                      <a:cubicBezTo>
                        <a:pt x="29" y="0"/>
                        <a:pt x="50" y="1"/>
                        <a:pt x="37" y="14"/>
                      </a:cubicBezTo>
                      <a:cubicBezTo>
                        <a:pt x="32" y="19"/>
                        <a:pt x="17" y="24"/>
                        <a:pt x="10" y="26"/>
                      </a:cubicBezTo>
                      <a:cubicBezTo>
                        <a:pt x="4" y="8"/>
                        <a:pt x="0" y="2"/>
                        <a:pt x="22" y="2"/>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66" name="Freeform 186"/>
                <p:cNvSpPr/>
                <p:nvPr/>
              </p:nvSpPr>
              <p:spPr>
                <a:xfrm>
                  <a:off x="4371480" y="2179440"/>
                  <a:ext cx="25200" cy="20160"/>
                </a:xfrm>
                <a:custGeom>
                  <a:avLst/>
                  <a:gdLst/>
                  <a:ahLst/>
                  <a:rect l="l" t="t" r="r" b="b"/>
                  <a:pathLst>
                    <a:path w="24" h="17">
                      <a:moveTo>
                        <a:pt x="0" y="13"/>
                      </a:moveTo>
                      <a:cubicBezTo>
                        <a:pt x="8" y="2"/>
                        <a:pt x="11" y="0"/>
                        <a:pt x="24" y="4"/>
                      </a:cubicBezTo>
                      <a:cubicBezTo>
                        <a:pt x="16" y="15"/>
                        <a:pt x="13" y="17"/>
                        <a:pt x="0" y="13"/>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67" name="Freeform 187"/>
                <p:cNvSpPr/>
                <p:nvPr/>
              </p:nvSpPr>
              <p:spPr>
                <a:xfrm>
                  <a:off x="2160360" y="1635480"/>
                  <a:ext cx="2175840" cy="2764440"/>
                </a:xfrm>
                <a:custGeom>
                  <a:avLst/>
                  <a:gdLst/>
                  <a:ahLst/>
                  <a:rect l="l" t="t" r="r" b="b"/>
                  <a:pathLst>
                    <a:path w="2308" h="2297">
                      <a:moveTo>
                        <a:pt x="847" y="63"/>
                      </a:moveTo>
                      <a:cubicBezTo>
                        <a:pt x="856" y="89"/>
                        <a:pt x="868" y="59"/>
                        <a:pt x="883" y="54"/>
                      </a:cubicBezTo>
                      <a:cubicBezTo>
                        <a:pt x="892" y="51"/>
                        <a:pt x="901" y="48"/>
                        <a:pt x="910" y="45"/>
                      </a:cubicBezTo>
                      <a:cubicBezTo>
                        <a:pt x="913" y="44"/>
                        <a:pt x="919" y="42"/>
                        <a:pt x="919" y="42"/>
                      </a:cubicBezTo>
                      <a:cubicBezTo>
                        <a:pt x="922" y="43"/>
                        <a:pt x="951" y="46"/>
                        <a:pt x="934" y="60"/>
                      </a:cubicBezTo>
                      <a:cubicBezTo>
                        <a:pt x="930" y="63"/>
                        <a:pt x="924" y="62"/>
                        <a:pt x="919" y="63"/>
                      </a:cubicBezTo>
                      <a:cubicBezTo>
                        <a:pt x="899" y="56"/>
                        <a:pt x="879" y="70"/>
                        <a:pt x="865" y="84"/>
                      </a:cubicBezTo>
                      <a:cubicBezTo>
                        <a:pt x="863" y="102"/>
                        <a:pt x="865" y="118"/>
                        <a:pt x="844" y="111"/>
                      </a:cubicBezTo>
                      <a:cubicBezTo>
                        <a:pt x="818" y="114"/>
                        <a:pt x="807" y="111"/>
                        <a:pt x="799" y="135"/>
                      </a:cubicBezTo>
                      <a:cubicBezTo>
                        <a:pt x="800" y="139"/>
                        <a:pt x="799" y="144"/>
                        <a:pt x="802" y="147"/>
                      </a:cubicBezTo>
                      <a:cubicBezTo>
                        <a:pt x="807" y="151"/>
                        <a:pt x="820" y="153"/>
                        <a:pt x="820" y="153"/>
                      </a:cubicBezTo>
                      <a:cubicBezTo>
                        <a:pt x="840" y="149"/>
                        <a:pt x="846" y="140"/>
                        <a:pt x="862" y="129"/>
                      </a:cubicBezTo>
                      <a:cubicBezTo>
                        <a:pt x="866" y="132"/>
                        <a:pt x="877" y="136"/>
                        <a:pt x="874" y="144"/>
                      </a:cubicBezTo>
                      <a:cubicBezTo>
                        <a:pt x="872" y="151"/>
                        <a:pt x="867" y="157"/>
                        <a:pt x="862" y="162"/>
                      </a:cubicBezTo>
                      <a:cubicBezTo>
                        <a:pt x="856" y="168"/>
                        <a:pt x="844" y="180"/>
                        <a:pt x="844" y="180"/>
                      </a:cubicBezTo>
                      <a:cubicBezTo>
                        <a:pt x="848" y="202"/>
                        <a:pt x="849" y="205"/>
                        <a:pt x="871" y="201"/>
                      </a:cubicBezTo>
                      <a:cubicBezTo>
                        <a:pt x="882" y="194"/>
                        <a:pt x="888" y="189"/>
                        <a:pt x="892" y="177"/>
                      </a:cubicBezTo>
                      <a:cubicBezTo>
                        <a:pt x="890" y="170"/>
                        <a:pt x="884" y="164"/>
                        <a:pt x="883" y="156"/>
                      </a:cubicBezTo>
                      <a:cubicBezTo>
                        <a:pt x="878" y="102"/>
                        <a:pt x="934" y="96"/>
                        <a:pt x="973" y="90"/>
                      </a:cubicBezTo>
                      <a:cubicBezTo>
                        <a:pt x="992" y="96"/>
                        <a:pt x="1006" y="97"/>
                        <a:pt x="1027" y="99"/>
                      </a:cubicBezTo>
                      <a:cubicBezTo>
                        <a:pt x="1029" y="100"/>
                        <a:pt x="1051" y="110"/>
                        <a:pt x="1042" y="93"/>
                      </a:cubicBezTo>
                      <a:cubicBezTo>
                        <a:pt x="1034" y="79"/>
                        <a:pt x="1013" y="80"/>
                        <a:pt x="1000" y="78"/>
                      </a:cubicBezTo>
                      <a:cubicBezTo>
                        <a:pt x="981" y="72"/>
                        <a:pt x="985" y="69"/>
                        <a:pt x="961" y="72"/>
                      </a:cubicBezTo>
                      <a:cubicBezTo>
                        <a:pt x="948" y="76"/>
                        <a:pt x="938" y="86"/>
                        <a:pt x="925" y="90"/>
                      </a:cubicBezTo>
                      <a:cubicBezTo>
                        <a:pt x="919" y="73"/>
                        <a:pt x="932" y="70"/>
                        <a:pt x="946" y="60"/>
                      </a:cubicBezTo>
                      <a:cubicBezTo>
                        <a:pt x="952" y="56"/>
                        <a:pt x="964" y="48"/>
                        <a:pt x="964" y="48"/>
                      </a:cubicBezTo>
                      <a:cubicBezTo>
                        <a:pt x="967" y="43"/>
                        <a:pt x="978" y="25"/>
                        <a:pt x="985" y="21"/>
                      </a:cubicBezTo>
                      <a:cubicBezTo>
                        <a:pt x="993" y="16"/>
                        <a:pt x="1004" y="17"/>
                        <a:pt x="1012" y="12"/>
                      </a:cubicBezTo>
                      <a:cubicBezTo>
                        <a:pt x="1020" y="7"/>
                        <a:pt x="1039" y="0"/>
                        <a:pt x="1039" y="0"/>
                      </a:cubicBezTo>
                      <a:cubicBezTo>
                        <a:pt x="1060" y="2"/>
                        <a:pt x="1068" y="1"/>
                        <a:pt x="1084" y="12"/>
                      </a:cubicBezTo>
                      <a:cubicBezTo>
                        <a:pt x="1091" y="33"/>
                        <a:pt x="1084" y="28"/>
                        <a:pt x="1099" y="33"/>
                      </a:cubicBezTo>
                      <a:cubicBezTo>
                        <a:pt x="1110" y="29"/>
                        <a:pt x="1115" y="34"/>
                        <a:pt x="1126" y="30"/>
                      </a:cubicBezTo>
                      <a:cubicBezTo>
                        <a:pt x="1140" y="34"/>
                        <a:pt x="1150" y="32"/>
                        <a:pt x="1159" y="45"/>
                      </a:cubicBezTo>
                      <a:cubicBezTo>
                        <a:pt x="1167" y="78"/>
                        <a:pt x="1154" y="97"/>
                        <a:pt x="1123" y="105"/>
                      </a:cubicBezTo>
                      <a:cubicBezTo>
                        <a:pt x="1110" y="114"/>
                        <a:pt x="1106" y="126"/>
                        <a:pt x="1093" y="135"/>
                      </a:cubicBezTo>
                      <a:cubicBezTo>
                        <a:pt x="1086" y="146"/>
                        <a:pt x="1039" y="169"/>
                        <a:pt x="1024" y="174"/>
                      </a:cubicBezTo>
                      <a:cubicBezTo>
                        <a:pt x="1015" y="188"/>
                        <a:pt x="1011" y="186"/>
                        <a:pt x="994" y="183"/>
                      </a:cubicBezTo>
                      <a:cubicBezTo>
                        <a:pt x="991" y="180"/>
                        <a:pt x="986" y="178"/>
                        <a:pt x="985" y="174"/>
                      </a:cubicBezTo>
                      <a:cubicBezTo>
                        <a:pt x="983" y="163"/>
                        <a:pt x="1004" y="150"/>
                        <a:pt x="1012" y="147"/>
                      </a:cubicBezTo>
                      <a:cubicBezTo>
                        <a:pt x="1018" y="141"/>
                        <a:pt x="1024" y="135"/>
                        <a:pt x="1030" y="129"/>
                      </a:cubicBezTo>
                      <a:cubicBezTo>
                        <a:pt x="1034" y="125"/>
                        <a:pt x="1018" y="133"/>
                        <a:pt x="1012" y="135"/>
                      </a:cubicBezTo>
                      <a:cubicBezTo>
                        <a:pt x="1006" y="137"/>
                        <a:pt x="1000" y="141"/>
                        <a:pt x="994" y="144"/>
                      </a:cubicBezTo>
                      <a:cubicBezTo>
                        <a:pt x="988" y="148"/>
                        <a:pt x="976" y="156"/>
                        <a:pt x="976" y="156"/>
                      </a:cubicBezTo>
                      <a:cubicBezTo>
                        <a:pt x="969" y="167"/>
                        <a:pt x="963" y="167"/>
                        <a:pt x="952" y="174"/>
                      </a:cubicBezTo>
                      <a:cubicBezTo>
                        <a:pt x="938" y="195"/>
                        <a:pt x="936" y="186"/>
                        <a:pt x="946" y="201"/>
                      </a:cubicBezTo>
                      <a:cubicBezTo>
                        <a:pt x="952" y="199"/>
                        <a:pt x="958" y="197"/>
                        <a:pt x="964" y="195"/>
                      </a:cubicBezTo>
                      <a:cubicBezTo>
                        <a:pt x="967" y="194"/>
                        <a:pt x="973" y="192"/>
                        <a:pt x="973" y="192"/>
                      </a:cubicBezTo>
                      <a:cubicBezTo>
                        <a:pt x="994" y="199"/>
                        <a:pt x="985" y="200"/>
                        <a:pt x="1000" y="195"/>
                      </a:cubicBezTo>
                      <a:cubicBezTo>
                        <a:pt x="1018" y="222"/>
                        <a:pt x="982" y="200"/>
                        <a:pt x="1006" y="216"/>
                      </a:cubicBezTo>
                      <a:cubicBezTo>
                        <a:pt x="1019" y="212"/>
                        <a:pt x="1031" y="221"/>
                        <a:pt x="1042" y="228"/>
                      </a:cubicBezTo>
                      <a:cubicBezTo>
                        <a:pt x="1050" y="216"/>
                        <a:pt x="1053" y="210"/>
                        <a:pt x="1066" y="219"/>
                      </a:cubicBezTo>
                      <a:cubicBezTo>
                        <a:pt x="1076" y="234"/>
                        <a:pt x="1073" y="223"/>
                        <a:pt x="1063" y="234"/>
                      </a:cubicBezTo>
                      <a:cubicBezTo>
                        <a:pt x="1058" y="239"/>
                        <a:pt x="1051" y="252"/>
                        <a:pt x="1051" y="252"/>
                      </a:cubicBezTo>
                      <a:cubicBezTo>
                        <a:pt x="1063" y="260"/>
                        <a:pt x="1076" y="262"/>
                        <a:pt x="1090" y="267"/>
                      </a:cubicBezTo>
                      <a:cubicBezTo>
                        <a:pt x="1096" y="265"/>
                        <a:pt x="1102" y="263"/>
                        <a:pt x="1108" y="261"/>
                      </a:cubicBezTo>
                      <a:cubicBezTo>
                        <a:pt x="1111" y="260"/>
                        <a:pt x="1117" y="258"/>
                        <a:pt x="1117" y="258"/>
                      </a:cubicBezTo>
                      <a:cubicBezTo>
                        <a:pt x="1119" y="264"/>
                        <a:pt x="1121" y="270"/>
                        <a:pt x="1123" y="276"/>
                      </a:cubicBezTo>
                      <a:cubicBezTo>
                        <a:pt x="1124" y="279"/>
                        <a:pt x="1126" y="285"/>
                        <a:pt x="1126" y="285"/>
                      </a:cubicBezTo>
                      <a:cubicBezTo>
                        <a:pt x="1113" y="289"/>
                        <a:pt x="1114" y="296"/>
                        <a:pt x="1111" y="309"/>
                      </a:cubicBezTo>
                      <a:cubicBezTo>
                        <a:pt x="1112" y="314"/>
                        <a:pt x="1110" y="320"/>
                        <a:pt x="1114" y="324"/>
                      </a:cubicBezTo>
                      <a:cubicBezTo>
                        <a:pt x="1124" y="334"/>
                        <a:pt x="1133" y="301"/>
                        <a:pt x="1138" y="294"/>
                      </a:cubicBezTo>
                      <a:cubicBezTo>
                        <a:pt x="1144" y="286"/>
                        <a:pt x="1156" y="286"/>
                        <a:pt x="1165" y="285"/>
                      </a:cubicBezTo>
                      <a:cubicBezTo>
                        <a:pt x="1180" y="275"/>
                        <a:pt x="1199" y="271"/>
                        <a:pt x="1216" y="267"/>
                      </a:cubicBezTo>
                      <a:cubicBezTo>
                        <a:pt x="1228" y="259"/>
                        <a:pt x="1235" y="258"/>
                        <a:pt x="1240" y="273"/>
                      </a:cubicBezTo>
                      <a:cubicBezTo>
                        <a:pt x="1230" y="283"/>
                        <a:pt x="1224" y="287"/>
                        <a:pt x="1210" y="291"/>
                      </a:cubicBezTo>
                      <a:cubicBezTo>
                        <a:pt x="1202" y="296"/>
                        <a:pt x="1183" y="303"/>
                        <a:pt x="1183" y="303"/>
                      </a:cubicBezTo>
                      <a:cubicBezTo>
                        <a:pt x="1167" y="328"/>
                        <a:pt x="1163" y="332"/>
                        <a:pt x="1135" y="339"/>
                      </a:cubicBezTo>
                      <a:cubicBezTo>
                        <a:pt x="1125" y="349"/>
                        <a:pt x="1119" y="350"/>
                        <a:pt x="1105" y="354"/>
                      </a:cubicBezTo>
                      <a:cubicBezTo>
                        <a:pt x="1085" y="347"/>
                        <a:pt x="1075" y="345"/>
                        <a:pt x="1054" y="342"/>
                      </a:cubicBezTo>
                      <a:cubicBezTo>
                        <a:pt x="1054" y="342"/>
                        <a:pt x="1062" y="355"/>
                        <a:pt x="1069" y="357"/>
                      </a:cubicBezTo>
                      <a:cubicBezTo>
                        <a:pt x="1075" y="359"/>
                        <a:pt x="1081" y="359"/>
                        <a:pt x="1087" y="360"/>
                      </a:cubicBezTo>
                      <a:cubicBezTo>
                        <a:pt x="1093" y="362"/>
                        <a:pt x="1105" y="366"/>
                        <a:pt x="1105" y="366"/>
                      </a:cubicBezTo>
                      <a:cubicBezTo>
                        <a:pt x="1116" y="362"/>
                        <a:pt x="1123" y="359"/>
                        <a:pt x="1135" y="363"/>
                      </a:cubicBezTo>
                      <a:cubicBezTo>
                        <a:pt x="1138" y="360"/>
                        <a:pt x="1140" y="356"/>
                        <a:pt x="1144" y="354"/>
                      </a:cubicBezTo>
                      <a:cubicBezTo>
                        <a:pt x="1147" y="352"/>
                        <a:pt x="1152" y="348"/>
                        <a:pt x="1153" y="351"/>
                      </a:cubicBezTo>
                      <a:cubicBezTo>
                        <a:pt x="1154" y="357"/>
                        <a:pt x="1147" y="369"/>
                        <a:pt x="1147" y="369"/>
                      </a:cubicBezTo>
                      <a:cubicBezTo>
                        <a:pt x="1148" y="373"/>
                        <a:pt x="1146" y="380"/>
                        <a:pt x="1150" y="381"/>
                      </a:cubicBezTo>
                      <a:cubicBezTo>
                        <a:pt x="1162" y="384"/>
                        <a:pt x="1162" y="348"/>
                        <a:pt x="1165" y="345"/>
                      </a:cubicBezTo>
                      <a:cubicBezTo>
                        <a:pt x="1166" y="343"/>
                        <a:pt x="1195" y="321"/>
                        <a:pt x="1201" y="318"/>
                      </a:cubicBezTo>
                      <a:cubicBezTo>
                        <a:pt x="1207" y="315"/>
                        <a:pt x="1219" y="312"/>
                        <a:pt x="1219" y="312"/>
                      </a:cubicBezTo>
                      <a:cubicBezTo>
                        <a:pt x="1220" y="318"/>
                        <a:pt x="1219" y="325"/>
                        <a:pt x="1222" y="330"/>
                      </a:cubicBezTo>
                      <a:cubicBezTo>
                        <a:pt x="1224" y="333"/>
                        <a:pt x="1223" y="324"/>
                        <a:pt x="1225" y="321"/>
                      </a:cubicBezTo>
                      <a:cubicBezTo>
                        <a:pt x="1227" y="317"/>
                        <a:pt x="1230" y="314"/>
                        <a:pt x="1234" y="312"/>
                      </a:cubicBezTo>
                      <a:cubicBezTo>
                        <a:pt x="1240" y="309"/>
                        <a:pt x="1252" y="306"/>
                        <a:pt x="1252" y="306"/>
                      </a:cubicBezTo>
                      <a:cubicBezTo>
                        <a:pt x="1268" y="310"/>
                        <a:pt x="1273" y="324"/>
                        <a:pt x="1258" y="336"/>
                      </a:cubicBezTo>
                      <a:cubicBezTo>
                        <a:pt x="1253" y="340"/>
                        <a:pt x="1246" y="341"/>
                        <a:pt x="1240" y="345"/>
                      </a:cubicBezTo>
                      <a:cubicBezTo>
                        <a:pt x="1225" y="368"/>
                        <a:pt x="1262" y="342"/>
                        <a:pt x="1270" y="339"/>
                      </a:cubicBezTo>
                      <a:cubicBezTo>
                        <a:pt x="1277" y="317"/>
                        <a:pt x="1282" y="302"/>
                        <a:pt x="1306" y="294"/>
                      </a:cubicBezTo>
                      <a:cubicBezTo>
                        <a:pt x="1320" y="298"/>
                        <a:pt x="1320" y="305"/>
                        <a:pt x="1333" y="309"/>
                      </a:cubicBezTo>
                      <a:cubicBezTo>
                        <a:pt x="1365" y="301"/>
                        <a:pt x="1327" y="312"/>
                        <a:pt x="1354" y="300"/>
                      </a:cubicBezTo>
                      <a:cubicBezTo>
                        <a:pt x="1360" y="297"/>
                        <a:pt x="1372" y="294"/>
                        <a:pt x="1372" y="294"/>
                      </a:cubicBezTo>
                      <a:cubicBezTo>
                        <a:pt x="1387" y="299"/>
                        <a:pt x="1378" y="298"/>
                        <a:pt x="1399" y="291"/>
                      </a:cubicBezTo>
                      <a:cubicBezTo>
                        <a:pt x="1405" y="289"/>
                        <a:pt x="1417" y="285"/>
                        <a:pt x="1417" y="285"/>
                      </a:cubicBezTo>
                      <a:cubicBezTo>
                        <a:pt x="1424" y="287"/>
                        <a:pt x="1431" y="288"/>
                        <a:pt x="1438" y="291"/>
                      </a:cubicBezTo>
                      <a:cubicBezTo>
                        <a:pt x="1444" y="294"/>
                        <a:pt x="1456" y="303"/>
                        <a:pt x="1456" y="303"/>
                      </a:cubicBezTo>
                      <a:cubicBezTo>
                        <a:pt x="1475" y="284"/>
                        <a:pt x="1464" y="284"/>
                        <a:pt x="1498" y="288"/>
                      </a:cubicBezTo>
                      <a:cubicBezTo>
                        <a:pt x="1513" y="293"/>
                        <a:pt x="1524" y="300"/>
                        <a:pt x="1540" y="303"/>
                      </a:cubicBezTo>
                      <a:cubicBezTo>
                        <a:pt x="1553" y="322"/>
                        <a:pt x="1536" y="347"/>
                        <a:pt x="1516" y="354"/>
                      </a:cubicBezTo>
                      <a:cubicBezTo>
                        <a:pt x="1500" y="349"/>
                        <a:pt x="1511" y="359"/>
                        <a:pt x="1495" y="363"/>
                      </a:cubicBezTo>
                      <a:cubicBezTo>
                        <a:pt x="1474" y="368"/>
                        <a:pt x="1453" y="376"/>
                        <a:pt x="1432" y="381"/>
                      </a:cubicBezTo>
                      <a:cubicBezTo>
                        <a:pt x="1443" y="385"/>
                        <a:pt x="1485" y="376"/>
                        <a:pt x="1495" y="375"/>
                      </a:cubicBezTo>
                      <a:cubicBezTo>
                        <a:pt x="1511" y="370"/>
                        <a:pt x="1524" y="376"/>
                        <a:pt x="1540" y="381"/>
                      </a:cubicBezTo>
                      <a:cubicBezTo>
                        <a:pt x="1549" y="384"/>
                        <a:pt x="1567" y="390"/>
                        <a:pt x="1567" y="390"/>
                      </a:cubicBezTo>
                      <a:cubicBezTo>
                        <a:pt x="1577" y="406"/>
                        <a:pt x="1590" y="398"/>
                        <a:pt x="1606" y="393"/>
                      </a:cubicBezTo>
                      <a:cubicBezTo>
                        <a:pt x="1608" y="386"/>
                        <a:pt x="1608" y="380"/>
                        <a:pt x="1618" y="381"/>
                      </a:cubicBezTo>
                      <a:cubicBezTo>
                        <a:pt x="1624" y="382"/>
                        <a:pt x="1636" y="387"/>
                        <a:pt x="1636" y="387"/>
                      </a:cubicBezTo>
                      <a:cubicBezTo>
                        <a:pt x="1650" y="408"/>
                        <a:pt x="1650" y="398"/>
                        <a:pt x="1645" y="414"/>
                      </a:cubicBezTo>
                      <a:cubicBezTo>
                        <a:pt x="1650" y="428"/>
                        <a:pt x="1652" y="438"/>
                        <a:pt x="1660" y="450"/>
                      </a:cubicBezTo>
                      <a:cubicBezTo>
                        <a:pt x="1671" y="443"/>
                        <a:pt x="1669" y="436"/>
                        <a:pt x="1681" y="432"/>
                      </a:cubicBezTo>
                      <a:cubicBezTo>
                        <a:pt x="1694" y="435"/>
                        <a:pt x="1702" y="439"/>
                        <a:pt x="1714" y="435"/>
                      </a:cubicBezTo>
                      <a:cubicBezTo>
                        <a:pt x="1724" y="438"/>
                        <a:pt x="1731" y="444"/>
                        <a:pt x="1741" y="447"/>
                      </a:cubicBezTo>
                      <a:cubicBezTo>
                        <a:pt x="1760" y="441"/>
                        <a:pt x="1761" y="437"/>
                        <a:pt x="1750" y="420"/>
                      </a:cubicBezTo>
                      <a:cubicBezTo>
                        <a:pt x="1751" y="417"/>
                        <a:pt x="1750" y="413"/>
                        <a:pt x="1753" y="411"/>
                      </a:cubicBezTo>
                      <a:cubicBezTo>
                        <a:pt x="1758" y="407"/>
                        <a:pt x="1771" y="405"/>
                        <a:pt x="1771" y="405"/>
                      </a:cubicBezTo>
                      <a:cubicBezTo>
                        <a:pt x="1786" y="407"/>
                        <a:pt x="1808" y="404"/>
                        <a:pt x="1813" y="420"/>
                      </a:cubicBezTo>
                      <a:cubicBezTo>
                        <a:pt x="1810" y="423"/>
                        <a:pt x="1804" y="425"/>
                        <a:pt x="1804" y="429"/>
                      </a:cubicBezTo>
                      <a:cubicBezTo>
                        <a:pt x="1804" y="433"/>
                        <a:pt x="1810" y="436"/>
                        <a:pt x="1813" y="435"/>
                      </a:cubicBezTo>
                      <a:cubicBezTo>
                        <a:pt x="1820" y="433"/>
                        <a:pt x="1816" y="420"/>
                        <a:pt x="1822" y="417"/>
                      </a:cubicBezTo>
                      <a:cubicBezTo>
                        <a:pt x="1826" y="414"/>
                        <a:pt x="1832" y="415"/>
                        <a:pt x="1837" y="414"/>
                      </a:cubicBezTo>
                      <a:cubicBezTo>
                        <a:pt x="1858" y="421"/>
                        <a:pt x="1850" y="416"/>
                        <a:pt x="1864" y="426"/>
                      </a:cubicBezTo>
                      <a:cubicBezTo>
                        <a:pt x="1874" y="440"/>
                        <a:pt x="1867" y="436"/>
                        <a:pt x="1888" y="429"/>
                      </a:cubicBezTo>
                      <a:cubicBezTo>
                        <a:pt x="1894" y="427"/>
                        <a:pt x="1906" y="423"/>
                        <a:pt x="1906" y="423"/>
                      </a:cubicBezTo>
                      <a:cubicBezTo>
                        <a:pt x="1927" y="427"/>
                        <a:pt x="1916" y="424"/>
                        <a:pt x="1939" y="432"/>
                      </a:cubicBezTo>
                      <a:cubicBezTo>
                        <a:pt x="1942" y="433"/>
                        <a:pt x="1948" y="435"/>
                        <a:pt x="1948" y="435"/>
                      </a:cubicBezTo>
                      <a:cubicBezTo>
                        <a:pt x="1954" y="444"/>
                        <a:pt x="1972" y="456"/>
                        <a:pt x="1972" y="456"/>
                      </a:cubicBezTo>
                      <a:cubicBezTo>
                        <a:pt x="1984" y="453"/>
                        <a:pt x="1991" y="449"/>
                        <a:pt x="2002" y="444"/>
                      </a:cubicBezTo>
                      <a:cubicBezTo>
                        <a:pt x="2008" y="441"/>
                        <a:pt x="2020" y="438"/>
                        <a:pt x="2020" y="438"/>
                      </a:cubicBezTo>
                      <a:cubicBezTo>
                        <a:pt x="2036" y="441"/>
                        <a:pt x="2049" y="445"/>
                        <a:pt x="2065" y="441"/>
                      </a:cubicBezTo>
                      <a:cubicBezTo>
                        <a:pt x="2059" y="423"/>
                        <a:pt x="2065" y="423"/>
                        <a:pt x="2083" y="417"/>
                      </a:cubicBezTo>
                      <a:cubicBezTo>
                        <a:pt x="2090" y="415"/>
                        <a:pt x="2095" y="409"/>
                        <a:pt x="2101" y="405"/>
                      </a:cubicBezTo>
                      <a:cubicBezTo>
                        <a:pt x="2104" y="403"/>
                        <a:pt x="2110" y="399"/>
                        <a:pt x="2110" y="399"/>
                      </a:cubicBezTo>
                      <a:cubicBezTo>
                        <a:pt x="2119" y="400"/>
                        <a:pt x="2136" y="402"/>
                        <a:pt x="2146" y="405"/>
                      </a:cubicBezTo>
                      <a:cubicBezTo>
                        <a:pt x="2155" y="407"/>
                        <a:pt x="2173" y="414"/>
                        <a:pt x="2173" y="414"/>
                      </a:cubicBezTo>
                      <a:cubicBezTo>
                        <a:pt x="2189" y="403"/>
                        <a:pt x="2197" y="405"/>
                        <a:pt x="2215" y="411"/>
                      </a:cubicBezTo>
                      <a:cubicBezTo>
                        <a:pt x="2222" y="413"/>
                        <a:pt x="2233" y="423"/>
                        <a:pt x="2233" y="423"/>
                      </a:cubicBezTo>
                      <a:cubicBezTo>
                        <a:pt x="2244" y="419"/>
                        <a:pt x="2249" y="412"/>
                        <a:pt x="2260" y="408"/>
                      </a:cubicBezTo>
                      <a:cubicBezTo>
                        <a:pt x="2271" y="412"/>
                        <a:pt x="2280" y="413"/>
                        <a:pt x="2290" y="420"/>
                      </a:cubicBezTo>
                      <a:cubicBezTo>
                        <a:pt x="2287" y="434"/>
                        <a:pt x="2284" y="442"/>
                        <a:pt x="2299" y="447"/>
                      </a:cubicBezTo>
                      <a:cubicBezTo>
                        <a:pt x="2308" y="460"/>
                        <a:pt x="2304" y="463"/>
                        <a:pt x="2293" y="474"/>
                      </a:cubicBezTo>
                      <a:cubicBezTo>
                        <a:pt x="2284" y="471"/>
                        <a:pt x="2275" y="468"/>
                        <a:pt x="2266" y="465"/>
                      </a:cubicBezTo>
                      <a:cubicBezTo>
                        <a:pt x="2263" y="464"/>
                        <a:pt x="2257" y="462"/>
                        <a:pt x="2257" y="462"/>
                      </a:cubicBezTo>
                      <a:cubicBezTo>
                        <a:pt x="2242" y="465"/>
                        <a:pt x="2235" y="462"/>
                        <a:pt x="2221" y="465"/>
                      </a:cubicBezTo>
                      <a:cubicBezTo>
                        <a:pt x="2229" y="477"/>
                        <a:pt x="2234" y="480"/>
                        <a:pt x="2221" y="489"/>
                      </a:cubicBezTo>
                      <a:cubicBezTo>
                        <a:pt x="2214" y="509"/>
                        <a:pt x="2227" y="512"/>
                        <a:pt x="2245" y="516"/>
                      </a:cubicBezTo>
                      <a:cubicBezTo>
                        <a:pt x="2248" y="518"/>
                        <a:pt x="2252" y="519"/>
                        <a:pt x="2254" y="522"/>
                      </a:cubicBezTo>
                      <a:cubicBezTo>
                        <a:pt x="2257" y="527"/>
                        <a:pt x="2260" y="540"/>
                        <a:pt x="2260" y="540"/>
                      </a:cubicBezTo>
                      <a:cubicBezTo>
                        <a:pt x="2253" y="550"/>
                        <a:pt x="2248" y="554"/>
                        <a:pt x="2236" y="558"/>
                      </a:cubicBezTo>
                      <a:cubicBezTo>
                        <a:pt x="2230" y="567"/>
                        <a:pt x="2228" y="575"/>
                        <a:pt x="2221" y="582"/>
                      </a:cubicBezTo>
                      <a:lnTo>
                        <a:pt x="2212" y="623"/>
                      </a:lnTo>
                      <a:lnTo>
                        <a:pt x="2218" y="643"/>
                      </a:lnTo>
                      <a:lnTo>
                        <a:pt x="2198" y="631"/>
                      </a:lnTo>
                      <a:lnTo>
                        <a:pt x="2182" y="641"/>
                      </a:lnTo>
                      <a:lnTo>
                        <a:pt x="2176" y="655"/>
                      </a:lnTo>
                      <a:lnTo>
                        <a:pt x="2156" y="659"/>
                      </a:lnTo>
                      <a:lnTo>
                        <a:pt x="2146" y="673"/>
                      </a:lnTo>
                      <a:lnTo>
                        <a:pt x="2132" y="687"/>
                      </a:lnTo>
                      <a:lnTo>
                        <a:pt x="2132" y="709"/>
                      </a:lnTo>
                      <a:lnTo>
                        <a:pt x="2136" y="727"/>
                      </a:lnTo>
                      <a:lnTo>
                        <a:pt x="2150" y="729"/>
                      </a:lnTo>
                      <a:lnTo>
                        <a:pt x="2152" y="749"/>
                      </a:lnTo>
                      <a:lnTo>
                        <a:pt x="2176" y="763"/>
                      </a:lnTo>
                      <a:lnTo>
                        <a:pt x="2180" y="779"/>
                      </a:lnTo>
                      <a:lnTo>
                        <a:pt x="2158" y="769"/>
                      </a:lnTo>
                      <a:lnTo>
                        <a:pt x="2152" y="789"/>
                      </a:lnTo>
                      <a:lnTo>
                        <a:pt x="2166" y="807"/>
                      </a:lnTo>
                      <a:lnTo>
                        <a:pt x="2152" y="821"/>
                      </a:lnTo>
                      <a:lnTo>
                        <a:pt x="2146" y="839"/>
                      </a:lnTo>
                      <a:lnTo>
                        <a:pt x="2148" y="861"/>
                      </a:lnTo>
                      <a:lnTo>
                        <a:pt x="2132" y="879"/>
                      </a:lnTo>
                      <a:lnTo>
                        <a:pt x="2128" y="907"/>
                      </a:lnTo>
                      <a:lnTo>
                        <a:pt x="2118" y="925"/>
                      </a:lnTo>
                      <a:lnTo>
                        <a:pt x="2118" y="945"/>
                      </a:lnTo>
                      <a:lnTo>
                        <a:pt x="2100" y="963"/>
                      </a:lnTo>
                      <a:lnTo>
                        <a:pt x="2100" y="979"/>
                      </a:lnTo>
                      <a:lnTo>
                        <a:pt x="2088" y="983"/>
                      </a:lnTo>
                      <a:lnTo>
                        <a:pt x="2074" y="977"/>
                      </a:lnTo>
                      <a:lnTo>
                        <a:pt x="2086" y="961"/>
                      </a:lnTo>
                      <a:lnTo>
                        <a:pt x="2104" y="945"/>
                      </a:lnTo>
                      <a:lnTo>
                        <a:pt x="2110" y="925"/>
                      </a:lnTo>
                      <a:lnTo>
                        <a:pt x="2106" y="893"/>
                      </a:lnTo>
                      <a:lnTo>
                        <a:pt x="2090" y="865"/>
                      </a:lnTo>
                      <a:lnTo>
                        <a:pt x="2070" y="837"/>
                      </a:lnTo>
                      <a:lnTo>
                        <a:pt x="2056" y="797"/>
                      </a:lnTo>
                      <a:lnTo>
                        <a:pt x="2058" y="769"/>
                      </a:lnTo>
                      <a:lnTo>
                        <a:pt x="2062" y="745"/>
                      </a:lnTo>
                      <a:lnTo>
                        <a:pt x="2080" y="731"/>
                      </a:lnTo>
                      <a:lnTo>
                        <a:pt x="2098" y="701"/>
                      </a:lnTo>
                      <a:lnTo>
                        <a:pt x="2108" y="677"/>
                      </a:lnTo>
                      <a:lnTo>
                        <a:pt x="2106" y="663"/>
                      </a:lnTo>
                      <a:lnTo>
                        <a:pt x="2116" y="623"/>
                      </a:lnTo>
                      <a:lnTo>
                        <a:pt x="2106" y="603"/>
                      </a:lnTo>
                      <a:lnTo>
                        <a:pt x="2094" y="623"/>
                      </a:lnTo>
                      <a:lnTo>
                        <a:pt x="2100" y="641"/>
                      </a:lnTo>
                      <a:lnTo>
                        <a:pt x="2076" y="665"/>
                      </a:lnTo>
                      <a:lnTo>
                        <a:pt x="2060" y="659"/>
                      </a:lnTo>
                      <a:lnTo>
                        <a:pt x="2060" y="639"/>
                      </a:lnTo>
                      <a:lnTo>
                        <a:pt x="2022" y="657"/>
                      </a:lnTo>
                      <a:lnTo>
                        <a:pt x="2020" y="679"/>
                      </a:lnTo>
                      <a:lnTo>
                        <a:pt x="2004" y="703"/>
                      </a:lnTo>
                      <a:lnTo>
                        <a:pt x="2012" y="717"/>
                      </a:lnTo>
                      <a:lnTo>
                        <a:pt x="1968" y="731"/>
                      </a:lnTo>
                      <a:lnTo>
                        <a:pt x="1962" y="711"/>
                      </a:lnTo>
                      <a:lnTo>
                        <a:pt x="1934" y="719"/>
                      </a:lnTo>
                      <a:lnTo>
                        <a:pt x="1906" y="735"/>
                      </a:lnTo>
                      <a:lnTo>
                        <a:pt x="1854" y="737"/>
                      </a:lnTo>
                      <a:lnTo>
                        <a:pt x="1814" y="753"/>
                      </a:lnTo>
                      <a:lnTo>
                        <a:pt x="1810" y="767"/>
                      </a:lnTo>
                      <a:lnTo>
                        <a:pt x="1716" y="861"/>
                      </a:lnTo>
                      <a:lnTo>
                        <a:pt x="1738" y="877"/>
                      </a:lnTo>
                      <a:lnTo>
                        <a:pt x="1762" y="889"/>
                      </a:lnTo>
                      <a:lnTo>
                        <a:pt x="1794" y="875"/>
                      </a:lnTo>
                      <a:lnTo>
                        <a:pt x="1820" y="905"/>
                      </a:lnTo>
                      <a:lnTo>
                        <a:pt x="1826" y="953"/>
                      </a:lnTo>
                      <a:lnTo>
                        <a:pt x="1820" y="1021"/>
                      </a:lnTo>
                      <a:lnTo>
                        <a:pt x="1800" y="1059"/>
                      </a:lnTo>
                      <a:lnTo>
                        <a:pt x="1762" y="1127"/>
                      </a:lnTo>
                      <a:lnTo>
                        <a:pt x="1734" y="1151"/>
                      </a:lnTo>
                      <a:lnTo>
                        <a:pt x="1706" y="1191"/>
                      </a:lnTo>
                      <a:lnTo>
                        <a:pt x="1670" y="1207"/>
                      </a:lnTo>
                      <a:lnTo>
                        <a:pt x="1648" y="1209"/>
                      </a:lnTo>
                      <a:lnTo>
                        <a:pt x="1636" y="1193"/>
                      </a:lnTo>
                      <a:lnTo>
                        <a:pt x="1620" y="1215"/>
                      </a:lnTo>
                      <a:lnTo>
                        <a:pt x="1592" y="1239"/>
                      </a:lnTo>
                      <a:lnTo>
                        <a:pt x="1584" y="1263"/>
                      </a:lnTo>
                      <a:lnTo>
                        <a:pt x="1564" y="1281"/>
                      </a:lnTo>
                      <a:lnTo>
                        <a:pt x="1534" y="1295"/>
                      </a:lnTo>
                      <a:lnTo>
                        <a:pt x="1536" y="1317"/>
                      </a:lnTo>
                      <a:lnTo>
                        <a:pt x="1560" y="1337"/>
                      </a:lnTo>
                      <a:lnTo>
                        <a:pt x="1574" y="1375"/>
                      </a:lnTo>
                      <a:lnTo>
                        <a:pt x="1580" y="1409"/>
                      </a:lnTo>
                      <a:lnTo>
                        <a:pt x="1574" y="1427"/>
                      </a:lnTo>
                      <a:lnTo>
                        <a:pt x="1560" y="1445"/>
                      </a:lnTo>
                      <a:lnTo>
                        <a:pt x="1526" y="1449"/>
                      </a:lnTo>
                      <a:lnTo>
                        <a:pt x="1500" y="1445"/>
                      </a:lnTo>
                      <a:lnTo>
                        <a:pt x="1506" y="1393"/>
                      </a:lnTo>
                      <a:lnTo>
                        <a:pt x="1500" y="1377"/>
                      </a:lnTo>
                      <a:lnTo>
                        <a:pt x="1510" y="1369"/>
                      </a:lnTo>
                      <a:lnTo>
                        <a:pt x="1506" y="1355"/>
                      </a:lnTo>
                      <a:lnTo>
                        <a:pt x="1478" y="1341"/>
                      </a:lnTo>
                      <a:lnTo>
                        <a:pt x="1476" y="1329"/>
                      </a:lnTo>
                      <a:lnTo>
                        <a:pt x="1488" y="1315"/>
                      </a:lnTo>
                      <a:lnTo>
                        <a:pt x="1482" y="1295"/>
                      </a:lnTo>
                      <a:lnTo>
                        <a:pt x="1460" y="1281"/>
                      </a:lnTo>
                      <a:lnTo>
                        <a:pt x="1436" y="1279"/>
                      </a:lnTo>
                      <a:lnTo>
                        <a:pt x="1416" y="1299"/>
                      </a:lnTo>
                      <a:lnTo>
                        <a:pt x="1402" y="1299"/>
                      </a:lnTo>
                      <a:lnTo>
                        <a:pt x="1398" y="1283"/>
                      </a:lnTo>
                      <a:lnTo>
                        <a:pt x="1414" y="1251"/>
                      </a:lnTo>
                      <a:lnTo>
                        <a:pt x="1396" y="1243"/>
                      </a:lnTo>
                      <a:lnTo>
                        <a:pt x="1368" y="1269"/>
                      </a:lnTo>
                      <a:lnTo>
                        <a:pt x="1336" y="1283"/>
                      </a:lnTo>
                      <a:lnTo>
                        <a:pt x="1326" y="1293"/>
                      </a:lnTo>
                      <a:lnTo>
                        <a:pt x="1306" y="1295"/>
                      </a:lnTo>
                      <a:lnTo>
                        <a:pt x="1308" y="1323"/>
                      </a:lnTo>
                      <a:lnTo>
                        <a:pt x="1328" y="1325"/>
                      </a:lnTo>
                      <a:lnTo>
                        <a:pt x="1332" y="1349"/>
                      </a:lnTo>
                      <a:lnTo>
                        <a:pt x="1346" y="1353"/>
                      </a:lnTo>
                      <a:lnTo>
                        <a:pt x="1376" y="1337"/>
                      </a:lnTo>
                      <a:lnTo>
                        <a:pt x="1392" y="1345"/>
                      </a:lnTo>
                      <a:lnTo>
                        <a:pt x="1410" y="1357"/>
                      </a:lnTo>
                      <a:lnTo>
                        <a:pt x="1408" y="1367"/>
                      </a:lnTo>
                      <a:lnTo>
                        <a:pt x="1380" y="1365"/>
                      </a:lnTo>
                      <a:lnTo>
                        <a:pt x="1358" y="1379"/>
                      </a:lnTo>
                      <a:lnTo>
                        <a:pt x="1342" y="1383"/>
                      </a:lnTo>
                      <a:lnTo>
                        <a:pt x="1342" y="1397"/>
                      </a:lnTo>
                      <a:lnTo>
                        <a:pt x="1322" y="1411"/>
                      </a:lnTo>
                      <a:lnTo>
                        <a:pt x="1326" y="1425"/>
                      </a:lnTo>
                      <a:lnTo>
                        <a:pt x="1350" y="1439"/>
                      </a:lnTo>
                      <a:lnTo>
                        <a:pt x="1354" y="1475"/>
                      </a:lnTo>
                      <a:lnTo>
                        <a:pt x="1370" y="1507"/>
                      </a:lnTo>
                      <a:lnTo>
                        <a:pt x="1378" y="1519"/>
                      </a:lnTo>
                      <a:lnTo>
                        <a:pt x="1348" y="1517"/>
                      </a:lnTo>
                      <a:lnTo>
                        <a:pt x="1366" y="1537"/>
                      </a:lnTo>
                      <a:lnTo>
                        <a:pt x="1366" y="1547"/>
                      </a:lnTo>
                      <a:lnTo>
                        <a:pt x="1344" y="1565"/>
                      </a:lnTo>
                      <a:lnTo>
                        <a:pt x="1364" y="1581"/>
                      </a:lnTo>
                      <a:lnTo>
                        <a:pt x="1368" y="1601"/>
                      </a:lnTo>
                      <a:lnTo>
                        <a:pt x="1352" y="1619"/>
                      </a:lnTo>
                      <a:lnTo>
                        <a:pt x="1334" y="1635"/>
                      </a:lnTo>
                      <a:lnTo>
                        <a:pt x="1300" y="1663"/>
                      </a:lnTo>
                      <a:lnTo>
                        <a:pt x="1290" y="1693"/>
                      </a:lnTo>
                      <a:lnTo>
                        <a:pt x="1258" y="1725"/>
                      </a:lnTo>
                      <a:lnTo>
                        <a:pt x="1220" y="1747"/>
                      </a:lnTo>
                      <a:lnTo>
                        <a:pt x="1198" y="1765"/>
                      </a:lnTo>
                      <a:lnTo>
                        <a:pt x="1172" y="1765"/>
                      </a:lnTo>
                      <a:lnTo>
                        <a:pt x="1140" y="1763"/>
                      </a:lnTo>
                      <a:lnTo>
                        <a:pt x="1124" y="1753"/>
                      </a:lnTo>
                      <a:lnTo>
                        <a:pt x="1118" y="1769"/>
                      </a:lnTo>
                      <a:lnTo>
                        <a:pt x="1088" y="1779"/>
                      </a:lnTo>
                      <a:lnTo>
                        <a:pt x="1046" y="1783"/>
                      </a:lnTo>
                      <a:lnTo>
                        <a:pt x="1030" y="1801"/>
                      </a:lnTo>
                      <a:lnTo>
                        <a:pt x="1016" y="1793"/>
                      </a:lnTo>
                      <a:lnTo>
                        <a:pt x="1014" y="1767"/>
                      </a:lnTo>
                      <a:lnTo>
                        <a:pt x="992" y="1757"/>
                      </a:lnTo>
                      <a:lnTo>
                        <a:pt x="968" y="1761"/>
                      </a:lnTo>
                      <a:lnTo>
                        <a:pt x="940" y="1773"/>
                      </a:lnTo>
                      <a:lnTo>
                        <a:pt x="912" y="1783"/>
                      </a:lnTo>
                      <a:lnTo>
                        <a:pt x="890" y="1815"/>
                      </a:lnTo>
                      <a:lnTo>
                        <a:pt x="908" y="1849"/>
                      </a:lnTo>
                      <a:lnTo>
                        <a:pt x="924" y="1875"/>
                      </a:lnTo>
                      <a:lnTo>
                        <a:pt x="946" y="1909"/>
                      </a:lnTo>
                      <a:lnTo>
                        <a:pt x="970" y="1955"/>
                      </a:lnTo>
                      <a:lnTo>
                        <a:pt x="972" y="1989"/>
                      </a:lnTo>
                      <a:lnTo>
                        <a:pt x="972" y="2031"/>
                      </a:lnTo>
                      <a:lnTo>
                        <a:pt x="966" y="2051"/>
                      </a:lnTo>
                      <a:lnTo>
                        <a:pt x="952" y="2071"/>
                      </a:lnTo>
                      <a:lnTo>
                        <a:pt x="932" y="2071"/>
                      </a:lnTo>
                      <a:lnTo>
                        <a:pt x="906" y="2077"/>
                      </a:lnTo>
                      <a:lnTo>
                        <a:pt x="878" y="2091"/>
                      </a:lnTo>
                      <a:lnTo>
                        <a:pt x="862" y="2103"/>
                      </a:lnTo>
                      <a:lnTo>
                        <a:pt x="850" y="2101"/>
                      </a:lnTo>
                      <a:lnTo>
                        <a:pt x="840" y="2091"/>
                      </a:lnTo>
                      <a:lnTo>
                        <a:pt x="852" y="2067"/>
                      </a:lnTo>
                      <a:lnTo>
                        <a:pt x="822" y="2047"/>
                      </a:lnTo>
                      <a:lnTo>
                        <a:pt x="806" y="2019"/>
                      </a:lnTo>
                      <a:lnTo>
                        <a:pt x="802" y="1997"/>
                      </a:lnTo>
                      <a:lnTo>
                        <a:pt x="782" y="1977"/>
                      </a:lnTo>
                      <a:lnTo>
                        <a:pt x="760" y="1963"/>
                      </a:lnTo>
                      <a:lnTo>
                        <a:pt x="756" y="1937"/>
                      </a:lnTo>
                      <a:lnTo>
                        <a:pt x="736" y="1943"/>
                      </a:lnTo>
                      <a:lnTo>
                        <a:pt x="736" y="1977"/>
                      </a:lnTo>
                      <a:lnTo>
                        <a:pt x="724" y="2007"/>
                      </a:lnTo>
                      <a:lnTo>
                        <a:pt x="708" y="2033"/>
                      </a:lnTo>
                      <a:lnTo>
                        <a:pt x="726" y="2067"/>
                      </a:lnTo>
                      <a:lnTo>
                        <a:pt x="734" y="2113"/>
                      </a:lnTo>
                      <a:lnTo>
                        <a:pt x="752" y="2129"/>
                      </a:lnTo>
                      <a:lnTo>
                        <a:pt x="798" y="2197"/>
                      </a:lnTo>
                      <a:lnTo>
                        <a:pt x="800" y="2247"/>
                      </a:lnTo>
                      <a:lnTo>
                        <a:pt x="818" y="2293"/>
                      </a:lnTo>
                      <a:lnTo>
                        <a:pt x="806" y="2297"/>
                      </a:lnTo>
                      <a:lnTo>
                        <a:pt x="774" y="2259"/>
                      </a:lnTo>
                      <a:lnTo>
                        <a:pt x="744" y="2225"/>
                      </a:lnTo>
                      <a:lnTo>
                        <a:pt x="732" y="2193"/>
                      </a:lnTo>
                      <a:lnTo>
                        <a:pt x="728" y="2151"/>
                      </a:lnTo>
                      <a:lnTo>
                        <a:pt x="716" y="2125"/>
                      </a:lnTo>
                      <a:lnTo>
                        <a:pt x="694" y="2085"/>
                      </a:lnTo>
                      <a:lnTo>
                        <a:pt x="676" y="2055"/>
                      </a:lnTo>
                      <a:lnTo>
                        <a:pt x="688" y="2021"/>
                      </a:lnTo>
                      <a:lnTo>
                        <a:pt x="702" y="1985"/>
                      </a:lnTo>
                      <a:lnTo>
                        <a:pt x="702" y="1947"/>
                      </a:lnTo>
                      <a:lnTo>
                        <a:pt x="688" y="1919"/>
                      </a:lnTo>
                      <a:lnTo>
                        <a:pt x="698" y="1885"/>
                      </a:lnTo>
                      <a:lnTo>
                        <a:pt x="690" y="1841"/>
                      </a:lnTo>
                      <a:lnTo>
                        <a:pt x="690" y="1807"/>
                      </a:lnTo>
                      <a:lnTo>
                        <a:pt x="656" y="1825"/>
                      </a:lnTo>
                      <a:lnTo>
                        <a:pt x="630" y="1829"/>
                      </a:lnTo>
                      <a:lnTo>
                        <a:pt x="620" y="1819"/>
                      </a:lnTo>
                      <a:lnTo>
                        <a:pt x="628" y="1763"/>
                      </a:lnTo>
                      <a:lnTo>
                        <a:pt x="624" y="1715"/>
                      </a:lnTo>
                      <a:lnTo>
                        <a:pt x="600" y="1641"/>
                      </a:lnTo>
                      <a:lnTo>
                        <a:pt x="598" y="1585"/>
                      </a:lnTo>
                      <a:lnTo>
                        <a:pt x="598" y="1565"/>
                      </a:lnTo>
                      <a:lnTo>
                        <a:pt x="582" y="1563"/>
                      </a:lnTo>
                      <a:lnTo>
                        <a:pt x="580" y="1595"/>
                      </a:lnTo>
                      <a:lnTo>
                        <a:pt x="548" y="1597"/>
                      </a:lnTo>
                      <a:lnTo>
                        <a:pt x="536" y="1583"/>
                      </a:lnTo>
                      <a:lnTo>
                        <a:pt x="502" y="1587"/>
                      </a:lnTo>
                      <a:lnTo>
                        <a:pt x="490" y="1607"/>
                      </a:lnTo>
                      <a:lnTo>
                        <a:pt x="470" y="1625"/>
                      </a:lnTo>
                      <a:lnTo>
                        <a:pt x="434" y="1627"/>
                      </a:lnTo>
                      <a:lnTo>
                        <a:pt x="394" y="1659"/>
                      </a:lnTo>
                      <a:lnTo>
                        <a:pt x="348" y="1671"/>
                      </a:lnTo>
                      <a:lnTo>
                        <a:pt x="322" y="1691"/>
                      </a:lnTo>
                      <a:lnTo>
                        <a:pt x="322" y="1749"/>
                      </a:lnTo>
                      <a:lnTo>
                        <a:pt x="300" y="1779"/>
                      </a:lnTo>
                      <a:lnTo>
                        <a:pt x="300" y="1805"/>
                      </a:lnTo>
                      <a:lnTo>
                        <a:pt x="286" y="1813"/>
                      </a:lnTo>
                      <a:lnTo>
                        <a:pt x="282" y="1829"/>
                      </a:lnTo>
                      <a:lnTo>
                        <a:pt x="264" y="1839"/>
                      </a:lnTo>
                      <a:lnTo>
                        <a:pt x="248" y="1835"/>
                      </a:lnTo>
                      <a:lnTo>
                        <a:pt x="238" y="1815"/>
                      </a:lnTo>
                      <a:lnTo>
                        <a:pt x="238" y="1769"/>
                      </a:lnTo>
                      <a:lnTo>
                        <a:pt x="234" y="1695"/>
                      </a:lnTo>
                      <a:lnTo>
                        <a:pt x="232" y="1607"/>
                      </a:lnTo>
                      <a:lnTo>
                        <a:pt x="240" y="1531"/>
                      </a:lnTo>
                      <a:lnTo>
                        <a:pt x="252" y="1467"/>
                      </a:lnTo>
                      <a:lnTo>
                        <a:pt x="270" y="1451"/>
                      </a:lnTo>
                      <a:lnTo>
                        <a:pt x="268" y="1425"/>
                      </a:lnTo>
                      <a:lnTo>
                        <a:pt x="276" y="1409"/>
                      </a:lnTo>
                      <a:lnTo>
                        <a:pt x="262" y="1397"/>
                      </a:lnTo>
                      <a:lnTo>
                        <a:pt x="244" y="1415"/>
                      </a:lnTo>
                      <a:lnTo>
                        <a:pt x="234" y="1405"/>
                      </a:lnTo>
                      <a:lnTo>
                        <a:pt x="228" y="1377"/>
                      </a:lnTo>
                      <a:lnTo>
                        <a:pt x="232" y="1357"/>
                      </a:lnTo>
                      <a:lnTo>
                        <a:pt x="254" y="1359"/>
                      </a:lnTo>
                      <a:lnTo>
                        <a:pt x="240" y="1337"/>
                      </a:lnTo>
                      <a:lnTo>
                        <a:pt x="256" y="1333"/>
                      </a:lnTo>
                      <a:lnTo>
                        <a:pt x="228" y="1307"/>
                      </a:lnTo>
                      <a:lnTo>
                        <a:pt x="236" y="1265"/>
                      </a:lnTo>
                      <a:lnTo>
                        <a:pt x="244" y="1237"/>
                      </a:lnTo>
                      <a:lnTo>
                        <a:pt x="208" y="1207"/>
                      </a:lnTo>
                      <a:lnTo>
                        <a:pt x="176" y="1149"/>
                      </a:lnTo>
                      <a:lnTo>
                        <a:pt x="168" y="1101"/>
                      </a:lnTo>
                      <a:lnTo>
                        <a:pt x="180" y="1075"/>
                      </a:lnTo>
                      <a:lnTo>
                        <a:pt x="164" y="1051"/>
                      </a:lnTo>
                      <a:lnTo>
                        <a:pt x="170" y="971"/>
                      </a:lnTo>
                      <a:lnTo>
                        <a:pt x="196" y="921"/>
                      </a:lnTo>
                      <a:lnTo>
                        <a:pt x="186" y="895"/>
                      </a:lnTo>
                      <a:lnTo>
                        <a:pt x="152" y="975"/>
                      </a:lnTo>
                      <a:lnTo>
                        <a:pt x="138" y="1021"/>
                      </a:lnTo>
                      <a:lnTo>
                        <a:pt x="148" y="1037"/>
                      </a:lnTo>
                      <a:lnTo>
                        <a:pt x="126" y="1055"/>
                      </a:lnTo>
                      <a:lnTo>
                        <a:pt x="130" y="1107"/>
                      </a:lnTo>
                      <a:lnTo>
                        <a:pt x="158" y="1087"/>
                      </a:lnTo>
                      <a:lnTo>
                        <a:pt x="150" y="1133"/>
                      </a:lnTo>
                      <a:lnTo>
                        <a:pt x="146" y="1217"/>
                      </a:lnTo>
                      <a:lnTo>
                        <a:pt x="144" y="1233"/>
                      </a:lnTo>
                      <a:lnTo>
                        <a:pt x="132" y="1253"/>
                      </a:lnTo>
                      <a:lnTo>
                        <a:pt x="110" y="1255"/>
                      </a:lnTo>
                      <a:lnTo>
                        <a:pt x="96" y="1285"/>
                      </a:lnTo>
                      <a:lnTo>
                        <a:pt x="76" y="1281"/>
                      </a:lnTo>
                      <a:lnTo>
                        <a:pt x="50" y="1293"/>
                      </a:lnTo>
                      <a:lnTo>
                        <a:pt x="18" y="1291"/>
                      </a:lnTo>
                      <a:lnTo>
                        <a:pt x="0" y="1251"/>
                      </a:lnTo>
                      <a:lnTo>
                        <a:pt x="2" y="1209"/>
                      </a:lnTo>
                      <a:lnTo>
                        <a:pt x="22" y="1151"/>
                      </a:lnTo>
                      <a:lnTo>
                        <a:pt x="52" y="1081"/>
                      </a:lnTo>
                      <a:lnTo>
                        <a:pt x="84" y="1019"/>
                      </a:lnTo>
                      <a:lnTo>
                        <a:pt x="108" y="973"/>
                      </a:lnTo>
                      <a:lnTo>
                        <a:pt x="124" y="945"/>
                      </a:lnTo>
                      <a:lnTo>
                        <a:pt x="150" y="891"/>
                      </a:lnTo>
                      <a:lnTo>
                        <a:pt x="176" y="855"/>
                      </a:lnTo>
                      <a:lnTo>
                        <a:pt x="186" y="765"/>
                      </a:lnTo>
                      <a:lnTo>
                        <a:pt x="206" y="681"/>
                      </a:lnTo>
                      <a:lnTo>
                        <a:pt x="268" y="593"/>
                      </a:lnTo>
                      <a:lnTo>
                        <a:pt x="328" y="513"/>
                      </a:lnTo>
                      <a:lnTo>
                        <a:pt x="380" y="457"/>
                      </a:lnTo>
                      <a:lnTo>
                        <a:pt x="422" y="403"/>
                      </a:lnTo>
                      <a:lnTo>
                        <a:pt x="430" y="431"/>
                      </a:lnTo>
                      <a:lnTo>
                        <a:pt x="434" y="471"/>
                      </a:lnTo>
                      <a:lnTo>
                        <a:pt x="404" y="493"/>
                      </a:lnTo>
                      <a:lnTo>
                        <a:pt x="404" y="515"/>
                      </a:lnTo>
                      <a:lnTo>
                        <a:pt x="396" y="557"/>
                      </a:lnTo>
                      <a:lnTo>
                        <a:pt x="464" y="475"/>
                      </a:lnTo>
                      <a:lnTo>
                        <a:pt x="438" y="531"/>
                      </a:lnTo>
                      <a:lnTo>
                        <a:pt x="464" y="549"/>
                      </a:lnTo>
                      <a:lnTo>
                        <a:pt x="450" y="575"/>
                      </a:lnTo>
                      <a:lnTo>
                        <a:pt x="426" y="607"/>
                      </a:lnTo>
                      <a:lnTo>
                        <a:pt x="406" y="635"/>
                      </a:lnTo>
                      <a:lnTo>
                        <a:pt x="386" y="673"/>
                      </a:lnTo>
                      <a:lnTo>
                        <a:pt x="354" y="693"/>
                      </a:lnTo>
                      <a:lnTo>
                        <a:pt x="322" y="727"/>
                      </a:lnTo>
                      <a:lnTo>
                        <a:pt x="320" y="759"/>
                      </a:lnTo>
                      <a:lnTo>
                        <a:pt x="308" y="785"/>
                      </a:lnTo>
                      <a:lnTo>
                        <a:pt x="328" y="803"/>
                      </a:lnTo>
                      <a:lnTo>
                        <a:pt x="358" y="759"/>
                      </a:lnTo>
                      <a:lnTo>
                        <a:pt x="362" y="741"/>
                      </a:lnTo>
                      <a:lnTo>
                        <a:pt x="378" y="733"/>
                      </a:lnTo>
                      <a:lnTo>
                        <a:pt x="390" y="703"/>
                      </a:lnTo>
                      <a:lnTo>
                        <a:pt x="414" y="709"/>
                      </a:lnTo>
                      <a:lnTo>
                        <a:pt x="420" y="695"/>
                      </a:lnTo>
                      <a:lnTo>
                        <a:pt x="408" y="679"/>
                      </a:lnTo>
                      <a:lnTo>
                        <a:pt x="430" y="655"/>
                      </a:lnTo>
                      <a:lnTo>
                        <a:pt x="438" y="629"/>
                      </a:lnTo>
                      <a:lnTo>
                        <a:pt x="478" y="593"/>
                      </a:lnTo>
                      <a:lnTo>
                        <a:pt x="498" y="599"/>
                      </a:lnTo>
                      <a:lnTo>
                        <a:pt x="518" y="585"/>
                      </a:lnTo>
                      <a:lnTo>
                        <a:pt x="522" y="563"/>
                      </a:lnTo>
                      <a:lnTo>
                        <a:pt x="502" y="549"/>
                      </a:lnTo>
                      <a:lnTo>
                        <a:pt x="466" y="551"/>
                      </a:lnTo>
                      <a:lnTo>
                        <a:pt x="446" y="525"/>
                      </a:lnTo>
                      <a:lnTo>
                        <a:pt x="462" y="473"/>
                      </a:lnTo>
                      <a:lnTo>
                        <a:pt x="480" y="433"/>
                      </a:lnTo>
                      <a:lnTo>
                        <a:pt x="494" y="411"/>
                      </a:lnTo>
                      <a:lnTo>
                        <a:pt x="494" y="441"/>
                      </a:lnTo>
                      <a:lnTo>
                        <a:pt x="510" y="439"/>
                      </a:lnTo>
                      <a:lnTo>
                        <a:pt x="520" y="419"/>
                      </a:lnTo>
                      <a:lnTo>
                        <a:pt x="512" y="377"/>
                      </a:lnTo>
                      <a:lnTo>
                        <a:pt x="534" y="369"/>
                      </a:lnTo>
                      <a:lnTo>
                        <a:pt x="536" y="355"/>
                      </a:lnTo>
                      <a:lnTo>
                        <a:pt x="522" y="347"/>
                      </a:lnTo>
                      <a:lnTo>
                        <a:pt x="500" y="375"/>
                      </a:lnTo>
                      <a:lnTo>
                        <a:pt x="490" y="391"/>
                      </a:lnTo>
                      <a:lnTo>
                        <a:pt x="438" y="419"/>
                      </a:lnTo>
                      <a:lnTo>
                        <a:pt x="438" y="391"/>
                      </a:lnTo>
                      <a:lnTo>
                        <a:pt x="494" y="331"/>
                      </a:lnTo>
                      <a:lnTo>
                        <a:pt x="608" y="231"/>
                      </a:lnTo>
                      <a:lnTo>
                        <a:pt x="704" y="157"/>
                      </a:lnTo>
                      <a:lnTo>
                        <a:pt x="847" y="63"/>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68" name="Freeform 188"/>
                <p:cNvSpPr/>
                <p:nvPr/>
              </p:nvSpPr>
              <p:spPr>
                <a:xfrm>
                  <a:off x="3646440" y="3397680"/>
                  <a:ext cx="54720" cy="105840"/>
                </a:xfrm>
                <a:custGeom>
                  <a:avLst/>
                  <a:gdLst/>
                  <a:ahLst/>
                  <a:rect l="l" t="t" r="r" b="b"/>
                  <a:pathLst>
                    <a:path w="58" h="87">
                      <a:moveTo>
                        <a:pt x="0" y="23"/>
                      </a:moveTo>
                      <a:cubicBezTo>
                        <a:pt x="1" y="21"/>
                        <a:pt x="0" y="18"/>
                        <a:pt x="2" y="17"/>
                      </a:cubicBezTo>
                      <a:cubicBezTo>
                        <a:pt x="5" y="15"/>
                        <a:pt x="14" y="13"/>
                        <a:pt x="14" y="13"/>
                      </a:cubicBezTo>
                      <a:cubicBezTo>
                        <a:pt x="18" y="0"/>
                        <a:pt x="23" y="3"/>
                        <a:pt x="36" y="5"/>
                      </a:cubicBezTo>
                      <a:cubicBezTo>
                        <a:pt x="52" y="2"/>
                        <a:pt x="55" y="5"/>
                        <a:pt x="46" y="19"/>
                      </a:cubicBezTo>
                      <a:cubicBezTo>
                        <a:pt x="51" y="26"/>
                        <a:pt x="55" y="25"/>
                        <a:pt x="58" y="33"/>
                      </a:cubicBezTo>
                      <a:cubicBezTo>
                        <a:pt x="49" y="47"/>
                        <a:pt x="45" y="55"/>
                        <a:pt x="40" y="71"/>
                      </a:cubicBezTo>
                      <a:cubicBezTo>
                        <a:pt x="42" y="76"/>
                        <a:pt x="44" y="79"/>
                        <a:pt x="38" y="83"/>
                      </a:cubicBezTo>
                      <a:cubicBezTo>
                        <a:pt x="34" y="85"/>
                        <a:pt x="26" y="87"/>
                        <a:pt x="26" y="87"/>
                      </a:cubicBezTo>
                      <a:cubicBezTo>
                        <a:pt x="23" y="79"/>
                        <a:pt x="20" y="78"/>
                        <a:pt x="12" y="75"/>
                      </a:cubicBezTo>
                      <a:cubicBezTo>
                        <a:pt x="15" y="64"/>
                        <a:pt x="15" y="54"/>
                        <a:pt x="18" y="43"/>
                      </a:cubicBezTo>
                      <a:cubicBezTo>
                        <a:pt x="15" y="34"/>
                        <a:pt x="12" y="33"/>
                        <a:pt x="6" y="41"/>
                      </a:cubicBezTo>
                      <a:cubicBezTo>
                        <a:pt x="2" y="34"/>
                        <a:pt x="0" y="31"/>
                        <a:pt x="0" y="23"/>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69" name="Freeform 189"/>
                <p:cNvSpPr/>
                <p:nvPr/>
              </p:nvSpPr>
              <p:spPr>
                <a:xfrm>
                  <a:off x="3675600" y="3083400"/>
                  <a:ext cx="264240" cy="365400"/>
                </a:xfrm>
                <a:custGeom>
                  <a:avLst/>
                  <a:gdLst/>
                  <a:ahLst/>
                  <a:rect l="l" t="t" r="r" b="b"/>
                  <a:pathLst>
                    <a:path w="279" h="307">
                      <a:moveTo>
                        <a:pt x="44" y="251"/>
                      </a:moveTo>
                      <a:cubicBezTo>
                        <a:pt x="38" y="255"/>
                        <a:pt x="35" y="262"/>
                        <a:pt x="28" y="265"/>
                      </a:cubicBezTo>
                      <a:cubicBezTo>
                        <a:pt x="22" y="268"/>
                        <a:pt x="10" y="271"/>
                        <a:pt x="10" y="271"/>
                      </a:cubicBezTo>
                      <a:cubicBezTo>
                        <a:pt x="8" y="270"/>
                        <a:pt x="5" y="271"/>
                        <a:pt x="4" y="269"/>
                      </a:cubicBezTo>
                      <a:cubicBezTo>
                        <a:pt x="2" y="266"/>
                        <a:pt x="0" y="257"/>
                        <a:pt x="0" y="257"/>
                      </a:cubicBezTo>
                      <a:cubicBezTo>
                        <a:pt x="5" y="249"/>
                        <a:pt x="13" y="245"/>
                        <a:pt x="22" y="241"/>
                      </a:cubicBezTo>
                      <a:cubicBezTo>
                        <a:pt x="26" y="239"/>
                        <a:pt x="34" y="237"/>
                        <a:pt x="34" y="237"/>
                      </a:cubicBezTo>
                      <a:cubicBezTo>
                        <a:pt x="37" y="233"/>
                        <a:pt x="44" y="226"/>
                        <a:pt x="48" y="223"/>
                      </a:cubicBezTo>
                      <a:cubicBezTo>
                        <a:pt x="53" y="220"/>
                        <a:pt x="66" y="217"/>
                        <a:pt x="66" y="217"/>
                      </a:cubicBezTo>
                      <a:cubicBezTo>
                        <a:pt x="71" y="218"/>
                        <a:pt x="77" y="219"/>
                        <a:pt x="82" y="219"/>
                      </a:cubicBezTo>
                      <a:cubicBezTo>
                        <a:pt x="86" y="219"/>
                        <a:pt x="94" y="215"/>
                        <a:pt x="94" y="215"/>
                      </a:cubicBezTo>
                      <a:cubicBezTo>
                        <a:pt x="96" y="212"/>
                        <a:pt x="100" y="205"/>
                        <a:pt x="104" y="205"/>
                      </a:cubicBezTo>
                      <a:cubicBezTo>
                        <a:pt x="110" y="205"/>
                        <a:pt x="122" y="211"/>
                        <a:pt x="122" y="211"/>
                      </a:cubicBezTo>
                      <a:cubicBezTo>
                        <a:pt x="132" y="208"/>
                        <a:pt x="130" y="204"/>
                        <a:pt x="128" y="195"/>
                      </a:cubicBezTo>
                      <a:cubicBezTo>
                        <a:pt x="136" y="190"/>
                        <a:pt x="141" y="191"/>
                        <a:pt x="146" y="183"/>
                      </a:cubicBezTo>
                      <a:cubicBezTo>
                        <a:pt x="144" y="179"/>
                        <a:pt x="136" y="170"/>
                        <a:pt x="142" y="165"/>
                      </a:cubicBezTo>
                      <a:cubicBezTo>
                        <a:pt x="145" y="163"/>
                        <a:pt x="154" y="161"/>
                        <a:pt x="154" y="161"/>
                      </a:cubicBezTo>
                      <a:cubicBezTo>
                        <a:pt x="159" y="175"/>
                        <a:pt x="151" y="158"/>
                        <a:pt x="166" y="163"/>
                      </a:cubicBezTo>
                      <a:cubicBezTo>
                        <a:pt x="163" y="173"/>
                        <a:pt x="158" y="179"/>
                        <a:pt x="170" y="183"/>
                      </a:cubicBezTo>
                      <a:cubicBezTo>
                        <a:pt x="182" y="179"/>
                        <a:pt x="181" y="167"/>
                        <a:pt x="194" y="163"/>
                      </a:cubicBezTo>
                      <a:cubicBezTo>
                        <a:pt x="192" y="157"/>
                        <a:pt x="180" y="149"/>
                        <a:pt x="180" y="149"/>
                      </a:cubicBezTo>
                      <a:cubicBezTo>
                        <a:pt x="173" y="138"/>
                        <a:pt x="182" y="134"/>
                        <a:pt x="192" y="131"/>
                      </a:cubicBezTo>
                      <a:cubicBezTo>
                        <a:pt x="206" y="136"/>
                        <a:pt x="191" y="149"/>
                        <a:pt x="208" y="145"/>
                      </a:cubicBezTo>
                      <a:cubicBezTo>
                        <a:pt x="212" y="133"/>
                        <a:pt x="216" y="125"/>
                        <a:pt x="228" y="121"/>
                      </a:cubicBezTo>
                      <a:cubicBezTo>
                        <a:pt x="231" y="112"/>
                        <a:pt x="226" y="104"/>
                        <a:pt x="224" y="95"/>
                      </a:cubicBezTo>
                      <a:cubicBezTo>
                        <a:pt x="228" y="82"/>
                        <a:pt x="223" y="68"/>
                        <a:pt x="232" y="55"/>
                      </a:cubicBezTo>
                      <a:cubicBezTo>
                        <a:pt x="234" y="45"/>
                        <a:pt x="239" y="43"/>
                        <a:pt x="230" y="37"/>
                      </a:cubicBezTo>
                      <a:cubicBezTo>
                        <a:pt x="227" y="33"/>
                        <a:pt x="224" y="30"/>
                        <a:pt x="222" y="25"/>
                      </a:cubicBezTo>
                      <a:cubicBezTo>
                        <a:pt x="221" y="21"/>
                        <a:pt x="218" y="13"/>
                        <a:pt x="218" y="13"/>
                      </a:cubicBezTo>
                      <a:cubicBezTo>
                        <a:pt x="221" y="5"/>
                        <a:pt x="221" y="0"/>
                        <a:pt x="230" y="3"/>
                      </a:cubicBezTo>
                      <a:cubicBezTo>
                        <a:pt x="233" y="11"/>
                        <a:pt x="236" y="14"/>
                        <a:pt x="244" y="17"/>
                      </a:cubicBezTo>
                      <a:cubicBezTo>
                        <a:pt x="248" y="29"/>
                        <a:pt x="234" y="23"/>
                        <a:pt x="246" y="31"/>
                      </a:cubicBezTo>
                      <a:cubicBezTo>
                        <a:pt x="242" y="42"/>
                        <a:pt x="246" y="47"/>
                        <a:pt x="254" y="53"/>
                      </a:cubicBezTo>
                      <a:cubicBezTo>
                        <a:pt x="257" y="61"/>
                        <a:pt x="259" y="64"/>
                        <a:pt x="266" y="69"/>
                      </a:cubicBezTo>
                      <a:cubicBezTo>
                        <a:pt x="269" y="78"/>
                        <a:pt x="271" y="85"/>
                        <a:pt x="276" y="93"/>
                      </a:cubicBezTo>
                      <a:cubicBezTo>
                        <a:pt x="279" y="107"/>
                        <a:pt x="272" y="127"/>
                        <a:pt x="262" y="137"/>
                      </a:cubicBezTo>
                      <a:cubicBezTo>
                        <a:pt x="245" y="131"/>
                        <a:pt x="250" y="164"/>
                        <a:pt x="246" y="177"/>
                      </a:cubicBezTo>
                      <a:cubicBezTo>
                        <a:pt x="244" y="197"/>
                        <a:pt x="245" y="212"/>
                        <a:pt x="240" y="231"/>
                      </a:cubicBezTo>
                      <a:cubicBezTo>
                        <a:pt x="232" y="229"/>
                        <a:pt x="228" y="226"/>
                        <a:pt x="220" y="229"/>
                      </a:cubicBezTo>
                      <a:cubicBezTo>
                        <a:pt x="217" y="237"/>
                        <a:pt x="215" y="240"/>
                        <a:pt x="206" y="237"/>
                      </a:cubicBezTo>
                      <a:cubicBezTo>
                        <a:pt x="203" y="247"/>
                        <a:pt x="196" y="242"/>
                        <a:pt x="188" y="239"/>
                      </a:cubicBezTo>
                      <a:cubicBezTo>
                        <a:pt x="181" y="241"/>
                        <a:pt x="175" y="243"/>
                        <a:pt x="168" y="245"/>
                      </a:cubicBezTo>
                      <a:cubicBezTo>
                        <a:pt x="162" y="243"/>
                        <a:pt x="150" y="239"/>
                        <a:pt x="150" y="239"/>
                      </a:cubicBezTo>
                      <a:cubicBezTo>
                        <a:pt x="153" y="253"/>
                        <a:pt x="150" y="257"/>
                        <a:pt x="140" y="267"/>
                      </a:cubicBezTo>
                      <a:cubicBezTo>
                        <a:pt x="135" y="281"/>
                        <a:pt x="140" y="278"/>
                        <a:pt x="130" y="281"/>
                      </a:cubicBezTo>
                      <a:cubicBezTo>
                        <a:pt x="121" y="278"/>
                        <a:pt x="113" y="281"/>
                        <a:pt x="110" y="271"/>
                      </a:cubicBezTo>
                      <a:cubicBezTo>
                        <a:pt x="114" y="259"/>
                        <a:pt x="116" y="251"/>
                        <a:pt x="104" y="243"/>
                      </a:cubicBezTo>
                      <a:cubicBezTo>
                        <a:pt x="93" y="245"/>
                        <a:pt x="88" y="244"/>
                        <a:pt x="82" y="253"/>
                      </a:cubicBezTo>
                      <a:cubicBezTo>
                        <a:pt x="67" y="248"/>
                        <a:pt x="73" y="246"/>
                        <a:pt x="64" y="255"/>
                      </a:cubicBezTo>
                      <a:cubicBezTo>
                        <a:pt x="56" y="252"/>
                        <a:pt x="53" y="245"/>
                        <a:pt x="50" y="255"/>
                      </a:cubicBezTo>
                      <a:cubicBezTo>
                        <a:pt x="51" y="257"/>
                        <a:pt x="52" y="259"/>
                        <a:pt x="52" y="261"/>
                      </a:cubicBezTo>
                      <a:cubicBezTo>
                        <a:pt x="52" y="263"/>
                        <a:pt x="48" y="266"/>
                        <a:pt x="50" y="267"/>
                      </a:cubicBezTo>
                      <a:cubicBezTo>
                        <a:pt x="55" y="269"/>
                        <a:pt x="76" y="260"/>
                        <a:pt x="80" y="259"/>
                      </a:cubicBezTo>
                      <a:cubicBezTo>
                        <a:pt x="82" y="258"/>
                        <a:pt x="86" y="257"/>
                        <a:pt x="86" y="257"/>
                      </a:cubicBezTo>
                      <a:cubicBezTo>
                        <a:pt x="90" y="258"/>
                        <a:pt x="94" y="260"/>
                        <a:pt x="98" y="261"/>
                      </a:cubicBezTo>
                      <a:cubicBezTo>
                        <a:pt x="101" y="262"/>
                        <a:pt x="97" y="266"/>
                        <a:pt x="96" y="269"/>
                      </a:cubicBezTo>
                      <a:cubicBezTo>
                        <a:pt x="92" y="281"/>
                        <a:pt x="91" y="284"/>
                        <a:pt x="80" y="291"/>
                      </a:cubicBezTo>
                      <a:cubicBezTo>
                        <a:pt x="72" y="283"/>
                        <a:pt x="71" y="286"/>
                        <a:pt x="60" y="289"/>
                      </a:cubicBezTo>
                      <a:cubicBezTo>
                        <a:pt x="55" y="304"/>
                        <a:pt x="59" y="298"/>
                        <a:pt x="50" y="307"/>
                      </a:cubicBezTo>
                      <a:cubicBezTo>
                        <a:pt x="39" y="304"/>
                        <a:pt x="42" y="300"/>
                        <a:pt x="36" y="291"/>
                      </a:cubicBezTo>
                      <a:cubicBezTo>
                        <a:pt x="41" y="277"/>
                        <a:pt x="38" y="283"/>
                        <a:pt x="44" y="273"/>
                      </a:cubicBezTo>
                      <a:cubicBezTo>
                        <a:pt x="43" y="269"/>
                        <a:pt x="36" y="263"/>
                        <a:pt x="40" y="261"/>
                      </a:cubicBezTo>
                      <a:cubicBezTo>
                        <a:pt x="48" y="256"/>
                        <a:pt x="47" y="259"/>
                        <a:pt x="44" y="25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0" name="Freeform 190"/>
                <p:cNvSpPr/>
                <p:nvPr/>
              </p:nvSpPr>
              <p:spPr>
                <a:xfrm>
                  <a:off x="3888000" y="2980080"/>
                  <a:ext cx="128160" cy="135720"/>
                </a:xfrm>
                <a:custGeom>
                  <a:avLst/>
                  <a:gdLst/>
                  <a:ahLst/>
                  <a:rect l="l" t="t" r="r" b="b"/>
                  <a:pathLst>
                    <a:path w="138" h="113">
                      <a:moveTo>
                        <a:pt x="7" y="81"/>
                      </a:moveTo>
                      <a:cubicBezTo>
                        <a:pt x="2" y="73"/>
                        <a:pt x="1" y="66"/>
                        <a:pt x="11" y="63"/>
                      </a:cubicBezTo>
                      <a:cubicBezTo>
                        <a:pt x="11" y="63"/>
                        <a:pt x="21" y="71"/>
                        <a:pt x="23" y="69"/>
                      </a:cubicBezTo>
                      <a:cubicBezTo>
                        <a:pt x="23" y="69"/>
                        <a:pt x="28" y="54"/>
                        <a:pt x="29" y="51"/>
                      </a:cubicBezTo>
                      <a:cubicBezTo>
                        <a:pt x="30" y="49"/>
                        <a:pt x="31" y="45"/>
                        <a:pt x="31" y="45"/>
                      </a:cubicBezTo>
                      <a:cubicBezTo>
                        <a:pt x="30" y="34"/>
                        <a:pt x="28" y="26"/>
                        <a:pt x="25" y="15"/>
                      </a:cubicBezTo>
                      <a:cubicBezTo>
                        <a:pt x="27" y="6"/>
                        <a:pt x="25" y="0"/>
                        <a:pt x="35" y="3"/>
                      </a:cubicBezTo>
                      <a:cubicBezTo>
                        <a:pt x="42" y="13"/>
                        <a:pt x="44" y="15"/>
                        <a:pt x="57" y="17"/>
                      </a:cubicBezTo>
                      <a:cubicBezTo>
                        <a:pt x="61" y="29"/>
                        <a:pt x="66" y="37"/>
                        <a:pt x="79" y="41"/>
                      </a:cubicBezTo>
                      <a:cubicBezTo>
                        <a:pt x="94" y="36"/>
                        <a:pt x="87" y="38"/>
                        <a:pt x="99" y="35"/>
                      </a:cubicBezTo>
                      <a:cubicBezTo>
                        <a:pt x="106" y="25"/>
                        <a:pt x="104" y="34"/>
                        <a:pt x="113" y="37"/>
                      </a:cubicBezTo>
                      <a:cubicBezTo>
                        <a:pt x="120" y="32"/>
                        <a:pt x="119" y="28"/>
                        <a:pt x="127" y="25"/>
                      </a:cubicBezTo>
                      <a:cubicBezTo>
                        <a:pt x="138" y="29"/>
                        <a:pt x="131" y="33"/>
                        <a:pt x="125" y="39"/>
                      </a:cubicBezTo>
                      <a:cubicBezTo>
                        <a:pt x="122" y="48"/>
                        <a:pt x="119" y="48"/>
                        <a:pt x="111" y="45"/>
                      </a:cubicBezTo>
                      <a:cubicBezTo>
                        <a:pt x="98" y="48"/>
                        <a:pt x="99" y="50"/>
                        <a:pt x="109" y="57"/>
                      </a:cubicBezTo>
                      <a:cubicBezTo>
                        <a:pt x="117" y="69"/>
                        <a:pt x="105" y="70"/>
                        <a:pt x="95" y="73"/>
                      </a:cubicBezTo>
                      <a:cubicBezTo>
                        <a:pt x="91" y="74"/>
                        <a:pt x="83" y="77"/>
                        <a:pt x="83" y="77"/>
                      </a:cubicBezTo>
                      <a:cubicBezTo>
                        <a:pt x="80" y="86"/>
                        <a:pt x="76" y="92"/>
                        <a:pt x="73" y="101"/>
                      </a:cubicBezTo>
                      <a:cubicBezTo>
                        <a:pt x="72" y="105"/>
                        <a:pt x="69" y="113"/>
                        <a:pt x="69" y="113"/>
                      </a:cubicBezTo>
                      <a:cubicBezTo>
                        <a:pt x="58" y="110"/>
                        <a:pt x="60" y="106"/>
                        <a:pt x="51" y="99"/>
                      </a:cubicBezTo>
                      <a:cubicBezTo>
                        <a:pt x="45" y="95"/>
                        <a:pt x="33" y="87"/>
                        <a:pt x="33" y="87"/>
                      </a:cubicBezTo>
                      <a:cubicBezTo>
                        <a:pt x="25" y="92"/>
                        <a:pt x="26" y="98"/>
                        <a:pt x="17" y="95"/>
                      </a:cubicBezTo>
                      <a:cubicBezTo>
                        <a:pt x="16" y="93"/>
                        <a:pt x="0" y="81"/>
                        <a:pt x="7" y="8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1" name="Freeform 191"/>
                <p:cNvSpPr/>
                <p:nvPr/>
              </p:nvSpPr>
              <p:spPr>
                <a:xfrm>
                  <a:off x="4019400" y="2961720"/>
                  <a:ext cx="45360" cy="40680"/>
                </a:xfrm>
                <a:custGeom>
                  <a:avLst/>
                  <a:gdLst/>
                  <a:ahLst/>
                  <a:rect l="l" t="t" r="r" b="b"/>
                  <a:pathLst>
                    <a:path w="46" h="34">
                      <a:moveTo>
                        <a:pt x="0" y="24"/>
                      </a:moveTo>
                      <a:cubicBezTo>
                        <a:pt x="22" y="17"/>
                        <a:pt x="7" y="12"/>
                        <a:pt x="24" y="0"/>
                      </a:cubicBezTo>
                      <a:cubicBezTo>
                        <a:pt x="43" y="6"/>
                        <a:pt x="21" y="12"/>
                        <a:pt x="46" y="16"/>
                      </a:cubicBezTo>
                      <a:cubicBezTo>
                        <a:pt x="42" y="28"/>
                        <a:pt x="34" y="23"/>
                        <a:pt x="24" y="20"/>
                      </a:cubicBezTo>
                      <a:cubicBezTo>
                        <a:pt x="3" y="34"/>
                        <a:pt x="12" y="16"/>
                        <a:pt x="0" y="24"/>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72" name="Freeform 192"/>
                <p:cNvSpPr/>
                <p:nvPr/>
              </p:nvSpPr>
              <p:spPr>
                <a:xfrm>
                  <a:off x="4056120" y="2916000"/>
                  <a:ext cx="36720" cy="55080"/>
                </a:xfrm>
                <a:custGeom>
                  <a:avLst/>
                  <a:gdLst/>
                  <a:ahLst/>
                  <a:rect l="l" t="t" r="r" b="b"/>
                  <a:pathLst>
                    <a:path w="39" h="47">
                      <a:moveTo>
                        <a:pt x="17" y="43"/>
                      </a:moveTo>
                      <a:cubicBezTo>
                        <a:pt x="0" y="39"/>
                        <a:pt x="6" y="28"/>
                        <a:pt x="13" y="17"/>
                      </a:cubicBezTo>
                      <a:cubicBezTo>
                        <a:pt x="7" y="0"/>
                        <a:pt x="24" y="16"/>
                        <a:pt x="29" y="19"/>
                      </a:cubicBezTo>
                      <a:cubicBezTo>
                        <a:pt x="36" y="29"/>
                        <a:pt x="39" y="30"/>
                        <a:pt x="25" y="33"/>
                      </a:cubicBezTo>
                      <a:cubicBezTo>
                        <a:pt x="21" y="46"/>
                        <a:pt x="25" y="47"/>
                        <a:pt x="17" y="43"/>
                      </a:cubicBezTo>
                      <a:close/>
                    </a:path>
                  </a:pathLst>
                </a:custGeom>
                <a:solidFill>
                  <a:srgbClr val="ce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273" name="Freeform 193"/>
                <p:cNvSpPr/>
                <p:nvPr/>
              </p:nvSpPr>
              <p:spPr>
                <a:xfrm>
                  <a:off x="4094640" y="2894400"/>
                  <a:ext cx="24120" cy="29880"/>
                </a:xfrm>
                <a:custGeom>
                  <a:avLst/>
                  <a:gdLst/>
                  <a:ahLst/>
                  <a:rect l="l" t="t" r="r" b="b"/>
                  <a:pathLst>
                    <a:path w="25" h="27">
                      <a:moveTo>
                        <a:pt x="11" y="18"/>
                      </a:moveTo>
                      <a:cubicBezTo>
                        <a:pt x="6" y="16"/>
                        <a:pt x="0" y="16"/>
                        <a:pt x="7" y="8"/>
                      </a:cubicBezTo>
                      <a:cubicBezTo>
                        <a:pt x="10" y="4"/>
                        <a:pt x="19" y="0"/>
                        <a:pt x="19" y="0"/>
                      </a:cubicBezTo>
                      <a:cubicBezTo>
                        <a:pt x="25" y="9"/>
                        <a:pt x="20" y="27"/>
                        <a:pt x="11" y="18"/>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74" name="Freeform 194"/>
                <p:cNvSpPr/>
                <p:nvPr/>
              </p:nvSpPr>
              <p:spPr>
                <a:xfrm>
                  <a:off x="3893760" y="2677680"/>
                  <a:ext cx="58320" cy="282600"/>
                </a:xfrm>
                <a:custGeom>
                  <a:avLst/>
                  <a:gdLst/>
                  <a:ahLst/>
                  <a:rect l="l" t="t" r="r" b="b"/>
                  <a:pathLst>
                    <a:path w="62" h="238">
                      <a:moveTo>
                        <a:pt x="3" y="60"/>
                      </a:moveTo>
                      <a:cubicBezTo>
                        <a:pt x="5" y="47"/>
                        <a:pt x="4" y="42"/>
                        <a:pt x="11" y="32"/>
                      </a:cubicBezTo>
                      <a:cubicBezTo>
                        <a:pt x="12" y="22"/>
                        <a:pt x="10" y="12"/>
                        <a:pt x="13" y="2"/>
                      </a:cubicBezTo>
                      <a:cubicBezTo>
                        <a:pt x="14" y="0"/>
                        <a:pt x="18" y="4"/>
                        <a:pt x="19" y="6"/>
                      </a:cubicBezTo>
                      <a:cubicBezTo>
                        <a:pt x="24" y="13"/>
                        <a:pt x="23" y="22"/>
                        <a:pt x="25" y="30"/>
                      </a:cubicBezTo>
                      <a:cubicBezTo>
                        <a:pt x="31" y="53"/>
                        <a:pt x="44" y="71"/>
                        <a:pt x="49" y="94"/>
                      </a:cubicBezTo>
                      <a:cubicBezTo>
                        <a:pt x="51" y="104"/>
                        <a:pt x="54" y="113"/>
                        <a:pt x="57" y="122"/>
                      </a:cubicBezTo>
                      <a:cubicBezTo>
                        <a:pt x="58" y="126"/>
                        <a:pt x="61" y="134"/>
                        <a:pt x="61" y="134"/>
                      </a:cubicBezTo>
                      <a:cubicBezTo>
                        <a:pt x="59" y="144"/>
                        <a:pt x="62" y="155"/>
                        <a:pt x="51" y="148"/>
                      </a:cubicBezTo>
                      <a:cubicBezTo>
                        <a:pt x="48" y="143"/>
                        <a:pt x="47" y="137"/>
                        <a:pt x="39" y="144"/>
                      </a:cubicBezTo>
                      <a:cubicBezTo>
                        <a:pt x="34" y="149"/>
                        <a:pt x="27" y="162"/>
                        <a:pt x="27" y="162"/>
                      </a:cubicBezTo>
                      <a:cubicBezTo>
                        <a:pt x="31" y="184"/>
                        <a:pt x="44" y="199"/>
                        <a:pt x="51" y="220"/>
                      </a:cubicBezTo>
                      <a:cubicBezTo>
                        <a:pt x="47" y="231"/>
                        <a:pt x="47" y="232"/>
                        <a:pt x="35" y="230"/>
                      </a:cubicBezTo>
                      <a:cubicBezTo>
                        <a:pt x="23" y="222"/>
                        <a:pt x="21" y="232"/>
                        <a:pt x="11" y="238"/>
                      </a:cubicBezTo>
                      <a:cubicBezTo>
                        <a:pt x="4" y="227"/>
                        <a:pt x="10" y="208"/>
                        <a:pt x="11" y="196"/>
                      </a:cubicBezTo>
                      <a:cubicBezTo>
                        <a:pt x="9" y="179"/>
                        <a:pt x="3" y="157"/>
                        <a:pt x="9" y="140"/>
                      </a:cubicBezTo>
                      <a:cubicBezTo>
                        <a:pt x="11" y="133"/>
                        <a:pt x="17" y="129"/>
                        <a:pt x="19" y="122"/>
                      </a:cubicBezTo>
                      <a:cubicBezTo>
                        <a:pt x="13" y="105"/>
                        <a:pt x="17" y="86"/>
                        <a:pt x="1" y="76"/>
                      </a:cubicBezTo>
                      <a:cubicBezTo>
                        <a:pt x="0" y="72"/>
                        <a:pt x="3" y="50"/>
                        <a:pt x="3"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5" name="Freeform 195"/>
                <p:cNvSpPr/>
                <p:nvPr/>
              </p:nvSpPr>
              <p:spPr>
                <a:xfrm>
                  <a:off x="2427480" y="3847680"/>
                  <a:ext cx="45360" cy="137160"/>
                </a:xfrm>
                <a:custGeom>
                  <a:avLst/>
                  <a:gdLst/>
                  <a:ahLst/>
                  <a:rect l="l" t="t" r="r" b="b"/>
                  <a:pathLst>
                    <a:path w="47" h="114">
                      <a:moveTo>
                        <a:pt x="6" y="58"/>
                      </a:moveTo>
                      <a:cubicBezTo>
                        <a:pt x="3" y="48"/>
                        <a:pt x="6" y="5"/>
                        <a:pt x="20" y="0"/>
                      </a:cubicBezTo>
                      <a:cubicBezTo>
                        <a:pt x="32" y="4"/>
                        <a:pt x="32" y="17"/>
                        <a:pt x="36" y="28"/>
                      </a:cubicBezTo>
                      <a:cubicBezTo>
                        <a:pt x="33" y="38"/>
                        <a:pt x="33" y="32"/>
                        <a:pt x="38" y="46"/>
                      </a:cubicBezTo>
                      <a:cubicBezTo>
                        <a:pt x="39" y="50"/>
                        <a:pt x="42" y="58"/>
                        <a:pt x="42" y="58"/>
                      </a:cubicBezTo>
                      <a:cubicBezTo>
                        <a:pt x="44" y="77"/>
                        <a:pt x="47" y="97"/>
                        <a:pt x="26" y="104"/>
                      </a:cubicBezTo>
                      <a:cubicBezTo>
                        <a:pt x="19" y="111"/>
                        <a:pt x="17" y="114"/>
                        <a:pt x="8" y="108"/>
                      </a:cubicBezTo>
                      <a:cubicBezTo>
                        <a:pt x="4" y="97"/>
                        <a:pt x="4" y="85"/>
                        <a:pt x="0" y="74"/>
                      </a:cubicBezTo>
                      <a:cubicBezTo>
                        <a:pt x="1" y="71"/>
                        <a:pt x="1" y="69"/>
                        <a:pt x="2" y="66"/>
                      </a:cubicBezTo>
                      <a:cubicBezTo>
                        <a:pt x="6" y="51"/>
                        <a:pt x="6" y="50"/>
                        <a:pt x="6" y="58"/>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6" name="Freeform 196"/>
                <p:cNvSpPr/>
                <p:nvPr/>
              </p:nvSpPr>
              <p:spPr>
                <a:xfrm>
                  <a:off x="2122920" y="3183120"/>
                  <a:ext cx="50760" cy="286200"/>
                </a:xfrm>
                <a:custGeom>
                  <a:avLst/>
                  <a:gdLst/>
                  <a:ahLst/>
                  <a:rect l="l" t="t" r="r" b="b"/>
                  <a:pathLst>
                    <a:path w="55" h="239">
                      <a:moveTo>
                        <a:pt x="24" y="11"/>
                      </a:moveTo>
                      <a:cubicBezTo>
                        <a:pt x="30" y="29"/>
                        <a:pt x="21" y="0"/>
                        <a:pt x="28" y="27"/>
                      </a:cubicBezTo>
                      <a:cubicBezTo>
                        <a:pt x="29" y="31"/>
                        <a:pt x="32" y="39"/>
                        <a:pt x="32" y="39"/>
                      </a:cubicBezTo>
                      <a:cubicBezTo>
                        <a:pt x="27" y="55"/>
                        <a:pt x="31" y="75"/>
                        <a:pt x="48" y="81"/>
                      </a:cubicBezTo>
                      <a:cubicBezTo>
                        <a:pt x="55" y="91"/>
                        <a:pt x="47" y="101"/>
                        <a:pt x="44" y="111"/>
                      </a:cubicBezTo>
                      <a:cubicBezTo>
                        <a:pt x="35" y="139"/>
                        <a:pt x="31" y="169"/>
                        <a:pt x="22" y="197"/>
                      </a:cubicBezTo>
                      <a:cubicBezTo>
                        <a:pt x="19" y="205"/>
                        <a:pt x="14" y="213"/>
                        <a:pt x="10" y="221"/>
                      </a:cubicBezTo>
                      <a:cubicBezTo>
                        <a:pt x="8" y="225"/>
                        <a:pt x="5" y="229"/>
                        <a:pt x="2" y="233"/>
                      </a:cubicBezTo>
                      <a:cubicBezTo>
                        <a:pt x="1" y="235"/>
                        <a:pt x="0" y="239"/>
                        <a:pt x="0" y="239"/>
                      </a:cubicBezTo>
                      <a:lnTo>
                        <a:pt x="2" y="123"/>
                      </a:lnTo>
                      <a:lnTo>
                        <a:pt x="16" y="29"/>
                      </a:lnTo>
                      <a:lnTo>
                        <a:pt x="24" y="11"/>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7" name="Freeform 197"/>
                <p:cNvSpPr/>
                <p:nvPr/>
              </p:nvSpPr>
              <p:spPr>
                <a:xfrm>
                  <a:off x="2719440" y="4167720"/>
                  <a:ext cx="273600" cy="478800"/>
                </a:xfrm>
                <a:custGeom>
                  <a:avLst/>
                  <a:gdLst/>
                  <a:ahLst/>
                  <a:rect l="l" t="t" r="r" b="b"/>
                  <a:pathLst>
                    <a:path w="291" h="399">
                      <a:moveTo>
                        <a:pt x="33" y="55"/>
                      </a:moveTo>
                      <a:cubicBezTo>
                        <a:pt x="20" y="52"/>
                        <a:pt x="27" y="55"/>
                        <a:pt x="13" y="45"/>
                      </a:cubicBezTo>
                      <a:cubicBezTo>
                        <a:pt x="11" y="44"/>
                        <a:pt x="7" y="41"/>
                        <a:pt x="7" y="41"/>
                      </a:cubicBezTo>
                      <a:cubicBezTo>
                        <a:pt x="2" y="34"/>
                        <a:pt x="0" y="31"/>
                        <a:pt x="3" y="23"/>
                      </a:cubicBezTo>
                      <a:cubicBezTo>
                        <a:pt x="5" y="8"/>
                        <a:pt x="2" y="0"/>
                        <a:pt x="17" y="5"/>
                      </a:cubicBezTo>
                      <a:cubicBezTo>
                        <a:pt x="21" y="9"/>
                        <a:pt x="26" y="11"/>
                        <a:pt x="29" y="15"/>
                      </a:cubicBezTo>
                      <a:cubicBezTo>
                        <a:pt x="34" y="21"/>
                        <a:pt x="32" y="27"/>
                        <a:pt x="41" y="31"/>
                      </a:cubicBezTo>
                      <a:cubicBezTo>
                        <a:pt x="47" y="34"/>
                        <a:pt x="59" y="37"/>
                        <a:pt x="59" y="37"/>
                      </a:cubicBezTo>
                      <a:cubicBezTo>
                        <a:pt x="69" y="53"/>
                        <a:pt x="67" y="66"/>
                        <a:pt x="83" y="77"/>
                      </a:cubicBezTo>
                      <a:cubicBezTo>
                        <a:pt x="88" y="84"/>
                        <a:pt x="96" y="92"/>
                        <a:pt x="103" y="97"/>
                      </a:cubicBezTo>
                      <a:cubicBezTo>
                        <a:pt x="113" y="111"/>
                        <a:pt x="119" y="135"/>
                        <a:pt x="137" y="141"/>
                      </a:cubicBezTo>
                      <a:cubicBezTo>
                        <a:pt x="150" y="161"/>
                        <a:pt x="168" y="178"/>
                        <a:pt x="185" y="195"/>
                      </a:cubicBezTo>
                      <a:cubicBezTo>
                        <a:pt x="202" y="212"/>
                        <a:pt x="178" y="191"/>
                        <a:pt x="191" y="207"/>
                      </a:cubicBezTo>
                      <a:cubicBezTo>
                        <a:pt x="196" y="214"/>
                        <a:pt x="208" y="214"/>
                        <a:pt x="215" y="219"/>
                      </a:cubicBezTo>
                      <a:cubicBezTo>
                        <a:pt x="219" y="230"/>
                        <a:pt x="231" y="236"/>
                        <a:pt x="241" y="239"/>
                      </a:cubicBezTo>
                      <a:cubicBezTo>
                        <a:pt x="235" y="241"/>
                        <a:pt x="234" y="243"/>
                        <a:pt x="227" y="239"/>
                      </a:cubicBezTo>
                      <a:cubicBezTo>
                        <a:pt x="223" y="237"/>
                        <a:pt x="215" y="231"/>
                        <a:pt x="215" y="231"/>
                      </a:cubicBezTo>
                      <a:cubicBezTo>
                        <a:pt x="211" y="232"/>
                        <a:pt x="205" y="233"/>
                        <a:pt x="205" y="239"/>
                      </a:cubicBezTo>
                      <a:cubicBezTo>
                        <a:pt x="205" y="245"/>
                        <a:pt x="218" y="251"/>
                        <a:pt x="221" y="255"/>
                      </a:cubicBezTo>
                      <a:cubicBezTo>
                        <a:pt x="229" y="266"/>
                        <a:pt x="233" y="273"/>
                        <a:pt x="237" y="285"/>
                      </a:cubicBezTo>
                      <a:cubicBezTo>
                        <a:pt x="238" y="289"/>
                        <a:pt x="237" y="295"/>
                        <a:pt x="241" y="297"/>
                      </a:cubicBezTo>
                      <a:cubicBezTo>
                        <a:pt x="249" y="303"/>
                        <a:pt x="245" y="299"/>
                        <a:pt x="253" y="307"/>
                      </a:cubicBezTo>
                      <a:cubicBezTo>
                        <a:pt x="258" y="293"/>
                        <a:pt x="258" y="299"/>
                        <a:pt x="255" y="289"/>
                      </a:cubicBezTo>
                      <a:cubicBezTo>
                        <a:pt x="258" y="279"/>
                        <a:pt x="262" y="281"/>
                        <a:pt x="271" y="283"/>
                      </a:cubicBezTo>
                      <a:cubicBezTo>
                        <a:pt x="289" y="301"/>
                        <a:pt x="270" y="278"/>
                        <a:pt x="273" y="295"/>
                      </a:cubicBezTo>
                      <a:cubicBezTo>
                        <a:pt x="273" y="297"/>
                        <a:pt x="277" y="297"/>
                        <a:pt x="279" y="299"/>
                      </a:cubicBezTo>
                      <a:cubicBezTo>
                        <a:pt x="283" y="303"/>
                        <a:pt x="291" y="311"/>
                        <a:pt x="291" y="311"/>
                      </a:cubicBezTo>
                      <a:cubicBezTo>
                        <a:pt x="288" y="325"/>
                        <a:pt x="285" y="322"/>
                        <a:pt x="275" y="315"/>
                      </a:cubicBezTo>
                      <a:cubicBezTo>
                        <a:pt x="272" y="323"/>
                        <a:pt x="274" y="327"/>
                        <a:pt x="277" y="335"/>
                      </a:cubicBezTo>
                      <a:cubicBezTo>
                        <a:pt x="275" y="347"/>
                        <a:pt x="277" y="356"/>
                        <a:pt x="281" y="367"/>
                      </a:cubicBezTo>
                      <a:cubicBezTo>
                        <a:pt x="278" y="376"/>
                        <a:pt x="276" y="384"/>
                        <a:pt x="273" y="393"/>
                      </a:cubicBezTo>
                      <a:cubicBezTo>
                        <a:pt x="272" y="395"/>
                        <a:pt x="271" y="399"/>
                        <a:pt x="271" y="399"/>
                      </a:cubicBezTo>
                      <a:cubicBezTo>
                        <a:pt x="260" y="395"/>
                        <a:pt x="266" y="399"/>
                        <a:pt x="257" y="385"/>
                      </a:cubicBezTo>
                      <a:cubicBezTo>
                        <a:pt x="253" y="380"/>
                        <a:pt x="239" y="379"/>
                        <a:pt x="239" y="379"/>
                      </a:cubicBezTo>
                      <a:cubicBezTo>
                        <a:pt x="232" y="369"/>
                        <a:pt x="223" y="362"/>
                        <a:pt x="213" y="355"/>
                      </a:cubicBezTo>
                      <a:cubicBezTo>
                        <a:pt x="209" y="352"/>
                        <a:pt x="201" y="347"/>
                        <a:pt x="201" y="347"/>
                      </a:cubicBezTo>
                      <a:cubicBezTo>
                        <a:pt x="196" y="340"/>
                        <a:pt x="197" y="336"/>
                        <a:pt x="189" y="333"/>
                      </a:cubicBezTo>
                      <a:cubicBezTo>
                        <a:pt x="183" y="327"/>
                        <a:pt x="181" y="321"/>
                        <a:pt x="175" y="315"/>
                      </a:cubicBezTo>
                      <a:cubicBezTo>
                        <a:pt x="170" y="299"/>
                        <a:pt x="164" y="292"/>
                        <a:pt x="153" y="281"/>
                      </a:cubicBezTo>
                      <a:cubicBezTo>
                        <a:pt x="149" y="270"/>
                        <a:pt x="140" y="255"/>
                        <a:pt x="133" y="245"/>
                      </a:cubicBezTo>
                      <a:cubicBezTo>
                        <a:pt x="131" y="231"/>
                        <a:pt x="121" y="222"/>
                        <a:pt x="117" y="209"/>
                      </a:cubicBezTo>
                      <a:cubicBezTo>
                        <a:pt x="121" y="198"/>
                        <a:pt x="129" y="205"/>
                        <a:pt x="119" y="195"/>
                      </a:cubicBezTo>
                      <a:cubicBezTo>
                        <a:pt x="100" y="200"/>
                        <a:pt x="101" y="179"/>
                        <a:pt x="93" y="167"/>
                      </a:cubicBezTo>
                      <a:cubicBezTo>
                        <a:pt x="89" y="162"/>
                        <a:pt x="85" y="149"/>
                        <a:pt x="85" y="149"/>
                      </a:cubicBezTo>
                      <a:cubicBezTo>
                        <a:pt x="84" y="140"/>
                        <a:pt x="80" y="124"/>
                        <a:pt x="73" y="117"/>
                      </a:cubicBezTo>
                      <a:cubicBezTo>
                        <a:pt x="68" y="112"/>
                        <a:pt x="55" y="107"/>
                        <a:pt x="55" y="107"/>
                      </a:cubicBezTo>
                      <a:cubicBezTo>
                        <a:pt x="48" y="97"/>
                        <a:pt x="51" y="85"/>
                        <a:pt x="41" y="79"/>
                      </a:cubicBezTo>
                      <a:cubicBezTo>
                        <a:pt x="40" y="77"/>
                        <a:pt x="29" y="57"/>
                        <a:pt x="29" y="55"/>
                      </a:cubicBezTo>
                      <a:cubicBezTo>
                        <a:pt x="29" y="54"/>
                        <a:pt x="32" y="55"/>
                        <a:pt x="33" y="55"/>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8" name="Freeform 198"/>
                <p:cNvSpPr/>
                <p:nvPr/>
              </p:nvSpPr>
              <p:spPr>
                <a:xfrm>
                  <a:off x="2728080" y="4265280"/>
                  <a:ext cx="28800" cy="40680"/>
                </a:xfrm>
                <a:custGeom>
                  <a:avLst/>
                  <a:gdLst/>
                  <a:ahLst/>
                  <a:rect l="l" t="t" r="r" b="b"/>
                  <a:pathLst>
                    <a:path w="31" h="33">
                      <a:moveTo>
                        <a:pt x="18" y="21"/>
                      </a:moveTo>
                      <a:cubicBezTo>
                        <a:pt x="8" y="18"/>
                        <a:pt x="3" y="13"/>
                        <a:pt x="0" y="3"/>
                      </a:cubicBezTo>
                      <a:cubicBezTo>
                        <a:pt x="8" y="0"/>
                        <a:pt x="14" y="2"/>
                        <a:pt x="22" y="5"/>
                      </a:cubicBezTo>
                      <a:cubicBezTo>
                        <a:pt x="31" y="33"/>
                        <a:pt x="2" y="16"/>
                        <a:pt x="18" y="21"/>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79" name="Freeform 199"/>
                <p:cNvSpPr/>
                <p:nvPr/>
              </p:nvSpPr>
              <p:spPr>
                <a:xfrm>
                  <a:off x="2763720" y="4327920"/>
                  <a:ext cx="28080" cy="40320"/>
                </a:xfrm>
                <a:custGeom>
                  <a:avLst/>
                  <a:gdLst/>
                  <a:ahLst/>
                  <a:rect l="l" t="t" r="r" b="b"/>
                  <a:pathLst>
                    <a:path w="28" h="34">
                      <a:moveTo>
                        <a:pt x="16" y="28"/>
                      </a:moveTo>
                      <a:cubicBezTo>
                        <a:pt x="11" y="21"/>
                        <a:pt x="7" y="17"/>
                        <a:pt x="0" y="12"/>
                      </a:cubicBezTo>
                      <a:cubicBezTo>
                        <a:pt x="3" y="2"/>
                        <a:pt x="5" y="0"/>
                        <a:pt x="14" y="6"/>
                      </a:cubicBezTo>
                      <a:cubicBezTo>
                        <a:pt x="20" y="14"/>
                        <a:pt x="25" y="21"/>
                        <a:pt x="28" y="30"/>
                      </a:cubicBezTo>
                      <a:cubicBezTo>
                        <a:pt x="15" y="34"/>
                        <a:pt x="22" y="22"/>
                        <a:pt x="16" y="28"/>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80" name="Freeform 200"/>
                <p:cNvSpPr/>
                <p:nvPr/>
              </p:nvSpPr>
              <p:spPr>
                <a:xfrm>
                  <a:off x="2789280" y="4424040"/>
                  <a:ext cx="29160" cy="31320"/>
                </a:xfrm>
                <a:custGeom>
                  <a:avLst/>
                  <a:gdLst/>
                  <a:ahLst/>
                  <a:rect l="l" t="t" r="r" b="b"/>
                  <a:pathLst>
                    <a:path w="28" h="23">
                      <a:moveTo>
                        <a:pt x="14" y="20"/>
                      </a:moveTo>
                      <a:cubicBezTo>
                        <a:pt x="8" y="11"/>
                        <a:pt x="0" y="5"/>
                        <a:pt x="14" y="0"/>
                      </a:cubicBezTo>
                      <a:cubicBezTo>
                        <a:pt x="20" y="2"/>
                        <a:pt x="28" y="14"/>
                        <a:pt x="28" y="14"/>
                      </a:cubicBezTo>
                      <a:cubicBezTo>
                        <a:pt x="27" y="17"/>
                        <a:pt x="28" y="21"/>
                        <a:pt x="26" y="22"/>
                      </a:cubicBezTo>
                      <a:cubicBezTo>
                        <a:pt x="24" y="23"/>
                        <a:pt x="8" y="14"/>
                        <a:pt x="14" y="20"/>
                      </a:cubicBezTo>
                      <a:close/>
                    </a:path>
                  </a:pathLst>
                </a:custGeom>
                <a:solidFill>
                  <a:srgbClr val="ce00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Black"/>
                  </a:endParaRPr>
                </a:p>
              </p:txBody>
            </p:sp>
            <p:sp>
              <p:nvSpPr>
                <p:cNvPr id="281" name="Freeform 201"/>
                <p:cNvSpPr/>
                <p:nvPr/>
              </p:nvSpPr>
              <p:spPr>
                <a:xfrm>
                  <a:off x="3083040" y="3810240"/>
                  <a:ext cx="72360" cy="70920"/>
                </a:xfrm>
                <a:custGeom>
                  <a:avLst/>
                  <a:gdLst/>
                  <a:ahLst/>
                  <a:rect l="l" t="t" r="r" b="b"/>
                  <a:pathLst>
                    <a:path w="77" h="60">
                      <a:moveTo>
                        <a:pt x="14" y="54"/>
                      </a:moveTo>
                      <a:cubicBezTo>
                        <a:pt x="4" y="52"/>
                        <a:pt x="3" y="49"/>
                        <a:pt x="0" y="40"/>
                      </a:cubicBezTo>
                      <a:cubicBezTo>
                        <a:pt x="2" y="25"/>
                        <a:pt x="5" y="15"/>
                        <a:pt x="20" y="10"/>
                      </a:cubicBezTo>
                      <a:cubicBezTo>
                        <a:pt x="23" y="6"/>
                        <a:pt x="24" y="1"/>
                        <a:pt x="30" y="2"/>
                      </a:cubicBezTo>
                      <a:cubicBezTo>
                        <a:pt x="34" y="2"/>
                        <a:pt x="42" y="6"/>
                        <a:pt x="42" y="6"/>
                      </a:cubicBezTo>
                      <a:cubicBezTo>
                        <a:pt x="49" y="4"/>
                        <a:pt x="55" y="0"/>
                        <a:pt x="62" y="4"/>
                      </a:cubicBezTo>
                      <a:cubicBezTo>
                        <a:pt x="66" y="6"/>
                        <a:pt x="74" y="12"/>
                        <a:pt x="74" y="12"/>
                      </a:cubicBezTo>
                      <a:cubicBezTo>
                        <a:pt x="77" y="22"/>
                        <a:pt x="75" y="25"/>
                        <a:pt x="68" y="32"/>
                      </a:cubicBezTo>
                      <a:cubicBezTo>
                        <a:pt x="56" y="28"/>
                        <a:pt x="54" y="36"/>
                        <a:pt x="46" y="44"/>
                      </a:cubicBezTo>
                      <a:cubicBezTo>
                        <a:pt x="45" y="47"/>
                        <a:pt x="43" y="54"/>
                        <a:pt x="40" y="56"/>
                      </a:cubicBezTo>
                      <a:cubicBezTo>
                        <a:pt x="36" y="58"/>
                        <a:pt x="28" y="60"/>
                        <a:pt x="28" y="60"/>
                      </a:cubicBezTo>
                      <a:cubicBezTo>
                        <a:pt x="23" y="59"/>
                        <a:pt x="9" y="54"/>
                        <a:pt x="14" y="54"/>
                      </a:cubicBezTo>
                      <a:close/>
                    </a:path>
                  </a:pathLst>
                </a:custGeom>
                <a:solidFill>
                  <a:srgbClr val="ce000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Black"/>
                  </a:endParaRPr>
                </a:p>
              </p:txBody>
            </p:sp>
            <p:sp>
              <p:nvSpPr>
                <p:cNvPr id="282" name="Freeform 202"/>
                <p:cNvSpPr/>
                <p:nvPr/>
              </p:nvSpPr>
              <p:spPr>
                <a:xfrm>
                  <a:off x="3385800" y="3683880"/>
                  <a:ext cx="54720" cy="121680"/>
                </a:xfrm>
                <a:custGeom>
                  <a:avLst/>
                  <a:gdLst/>
                  <a:ahLst/>
                  <a:rect l="l" t="t" r="r" b="b"/>
                  <a:pathLst>
                    <a:path w="59" h="102">
                      <a:moveTo>
                        <a:pt x="35" y="60"/>
                      </a:moveTo>
                      <a:cubicBezTo>
                        <a:pt x="32" y="68"/>
                        <a:pt x="34" y="71"/>
                        <a:pt x="39" y="78"/>
                      </a:cubicBezTo>
                      <a:cubicBezTo>
                        <a:pt x="38" y="80"/>
                        <a:pt x="38" y="82"/>
                        <a:pt x="37" y="84"/>
                      </a:cubicBezTo>
                      <a:cubicBezTo>
                        <a:pt x="36" y="86"/>
                        <a:pt x="34" y="88"/>
                        <a:pt x="33" y="90"/>
                      </a:cubicBezTo>
                      <a:cubicBezTo>
                        <a:pt x="31" y="94"/>
                        <a:pt x="29" y="102"/>
                        <a:pt x="29" y="102"/>
                      </a:cubicBezTo>
                      <a:cubicBezTo>
                        <a:pt x="7" y="98"/>
                        <a:pt x="18" y="88"/>
                        <a:pt x="3" y="78"/>
                      </a:cubicBezTo>
                      <a:cubicBezTo>
                        <a:pt x="0" y="70"/>
                        <a:pt x="0" y="67"/>
                        <a:pt x="9" y="64"/>
                      </a:cubicBezTo>
                      <a:cubicBezTo>
                        <a:pt x="15" y="56"/>
                        <a:pt x="12" y="54"/>
                        <a:pt x="7" y="46"/>
                      </a:cubicBezTo>
                      <a:cubicBezTo>
                        <a:pt x="10" y="33"/>
                        <a:pt x="11" y="37"/>
                        <a:pt x="21" y="30"/>
                      </a:cubicBezTo>
                      <a:cubicBezTo>
                        <a:pt x="28" y="19"/>
                        <a:pt x="36" y="10"/>
                        <a:pt x="43" y="0"/>
                      </a:cubicBezTo>
                      <a:cubicBezTo>
                        <a:pt x="52" y="3"/>
                        <a:pt x="52" y="6"/>
                        <a:pt x="49" y="14"/>
                      </a:cubicBezTo>
                      <a:cubicBezTo>
                        <a:pt x="59" y="17"/>
                        <a:pt x="53" y="25"/>
                        <a:pt x="51" y="34"/>
                      </a:cubicBezTo>
                      <a:cubicBezTo>
                        <a:pt x="54" y="46"/>
                        <a:pt x="49" y="59"/>
                        <a:pt x="39" y="66"/>
                      </a:cubicBezTo>
                      <a:cubicBezTo>
                        <a:pt x="32" y="61"/>
                        <a:pt x="31" y="64"/>
                        <a:pt x="35"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83" name="Freeform 203"/>
                <p:cNvSpPr/>
                <p:nvPr/>
              </p:nvSpPr>
              <p:spPr>
                <a:xfrm>
                  <a:off x="3581280" y="3656160"/>
                  <a:ext cx="32760" cy="34920"/>
                </a:xfrm>
                <a:custGeom>
                  <a:avLst/>
                  <a:gdLst/>
                  <a:ahLst/>
                  <a:rect l="l" t="t" r="r" b="b"/>
                  <a:pathLst>
                    <a:path w="35" h="32">
                      <a:moveTo>
                        <a:pt x="4" y="22"/>
                      </a:moveTo>
                      <a:cubicBezTo>
                        <a:pt x="6" y="13"/>
                        <a:pt x="13" y="5"/>
                        <a:pt x="20" y="0"/>
                      </a:cubicBezTo>
                      <a:cubicBezTo>
                        <a:pt x="35" y="5"/>
                        <a:pt x="19" y="17"/>
                        <a:pt x="12" y="22"/>
                      </a:cubicBezTo>
                      <a:cubicBezTo>
                        <a:pt x="9" y="32"/>
                        <a:pt x="0" y="31"/>
                        <a:pt x="4" y="22"/>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84" name="Freeform 204"/>
                <p:cNvSpPr/>
                <p:nvPr/>
              </p:nvSpPr>
              <p:spPr>
                <a:xfrm>
                  <a:off x="3626640" y="3598560"/>
                  <a:ext cx="28800" cy="20160"/>
                </a:xfrm>
                <a:custGeom>
                  <a:avLst/>
                  <a:gdLst/>
                  <a:ahLst/>
                  <a:rect l="l" t="t" r="r" b="b"/>
                  <a:pathLst>
                    <a:path w="30" h="16">
                      <a:moveTo>
                        <a:pt x="4" y="12"/>
                      </a:moveTo>
                      <a:cubicBezTo>
                        <a:pt x="1" y="3"/>
                        <a:pt x="6" y="3"/>
                        <a:pt x="14" y="0"/>
                      </a:cubicBezTo>
                      <a:cubicBezTo>
                        <a:pt x="30" y="5"/>
                        <a:pt x="14" y="12"/>
                        <a:pt x="6" y="14"/>
                      </a:cubicBezTo>
                      <a:cubicBezTo>
                        <a:pt x="4" y="14"/>
                        <a:pt x="2" y="15"/>
                        <a:pt x="0" y="16"/>
                      </a:cubicBezTo>
                      <a:cubicBezTo>
                        <a:pt x="2" y="9"/>
                        <a:pt x="1" y="9"/>
                        <a:pt x="4" y="12"/>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grpSp>
        </p:grpSp>
      </p:grpSp>
      <p:sp>
        <p:nvSpPr>
          <p:cNvPr id="28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6"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8AC8-1338-4AFE-B18F-B4CA520305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WordArt 17"/>
          <p:cNvSpPr txBox="1"/>
          <p:nvPr/>
        </p:nvSpPr>
        <p:spPr>
          <a:xfrm>
            <a:off x="649440" y="476280"/>
            <a:ext cx="7532640" cy="76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b050"/>
                </a:solidFill>
                <a:latin typeface="HGP創英角ｺﾞｼｯｸUB"/>
              </a:rPr>
              <a:t>「出前いきいきヘルス体操」事業</a:t>
            </a:r>
            <a:endParaRPr b="0" lang="en-US" sz="1800" spc="1" strike="noStrike">
              <a:ln w="9360">
                <a:solidFill>
                  <a:srgbClr val="000000"/>
                </a:solidFill>
                <a:miter/>
              </a:ln>
              <a:solidFill>
                <a:srgbClr val="00b050"/>
              </a:solidFill>
              <a:latin typeface="HGP創英角ｺﾞｼｯｸUB"/>
              <a:ea typeface="HGP創英角ｺﾞｼｯｸUB"/>
            </a:endParaRPr>
          </a:p>
        </p:txBody>
      </p:sp>
      <p:sp>
        <p:nvSpPr>
          <p:cNvPr id="327" name="テキスト ボックス 1"/>
          <p:cNvSpPr/>
          <p:nvPr/>
        </p:nvSpPr>
        <p:spPr>
          <a:xfrm>
            <a:off x="2633760" y="2924280"/>
            <a:ext cx="3959280" cy="581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9933"/>
                </a:solidFill>
                <a:latin typeface="Calibri"/>
              </a:rPr>
              <a:t>介　護　予　防</a:t>
            </a:r>
            <a:endParaRPr b="0" lang="en-US" sz="3200" spc="-1" strike="noStrike">
              <a:solidFill>
                <a:srgbClr val="000000"/>
              </a:solidFill>
              <a:latin typeface="Arial Black"/>
            </a:endParaRPr>
          </a:p>
        </p:txBody>
      </p:sp>
      <p:sp>
        <p:nvSpPr>
          <p:cNvPr id="328" name="テキスト ボックス 4"/>
          <p:cNvSpPr/>
          <p:nvPr/>
        </p:nvSpPr>
        <p:spPr>
          <a:xfrm>
            <a:off x="2003400" y="1557360"/>
            <a:ext cx="48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Black"/>
              </a:rPr>
              <a:t>事業開始　平成２５年４月予定</a:t>
            </a:r>
            <a:endParaRPr b="0" lang="en-US" sz="2400" spc="-1" strike="noStrike">
              <a:solidFill>
                <a:srgbClr val="000000"/>
              </a:solidFill>
              <a:latin typeface="Arial Black"/>
            </a:endParaRPr>
          </a:p>
        </p:txBody>
      </p:sp>
      <p:sp>
        <p:nvSpPr>
          <p:cNvPr id="329" name="テキスト ボックス 11"/>
          <p:cNvSpPr/>
          <p:nvPr/>
        </p:nvSpPr>
        <p:spPr>
          <a:xfrm>
            <a:off x="1433520" y="2133720"/>
            <a:ext cx="5951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守谷市シルバーリハビリ体操指導士会</a:t>
            </a:r>
            <a:endParaRPr b="0" lang="en-US" sz="2400" spc="-1" strike="noStrike">
              <a:solidFill>
                <a:srgbClr val="000000"/>
              </a:solidFill>
              <a:latin typeface="Arial Black"/>
            </a:endParaRPr>
          </a:p>
        </p:txBody>
      </p:sp>
      <p:sp>
        <p:nvSpPr>
          <p:cNvPr id="330" name="テキスト ボックス 12"/>
          <p:cNvSpPr/>
          <p:nvPr/>
        </p:nvSpPr>
        <p:spPr>
          <a:xfrm>
            <a:off x="1228680" y="3691080"/>
            <a:ext cx="67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１．できるだけ介護を受ける状態にならないこと</a:t>
            </a:r>
            <a:endParaRPr b="0" lang="en-US" sz="2400" spc="-1" strike="noStrike">
              <a:solidFill>
                <a:srgbClr val="000000"/>
              </a:solidFill>
              <a:latin typeface="Arial Black"/>
            </a:endParaRPr>
          </a:p>
        </p:txBody>
      </p:sp>
      <p:sp>
        <p:nvSpPr>
          <p:cNvPr id="331" name="テキスト ボックス 13"/>
          <p:cNvSpPr/>
          <p:nvPr/>
        </p:nvSpPr>
        <p:spPr>
          <a:xfrm>
            <a:off x="1128600" y="4292640"/>
            <a:ext cx="676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２．たとえ介護を受けるようになっても、最期まで</a:t>
            </a:r>
            <a:endParaRPr b="0" lang="en-US" sz="24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　　介護をするのが困難な状態にならないこと。</a:t>
            </a:r>
            <a:endParaRPr b="0" lang="en-US" sz="2400" spc="-1" strike="noStrike">
              <a:solidFill>
                <a:srgbClr val="000000"/>
              </a:solidFill>
              <a:latin typeface="Arial Black"/>
            </a:endParaRPr>
          </a:p>
        </p:txBody>
      </p:sp>
      <p:sp>
        <p:nvSpPr>
          <p:cNvPr id="332" name="テキスト ボックス 14"/>
          <p:cNvSpPr/>
          <p:nvPr/>
        </p:nvSpPr>
        <p:spPr>
          <a:xfrm>
            <a:off x="1943280" y="5221440"/>
            <a:ext cx="48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Black"/>
              </a:rPr>
              <a:t>そのためには</a:t>
            </a:r>
            <a:endParaRPr b="0" lang="en-US" sz="2400" spc="-1" strike="noStrike">
              <a:solidFill>
                <a:srgbClr val="000000"/>
              </a:solidFill>
              <a:latin typeface="Arial Black"/>
            </a:endParaRPr>
          </a:p>
        </p:txBody>
      </p:sp>
      <p:sp>
        <p:nvSpPr>
          <p:cNvPr id="333" name="テキスト ボックス 15"/>
          <p:cNvSpPr/>
          <p:nvPr/>
        </p:nvSpPr>
        <p:spPr>
          <a:xfrm>
            <a:off x="1230480" y="5691240"/>
            <a:ext cx="67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個人の努力、</a:t>
            </a:r>
            <a:r>
              <a:rPr b="0" lang="ja-JP" sz="2400" spc="-1" strike="noStrike">
                <a:solidFill>
                  <a:srgbClr val="7030a0"/>
                </a:solidFill>
                <a:latin typeface="Arial Black"/>
              </a:rPr>
              <a:t>介護の力、</a:t>
            </a:r>
            <a:r>
              <a:rPr b="0" lang="ja-JP" sz="2400" spc="-1" strike="noStrike">
                <a:solidFill>
                  <a:srgbClr val="ffc000"/>
                </a:solidFill>
                <a:latin typeface="Arial Black"/>
              </a:rPr>
              <a:t>社会の理解・支援</a:t>
            </a:r>
            <a:r>
              <a:rPr b="0" lang="ja-JP" sz="2400" spc="-1" strike="noStrike">
                <a:solidFill>
                  <a:srgbClr val="c00000"/>
                </a:solidFill>
                <a:latin typeface="Arial Black"/>
              </a:rPr>
              <a:t>が必要</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01240" y="404640"/>
            <a:ext cx="842652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0000"/>
                </a:solidFill>
                <a:latin typeface="Calibri"/>
              </a:rPr>
              <a:t>　安全で効果的な実指導のために</a:t>
            </a:r>
            <a:endParaRPr b="0" lang="en-US" sz="4000" spc="-1" strike="noStrike">
              <a:solidFill>
                <a:srgbClr val="000000"/>
              </a:solidFill>
              <a:latin typeface="Calibri"/>
            </a:endParaRPr>
          </a:p>
        </p:txBody>
      </p:sp>
      <p:sp>
        <p:nvSpPr>
          <p:cNvPr id="445" name="正方形/長方形 5"/>
          <p:cNvSpPr/>
          <p:nvPr/>
        </p:nvSpPr>
        <p:spPr>
          <a:xfrm>
            <a:off x="684360" y="1413000"/>
            <a:ext cx="136656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実行委員会</a:t>
            </a:r>
            <a:endParaRPr b="0" lang="en-US" sz="1600" spc="-1" strike="noStrike">
              <a:solidFill>
                <a:srgbClr val="000000"/>
              </a:solidFill>
              <a:latin typeface="Arial Black"/>
            </a:endParaRPr>
          </a:p>
        </p:txBody>
      </p:sp>
      <p:sp>
        <p:nvSpPr>
          <p:cNvPr id="446" name="正方形/長方形 7"/>
          <p:cNvSpPr/>
          <p:nvPr/>
        </p:nvSpPr>
        <p:spPr>
          <a:xfrm>
            <a:off x="706320" y="3008160"/>
            <a:ext cx="185760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実施体操の選択</a:t>
            </a:r>
            <a:endParaRPr b="0" lang="en-US" sz="1600" spc="-1" strike="noStrike">
              <a:solidFill>
                <a:srgbClr val="000000"/>
              </a:solidFill>
              <a:latin typeface="Arial Black"/>
            </a:endParaRPr>
          </a:p>
        </p:txBody>
      </p:sp>
      <p:sp>
        <p:nvSpPr>
          <p:cNvPr id="447" name="正方形/長方形 8"/>
          <p:cNvSpPr/>
          <p:nvPr/>
        </p:nvSpPr>
        <p:spPr>
          <a:xfrm>
            <a:off x="2771640" y="1428840"/>
            <a:ext cx="201636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個別指導の利点</a:t>
            </a:r>
            <a:endParaRPr b="0" lang="en-US" sz="1600" spc="-1" strike="noStrike">
              <a:solidFill>
                <a:srgbClr val="000000"/>
              </a:solidFill>
              <a:latin typeface="Arial Black"/>
            </a:endParaRPr>
          </a:p>
        </p:txBody>
      </p:sp>
      <p:sp>
        <p:nvSpPr>
          <p:cNvPr id="448" name="正方形/長方形 9"/>
          <p:cNvSpPr/>
          <p:nvPr/>
        </p:nvSpPr>
        <p:spPr>
          <a:xfrm>
            <a:off x="657360" y="5295960"/>
            <a:ext cx="158436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募集要項作成</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チラシ等</a:t>
            </a:r>
            <a:endParaRPr b="0" lang="en-US" sz="1400" spc="-1" strike="noStrike">
              <a:solidFill>
                <a:srgbClr val="000000"/>
              </a:solidFill>
              <a:latin typeface="Arial Black"/>
            </a:endParaRPr>
          </a:p>
        </p:txBody>
      </p:sp>
      <p:sp>
        <p:nvSpPr>
          <p:cNvPr id="449" name="テキスト ボックス 10"/>
          <p:cNvSpPr/>
          <p:nvPr/>
        </p:nvSpPr>
        <p:spPr>
          <a:xfrm>
            <a:off x="3591000" y="2122560"/>
            <a:ext cx="2649600" cy="1191240"/>
          </a:xfrm>
          <a:prstGeom prst="rect">
            <a:avLst/>
          </a:prstGeom>
          <a:solidFill>
            <a:srgbClr val="c3d69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１．プライバシーに富んだ指導が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２．個別的・特殊的ニーズの指導が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３．指導者の注目・関心を独占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４．指導者との人間関係が深まる</a:t>
            </a:r>
            <a:endParaRPr b="0" lang="en-US" sz="1800" spc="-1" strike="noStrike">
              <a:solidFill>
                <a:srgbClr val="000000"/>
              </a:solidFill>
              <a:latin typeface="Arial Black"/>
            </a:endParaRPr>
          </a:p>
        </p:txBody>
      </p:sp>
      <p:sp>
        <p:nvSpPr>
          <p:cNvPr id="450" name="正方形/長方形 11"/>
          <p:cNvSpPr/>
          <p:nvPr/>
        </p:nvSpPr>
        <p:spPr>
          <a:xfrm>
            <a:off x="684360" y="6053040"/>
            <a:ext cx="158400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各団体・組織　　　との連携</a:t>
            </a:r>
            <a:endParaRPr b="0" lang="en-US" sz="1400" spc="-1" strike="noStrike">
              <a:solidFill>
                <a:srgbClr val="000000"/>
              </a:solidFill>
              <a:latin typeface="Arial Black"/>
            </a:endParaRPr>
          </a:p>
        </p:txBody>
      </p:sp>
      <p:sp>
        <p:nvSpPr>
          <p:cNvPr id="451" name="円/楕円 12"/>
          <p:cNvSpPr/>
          <p:nvPr/>
        </p:nvSpPr>
        <p:spPr>
          <a:xfrm>
            <a:off x="3203640" y="3560760"/>
            <a:ext cx="1251000" cy="1216080"/>
          </a:xfrm>
          <a:prstGeom prst="ellipse">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Calibri"/>
              </a:rPr>
              <a:t>実指導</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452" name="円/楕円 16"/>
          <p:cNvSpPr/>
          <p:nvPr/>
        </p:nvSpPr>
        <p:spPr>
          <a:xfrm>
            <a:off x="2771640" y="4365720"/>
            <a:ext cx="1293840" cy="1182600"/>
          </a:xfrm>
          <a:prstGeom prst="ellipse">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2060"/>
                </a:solidFill>
                <a:latin typeface="Calibri"/>
              </a:rPr>
              <a:t>心</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2060"/>
                </a:solidFill>
                <a:latin typeface="Calibri"/>
              </a:rPr>
              <a:t>（気配り）</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53" name="円/楕円 17"/>
          <p:cNvSpPr/>
          <p:nvPr/>
        </p:nvSpPr>
        <p:spPr>
          <a:xfrm>
            <a:off x="3740040" y="4343400"/>
            <a:ext cx="1349640" cy="1204920"/>
          </a:xfrm>
          <a:prstGeom prst="ellips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Calibri"/>
              </a:rPr>
              <a:t>安全</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454" name="テキスト ボックス 24"/>
          <p:cNvSpPr/>
          <p:nvPr/>
        </p:nvSpPr>
        <p:spPr>
          <a:xfrm>
            <a:off x="5292720" y="3429000"/>
            <a:ext cx="360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高齢者のからだの特徴を理解して</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常に「実指導」「心」「安全」について配慮して、活動を進めることが大切です</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55" name="正方形/長方形 25"/>
          <p:cNvSpPr/>
          <p:nvPr/>
        </p:nvSpPr>
        <p:spPr>
          <a:xfrm>
            <a:off x="3117960" y="5746680"/>
            <a:ext cx="189684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活動時の留意点</a:t>
            </a:r>
            <a:endParaRPr b="0" lang="en-US" sz="1800" spc="-1" strike="noStrike">
              <a:solidFill>
                <a:srgbClr val="000000"/>
              </a:solidFill>
              <a:latin typeface="Arial Black"/>
            </a:endParaRPr>
          </a:p>
        </p:txBody>
      </p:sp>
      <p:sp>
        <p:nvSpPr>
          <p:cNvPr id="456" name="正方形/長方形 26"/>
          <p:cNvSpPr/>
          <p:nvPr/>
        </p:nvSpPr>
        <p:spPr>
          <a:xfrm>
            <a:off x="5465880" y="1414440"/>
            <a:ext cx="227484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指導士のマナー研修</a:t>
            </a:r>
            <a:endParaRPr b="0" lang="en-US" sz="1600" spc="-1" strike="noStrike">
              <a:solidFill>
                <a:srgbClr val="000000"/>
              </a:solidFill>
              <a:latin typeface="Arial Black"/>
            </a:endParaRPr>
          </a:p>
        </p:txBody>
      </p:sp>
      <p:sp>
        <p:nvSpPr>
          <p:cNvPr id="457" name="正方形/長方形 27"/>
          <p:cNvSpPr/>
          <p:nvPr/>
        </p:nvSpPr>
        <p:spPr>
          <a:xfrm>
            <a:off x="619200" y="2217600"/>
            <a:ext cx="1584360" cy="505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実施グループ　　の組織化</a:t>
            </a:r>
            <a:endParaRPr b="0" lang="en-US" sz="1400" spc="-1" strike="noStrike">
              <a:solidFill>
                <a:srgbClr val="000000"/>
              </a:solidFill>
              <a:latin typeface="Arial Black"/>
            </a:endParaRPr>
          </a:p>
        </p:txBody>
      </p:sp>
      <p:sp>
        <p:nvSpPr>
          <p:cNvPr id="458" name="正方形/長方形 28"/>
          <p:cNvSpPr/>
          <p:nvPr/>
        </p:nvSpPr>
        <p:spPr>
          <a:xfrm>
            <a:off x="657360" y="3805200"/>
            <a:ext cx="194472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実指導プログラム　　　の作成・研修</a:t>
            </a:r>
            <a:endParaRPr b="0" lang="en-US" sz="1400" spc="-1" strike="noStrike">
              <a:solidFill>
                <a:srgbClr val="000000"/>
              </a:solidFill>
              <a:latin typeface="Arial Black"/>
            </a:endParaRPr>
          </a:p>
        </p:txBody>
      </p:sp>
      <p:sp>
        <p:nvSpPr>
          <p:cNvPr id="459" name="正方形/長方形 29"/>
          <p:cNvSpPr/>
          <p:nvPr/>
        </p:nvSpPr>
        <p:spPr>
          <a:xfrm>
            <a:off x="619200" y="4584600"/>
            <a:ext cx="1944720" cy="505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担当指導士の養成</a:t>
            </a:r>
            <a:endParaRPr b="0" lang="en-US" sz="1400" spc="-1" strike="noStrike">
              <a:solidFill>
                <a:srgbClr val="000000"/>
              </a:solidFill>
              <a:latin typeface="Arial Black"/>
            </a:endParaRPr>
          </a:p>
        </p:txBody>
      </p:sp>
      <p:sp>
        <p:nvSpPr>
          <p:cNvPr id="460" name="右矢印 33"/>
          <p:cNvSpPr/>
          <p:nvPr/>
        </p:nvSpPr>
        <p:spPr>
          <a:xfrm>
            <a:off x="2050920" y="1681200"/>
            <a:ext cx="720720" cy="46080"/>
          </a:xfrm>
          <a:prstGeom prst="rightArrow">
            <a:avLst>
              <a:gd name="adj1" fmla="val 50000"/>
              <a:gd name="adj2" fmla="val 4996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1" name="右矢印 34"/>
          <p:cNvSpPr/>
          <p:nvPr/>
        </p:nvSpPr>
        <p:spPr>
          <a:xfrm>
            <a:off x="4792680" y="1681200"/>
            <a:ext cx="673200" cy="46080"/>
          </a:xfrm>
          <a:prstGeom prst="rightArrow">
            <a:avLst>
              <a:gd name="adj1" fmla="val 50000"/>
              <a:gd name="adj2" fmla="val 4998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2" name="下矢印 35"/>
          <p:cNvSpPr/>
          <p:nvPr/>
        </p:nvSpPr>
        <p:spPr>
          <a:xfrm>
            <a:off x="1368360" y="1916280"/>
            <a:ext cx="44640" cy="301320"/>
          </a:xfrm>
          <a:prstGeom prst="downArrow">
            <a:avLst>
              <a:gd name="adj1" fmla="val 50000"/>
              <a:gd name="adj2" fmla="val 497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3" name="下矢印 36"/>
          <p:cNvSpPr/>
          <p:nvPr/>
        </p:nvSpPr>
        <p:spPr>
          <a:xfrm>
            <a:off x="1401840" y="3511440"/>
            <a:ext cx="46080" cy="274680"/>
          </a:xfrm>
          <a:prstGeom prst="downArrow">
            <a:avLst>
              <a:gd name="adj1" fmla="val 50000"/>
              <a:gd name="adj2" fmla="val 499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4" name="下矢印 37"/>
          <p:cNvSpPr/>
          <p:nvPr/>
        </p:nvSpPr>
        <p:spPr>
          <a:xfrm>
            <a:off x="1427040" y="4280040"/>
            <a:ext cx="46080" cy="290520"/>
          </a:xfrm>
          <a:prstGeom prst="down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5" name="下矢印 38"/>
          <p:cNvSpPr/>
          <p:nvPr/>
        </p:nvSpPr>
        <p:spPr>
          <a:xfrm>
            <a:off x="1414440" y="5110200"/>
            <a:ext cx="46080" cy="185760"/>
          </a:xfrm>
          <a:prstGeom prst="downArrow">
            <a:avLst>
              <a:gd name="adj1" fmla="val 50000"/>
              <a:gd name="adj2" fmla="val 499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6" name="下矢印 40"/>
          <p:cNvSpPr/>
          <p:nvPr/>
        </p:nvSpPr>
        <p:spPr>
          <a:xfrm>
            <a:off x="1482840" y="5805360"/>
            <a:ext cx="44280" cy="247680"/>
          </a:xfrm>
          <a:prstGeom prst="downArrow">
            <a:avLst>
              <a:gd name="adj1" fmla="val 50000"/>
              <a:gd name="adj2" fmla="val 501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7" name="下矢印 41"/>
          <p:cNvSpPr/>
          <p:nvPr/>
        </p:nvSpPr>
        <p:spPr>
          <a:xfrm>
            <a:off x="1390680" y="2722680"/>
            <a:ext cx="46080" cy="28548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8" name="テキスト ボックス 1"/>
          <p:cNvSpPr/>
          <p:nvPr/>
        </p:nvSpPr>
        <p:spPr>
          <a:xfrm>
            <a:off x="5292720" y="4168800"/>
            <a:ext cx="3435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実指導</a:t>
            </a:r>
            <a:r>
              <a:rPr b="0" lang="ja-JP" sz="1400" spc="-1" strike="noStrike">
                <a:solidFill>
                  <a:srgbClr val="000000"/>
                </a:solidFill>
                <a:latin typeface="Arial"/>
              </a:rPr>
              <a:t>　</a:t>
            </a:r>
            <a:r>
              <a:rPr b="1" lang="ja-JP" sz="1400" spc="-1" strike="noStrike">
                <a:solidFill>
                  <a:srgbClr val="000000"/>
                </a:solidFill>
                <a:latin typeface="Arial"/>
              </a:rPr>
              <a:t>体操の目的や実践方法を理解していただくための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心</a:t>
            </a:r>
            <a:r>
              <a:rPr b="1" lang="ja-JP" sz="1400" spc="-1" strike="noStrike">
                <a:solidFill>
                  <a:srgbClr val="000000"/>
                </a:solidFill>
                <a:latin typeface="Arial"/>
              </a:rPr>
              <a:t>　</a:t>
            </a:r>
            <a:r>
              <a:rPr b="0" lang="ja-JP" sz="1400" spc="-1" strike="noStrike">
                <a:solidFill>
                  <a:srgbClr val="000000"/>
                </a:solidFill>
                <a:latin typeface="Arial"/>
              </a:rPr>
              <a:t>　　</a:t>
            </a:r>
            <a:r>
              <a:rPr b="1" lang="ja-JP" sz="1400" spc="-1" strike="noStrike">
                <a:solidFill>
                  <a:srgbClr val="000000"/>
                </a:solidFill>
                <a:latin typeface="Arial"/>
              </a:rPr>
              <a:t>相手の心を読みながら上手に</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気配り）</a:t>
            </a:r>
            <a:r>
              <a:rPr b="1" lang="ja-JP" sz="1400" spc="-1" strike="noStrike">
                <a:solidFill>
                  <a:srgbClr val="000000"/>
                </a:solidFill>
                <a:latin typeface="Arial"/>
              </a:rPr>
              <a:t>　コミュニケーションをとり、</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自主的に体操を続けていただくため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安全</a:t>
            </a:r>
            <a:r>
              <a:rPr b="1" lang="ja-JP" sz="1400" spc="-1" strike="noStrike">
                <a:solidFill>
                  <a:srgbClr val="000000"/>
                </a:solidFill>
                <a:latin typeface="Arial"/>
              </a:rPr>
              <a:t>　体調を整えながらけがや事故を予防し、効果的な体操を実践していただくための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0920" y="620280"/>
            <a:ext cx="7993080" cy="6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Calibri"/>
              </a:rPr>
              <a:t>　　出前いきいきヘルス体操実施方法</a:t>
            </a:r>
            <a:endParaRPr b="0" lang="en-US" sz="3600" spc="-1" strike="noStrike">
              <a:solidFill>
                <a:srgbClr val="000000"/>
              </a:solidFill>
              <a:latin typeface="Calibri"/>
            </a:endParaRPr>
          </a:p>
        </p:txBody>
      </p:sp>
      <p:sp>
        <p:nvSpPr>
          <p:cNvPr id="470" name=""/>
          <p:cNvSpPr txBox="1"/>
          <p:nvPr/>
        </p:nvSpPr>
        <p:spPr>
          <a:xfrm>
            <a:off x="468000" y="1557000"/>
            <a:ext cx="8351640" cy="4824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１．出前体操希望者と面談</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内容の説明と希望体操の聴取</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実施希望回数と実施日の打ち合わせ</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実施場所について希望聴取</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実践は１時間を目途とする（含む休憩時間１５分）</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介護予防または介護支援についての聴取</a:t>
            </a:r>
            <a:endParaRPr b="0" lang="en-US" sz="1800" spc="-1" strike="noStrike">
              <a:solidFill>
                <a:srgbClr val="000000"/>
              </a:solidFill>
              <a:latin typeface="Calibri"/>
            </a:endParaRPr>
          </a:p>
          <a:p>
            <a:pPr>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２．担当指導士の選定と希望者との面談</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各支部において出前いきいきヘルス体操の実践希望者</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実践の回数（週、月）　午前、午後の都合</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希望者の実践体操の分類とプログラムによるシュミレーション</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定期的に指導士同士の打ち合わせ、反省、提案会議を行う</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参加者を通して希望者の開拓</a:t>
            </a:r>
            <a:r>
              <a:rPr b="1" lang="ja-JP"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71" name="Picture 1" descr=""/>
          <p:cNvPicPr/>
          <p:nvPr/>
        </p:nvPicPr>
        <p:blipFill>
          <a:blip r:embed="rId1"/>
          <a:stretch/>
        </p:blipFill>
        <p:spPr>
          <a:xfrm>
            <a:off x="146160" y="115920"/>
            <a:ext cx="8964360" cy="663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テキスト ボックス 9"/>
          <p:cNvSpPr/>
          <p:nvPr/>
        </p:nvSpPr>
        <p:spPr>
          <a:xfrm>
            <a:off x="1379520" y="549360"/>
            <a:ext cx="6473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339933"/>
                </a:solidFill>
                <a:latin typeface="HG教科書体"/>
                <a:ea typeface="HG教科書体"/>
              </a:rPr>
              <a:t>集会所でヘルス体操</a:t>
            </a:r>
            <a:endParaRPr b="0" lang="en-US" sz="4800" spc="-1" strike="noStrike">
              <a:solidFill>
                <a:srgbClr val="000000"/>
              </a:solidFill>
              <a:latin typeface="Arial Black"/>
            </a:endParaRPr>
          </a:p>
        </p:txBody>
      </p:sp>
      <p:sp>
        <p:nvSpPr>
          <p:cNvPr id="335" name="テキスト ボックス 10"/>
          <p:cNvSpPr/>
          <p:nvPr/>
        </p:nvSpPr>
        <p:spPr>
          <a:xfrm>
            <a:off x="1379520" y="5877000"/>
            <a:ext cx="5951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少人数でも楽しくみんなで体操　肩痛予防</a:t>
            </a:r>
            <a:endParaRPr b="0" lang="en-US" sz="2400" spc="-1" strike="noStrike">
              <a:solidFill>
                <a:srgbClr val="000000"/>
              </a:solidFill>
              <a:latin typeface="Arial Black"/>
            </a:endParaRPr>
          </a:p>
        </p:txBody>
      </p:sp>
      <p:pic>
        <p:nvPicPr>
          <p:cNvPr id="336" name="コンテンツ プレースホルダー 4" descr=""/>
          <p:cNvPicPr/>
          <p:nvPr/>
        </p:nvPicPr>
        <p:blipFill>
          <a:blip r:embed="rId1"/>
          <a:stretch/>
        </p:blipFill>
        <p:spPr>
          <a:xfrm>
            <a:off x="1187280" y="1563840"/>
            <a:ext cx="6985080" cy="416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7" name="テキスト ボックス 9"/>
          <p:cNvSpPr/>
          <p:nvPr/>
        </p:nvSpPr>
        <p:spPr>
          <a:xfrm>
            <a:off x="755640" y="674640"/>
            <a:ext cx="777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公民館・集会所で皆さんと楽しくシルバーリハビリ体操を</a:t>
            </a:r>
            <a:endParaRPr b="0" lang="en-US" sz="2400" spc="-1" strike="noStrike">
              <a:solidFill>
                <a:srgbClr val="000000"/>
              </a:solidFill>
              <a:latin typeface="Arial Black"/>
            </a:endParaRPr>
          </a:p>
        </p:txBody>
      </p:sp>
      <p:pic>
        <p:nvPicPr>
          <p:cNvPr id="338" name="Picture 44" descr="H:\DCIM\20101008北守谷公民館体操教室\P1070633.JPG"/>
          <p:cNvPicPr/>
          <p:nvPr/>
        </p:nvPicPr>
        <p:blipFill>
          <a:blip r:embed="rId1"/>
          <a:stretch/>
        </p:blipFill>
        <p:spPr>
          <a:xfrm>
            <a:off x="4691160" y="1773360"/>
            <a:ext cx="3595680" cy="2655720"/>
          </a:xfrm>
          <a:prstGeom prst="rect">
            <a:avLst/>
          </a:prstGeom>
          <a:ln w="9360">
            <a:solidFill>
              <a:srgbClr val="c0504d"/>
            </a:solidFill>
            <a:miter/>
          </a:ln>
        </p:spPr>
      </p:pic>
      <p:pic>
        <p:nvPicPr>
          <p:cNvPr id="339" name="Picture 45" descr="H:\DCIM\20101008北守谷公民館体操教室\P1070628.JPG"/>
          <p:cNvPicPr/>
          <p:nvPr/>
        </p:nvPicPr>
        <p:blipFill>
          <a:blip r:embed="rId2"/>
          <a:stretch/>
        </p:blipFill>
        <p:spPr>
          <a:xfrm>
            <a:off x="925560" y="1773360"/>
            <a:ext cx="3271680" cy="2655720"/>
          </a:xfrm>
          <a:prstGeom prst="rect">
            <a:avLst/>
          </a:prstGeom>
          <a:ln w="9360">
            <a:solidFill>
              <a:srgbClr val="c0504d"/>
            </a:solidFill>
            <a:miter/>
          </a:ln>
        </p:spPr>
      </p:pic>
      <p:sp>
        <p:nvSpPr>
          <p:cNvPr id="340" name="テキスト ボックス 7"/>
          <p:cNvSpPr/>
          <p:nvPr/>
        </p:nvSpPr>
        <p:spPr>
          <a:xfrm>
            <a:off x="1197000" y="4676760"/>
            <a:ext cx="2790720" cy="337320"/>
          </a:xfrm>
          <a:prstGeom prst="rect">
            <a:avLst/>
          </a:prstGeom>
          <a:solidFill>
            <a:srgbClr val="ffffff"/>
          </a:solidFill>
          <a:ln w="255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畳の上でする体操</a:t>
            </a:r>
            <a:endParaRPr b="0" lang="en-US" sz="1600" spc="-1" strike="noStrike">
              <a:solidFill>
                <a:srgbClr val="000000"/>
              </a:solidFill>
              <a:latin typeface="Arial Black"/>
            </a:endParaRPr>
          </a:p>
        </p:txBody>
      </p:sp>
      <p:sp>
        <p:nvSpPr>
          <p:cNvPr id="341" name="テキスト ボックス 8"/>
          <p:cNvSpPr/>
          <p:nvPr/>
        </p:nvSpPr>
        <p:spPr>
          <a:xfrm>
            <a:off x="5094360" y="4691160"/>
            <a:ext cx="2790720" cy="337320"/>
          </a:xfrm>
          <a:prstGeom prst="rect">
            <a:avLst/>
          </a:prstGeom>
          <a:solidFill>
            <a:srgbClr val="ffffff"/>
          </a:solidFill>
          <a:ln w="255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椅子に座ってする体操</a:t>
            </a:r>
            <a:endParaRPr b="0" lang="en-US" sz="1600" spc="-1" strike="noStrike">
              <a:solidFill>
                <a:srgbClr val="000000"/>
              </a:solidFill>
              <a:latin typeface="Arial Black"/>
            </a:endParaRPr>
          </a:p>
        </p:txBody>
      </p:sp>
      <p:sp>
        <p:nvSpPr>
          <p:cNvPr id="342" name="テキスト ボックス 9"/>
          <p:cNvSpPr/>
          <p:nvPr/>
        </p:nvSpPr>
        <p:spPr>
          <a:xfrm>
            <a:off x="885960" y="1289160"/>
            <a:ext cx="777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9933"/>
                </a:solidFill>
                <a:latin typeface="Arial Black"/>
              </a:rPr>
              <a:t>○</a:t>
            </a:r>
            <a:r>
              <a:rPr b="0" lang="ja-JP" sz="1800" spc="-1" strike="noStrike">
                <a:solidFill>
                  <a:srgbClr val="339933"/>
                </a:solidFill>
                <a:latin typeface="Arial Black"/>
              </a:rPr>
              <a:t>畳（床）の上でする体操、椅子に座ってする体操</a:t>
            </a:r>
            <a:endParaRPr b="0" lang="en-US" sz="1800" spc="-1" strike="noStrike">
              <a:solidFill>
                <a:srgbClr val="000000"/>
              </a:solidFill>
              <a:latin typeface="Arial Black"/>
            </a:endParaRPr>
          </a:p>
        </p:txBody>
      </p:sp>
      <p:sp>
        <p:nvSpPr>
          <p:cNvPr id="343" name="テキスト ボックス 9"/>
          <p:cNvSpPr/>
          <p:nvPr/>
        </p:nvSpPr>
        <p:spPr>
          <a:xfrm>
            <a:off x="755640" y="5373720"/>
            <a:ext cx="777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9933"/>
                </a:solidFill>
                <a:latin typeface="Arial Black"/>
              </a:rPr>
              <a:t>いきいきヘルス体操はご近所・地域のつながり役を果たしています。</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 name="テキスト ボックス 16"/>
          <p:cNvSpPr/>
          <p:nvPr/>
        </p:nvSpPr>
        <p:spPr>
          <a:xfrm>
            <a:off x="712800" y="755640"/>
            <a:ext cx="66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Black"/>
              </a:rPr>
              <a:t>守谷市の高齢人口の実態（５０～１００歳以上）</a:t>
            </a:r>
            <a:endParaRPr b="0" lang="en-US" sz="2000" spc="-1" strike="noStrike">
              <a:solidFill>
                <a:srgbClr val="000000"/>
              </a:solidFill>
              <a:latin typeface="Arial Black"/>
            </a:endParaRPr>
          </a:p>
        </p:txBody>
      </p:sp>
      <p:sp>
        <p:nvSpPr>
          <p:cNvPr id="345" name="テキスト ボックス 17"/>
          <p:cNvSpPr/>
          <p:nvPr/>
        </p:nvSpPr>
        <p:spPr>
          <a:xfrm>
            <a:off x="1468440" y="298440"/>
            <a:ext cx="510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9933"/>
                </a:solidFill>
                <a:latin typeface="Arial Black"/>
              </a:rPr>
              <a:t>超高齢化社会</a:t>
            </a:r>
            <a:endParaRPr b="0" lang="en-US" sz="2400" spc="-1" strike="noStrike">
              <a:solidFill>
                <a:srgbClr val="000000"/>
              </a:solidFill>
              <a:latin typeface="Arial Black"/>
            </a:endParaRPr>
          </a:p>
        </p:txBody>
      </p:sp>
      <p:pic>
        <p:nvPicPr>
          <p:cNvPr id="346" name="Picture 2" descr=""/>
          <p:cNvPicPr/>
          <p:nvPr/>
        </p:nvPicPr>
        <p:blipFill>
          <a:blip r:embed="rId1"/>
          <a:srcRect l="4475" t="4255" r="1900" b="5021"/>
          <a:stretch/>
        </p:blipFill>
        <p:spPr>
          <a:xfrm>
            <a:off x="981000" y="2593800"/>
            <a:ext cx="4248360" cy="3579840"/>
          </a:xfrm>
          <a:prstGeom prst="rect">
            <a:avLst/>
          </a:prstGeom>
          <a:ln w="9360">
            <a:solidFill>
              <a:srgbClr val="000000"/>
            </a:solidFill>
            <a:miter/>
          </a:ln>
        </p:spPr>
      </p:pic>
      <p:sp>
        <p:nvSpPr>
          <p:cNvPr id="347" name="テキスト ボックス 17"/>
          <p:cNvSpPr/>
          <p:nvPr/>
        </p:nvSpPr>
        <p:spPr>
          <a:xfrm>
            <a:off x="1685880" y="5845320"/>
            <a:ext cx="5103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Black"/>
              </a:rPr>
              <a:t>守谷市統計資料より</a:t>
            </a:r>
            <a:endParaRPr b="0" lang="en-US" sz="1400" spc="-1" strike="noStrike">
              <a:solidFill>
                <a:srgbClr val="000000"/>
              </a:solidFill>
              <a:latin typeface="Arial Black"/>
            </a:endParaRPr>
          </a:p>
        </p:txBody>
      </p:sp>
      <p:sp>
        <p:nvSpPr>
          <p:cNvPr id="348" name="テキスト ボックス 16"/>
          <p:cNvSpPr/>
          <p:nvPr/>
        </p:nvSpPr>
        <p:spPr>
          <a:xfrm>
            <a:off x="5278320" y="2781360"/>
            <a:ext cx="3397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２年</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５０～１００超＝２２，８２３人</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男：１１，０６５、女：１１，７５８</a:t>
            </a:r>
            <a:endParaRPr b="0" lang="en-US" sz="1600" spc="-1" strike="noStrike">
              <a:solidFill>
                <a:srgbClr val="000000"/>
              </a:solidFill>
              <a:latin typeface="Arial Black"/>
            </a:endParaRPr>
          </a:p>
        </p:txBody>
      </p:sp>
      <p:sp>
        <p:nvSpPr>
          <p:cNvPr id="349" name="テキスト ボックス 16"/>
          <p:cNvSpPr/>
          <p:nvPr/>
        </p:nvSpPr>
        <p:spPr>
          <a:xfrm>
            <a:off x="5278320" y="3763800"/>
            <a:ext cx="3686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７年</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５０～１００超＝２６，５３４人</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２／２０１７年比　　１６％増</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全体３，７１１人増</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男：１，９１０人増、女：１，８０９人増</a:t>
            </a:r>
            <a:endParaRPr b="0" lang="en-US" sz="1600" spc="-1" strike="noStrike">
              <a:solidFill>
                <a:srgbClr val="000000"/>
              </a:solidFill>
              <a:latin typeface="Arial Black"/>
            </a:endParaRPr>
          </a:p>
        </p:txBody>
      </p:sp>
      <p:pic>
        <p:nvPicPr>
          <p:cNvPr id="350" name="Picture 2" descr=""/>
          <p:cNvPicPr/>
          <p:nvPr/>
        </p:nvPicPr>
        <p:blipFill>
          <a:blip r:embed="rId2"/>
          <a:srcRect l="3511" t="16572" r="13246" b="69604"/>
          <a:stretch/>
        </p:blipFill>
        <p:spPr>
          <a:xfrm>
            <a:off x="520560" y="1413000"/>
            <a:ext cx="7434360" cy="86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テキスト ボックス 1"/>
          <p:cNvSpPr/>
          <p:nvPr/>
        </p:nvSpPr>
        <p:spPr>
          <a:xfrm>
            <a:off x="3057480" y="6091200"/>
            <a:ext cx="5186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団塊の世代　　　（２０１２年１月１日　守谷市統計資料）</a:t>
            </a:r>
            <a:endParaRPr b="0" lang="en-US" sz="1600" spc="-1" strike="noStrike">
              <a:solidFill>
                <a:srgbClr val="000000"/>
              </a:solidFill>
              <a:latin typeface="Arial Black"/>
            </a:endParaRPr>
          </a:p>
        </p:txBody>
      </p:sp>
      <p:sp>
        <p:nvSpPr>
          <p:cNvPr id="352" name="正方形/長方形 2"/>
          <p:cNvSpPr/>
          <p:nvPr/>
        </p:nvSpPr>
        <p:spPr>
          <a:xfrm>
            <a:off x="1547640" y="6091200"/>
            <a:ext cx="1511640" cy="30816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pic>
        <p:nvPicPr>
          <p:cNvPr id="353" name="Picture 2" descr=""/>
          <p:cNvPicPr/>
          <p:nvPr/>
        </p:nvPicPr>
        <p:blipFill>
          <a:blip r:embed="rId1"/>
          <a:srcRect l="1469" t="6463" r="6609" b="10025"/>
          <a:stretch/>
        </p:blipFill>
        <p:spPr>
          <a:xfrm>
            <a:off x="755640" y="407880"/>
            <a:ext cx="7388280" cy="5529240"/>
          </a:xfrm>
          <a:prstGeom prst="rect">
            <a:avLst/>
          </a:prstGeom>
          <a:ln w="9360">
            <a:solidFill>
              <a:srgbClr val="000000"/>
            </a:solidFill>
            <a:miter/>
          </a:ln>
        </p:spPr>
      </p:pic>
      <p:sp>
        <p:nvSpPr>
          <p:cNvPr id="354" name="正方形/長方形 4"/>
          <p:cNvSpPr/>
          <p:nvPr/>
        </p:nvSpPr>
        <p:spPr>
          <a:xfrm>
            <a:off x="3203640" y="2708280"/>
            <a:ext cx="1873080" cy="30780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55" name="正方形/長方形 5"/>
          <p:cNvSpPr/>
          <p:nvPr/>
        </p:nvSpPr>
        <p:spPr>
          <a:xfrm>
            <a:off x="5049720" y="2706840"/>
            <a:ext cx="1873440" cy="30780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テキスト ボックス 9"/>
          <p:cNvSpPr/>
          <p:nvPr/>
        </p:nvSpPr>
        <p:spPr>
          <a:xfrm>
            <a:off x="971640" y="355680"/>
            <a:ext cx="6985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２０１５年　我が国の人口ピラミッド</a:t>
            </a:r>
            <a:endParaRPr b="0" lang="en-US" sz="2400" spc="-1" strike="noStrike">
              <a:solidFill>
                <a:srgbClr val="000000"/>
              </a:solidFill>
              <a:latin typeface="Arial Black"/>
            </a:endParaRPr>
          </a:p>
        </p:txBody>
      </p:sp>
      <p:pic>
        <p:nvPicPr>
          <p:cNvPr id="357" name="Picture 2" descr=""/>
          <p:cNvPicPr/>
          <p:nvPr/>
        </p:nvPicPr>
        <p:blipFill>
          <a:blip r:embed="rId1"/>
          <a:srcRect l="2092" t="6792" r="2634" b="4187"/>
          <a:stretch/>
        </p:blipFill>
        <p:spPr>
          <a:xfrm>
            <a:off x="574560" y="1179360"/>
            <a:ext cx="8185320" cy="5207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250920" y="1407960"/>
            <a:ext cx="8642160" cy="5183280"/>
          </a:xfrm>
          <a:prstGeom prst="rect">
            <a:avLst/>
          </a:prstGeom>
          <a:noFill/>
          <a:ln w="0">
            <a:noFill/>
          </a:ln>
        </p:spPr>
        <p:txBody>
          <a:bodyPr anchor="t">
            <a:normAutofit fontScale="98000"/>
          </a:bodyPr>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第一支部　</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１班　１６名　高野、乙子、けやき台</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２班　１５名　みずき野　　　　　　　　　　　　５０名　教室・サロン数１７</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３班　１９名　本町、守谷甲、松並</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ff0000"/>
                </a:solidFill>
                <a:latin typeface="Calibri"/>
              </a:rPr>
              <a:t>第二支部　</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４班　１１名　百合ヶ丘</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５班　１２名　松ヶ丘　　　　　　　　　　　　　３５名　教室・サロン数１２</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７班　１２名　御所ヶ丘　　　　　　　　　　　　（自力厚生会を含む）</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0070c0"/>
                </a:solidFill>
                <a:latin typeface="Calibri"/>
              </a:rPr>
              <a:t>第三支部　</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６班　１４名　久保ヶ丘</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８班　１５名　薬師台　　　　　　　　　　　３９名　教室・サロン数１１</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９・１０班　１０名　　　　　　　　　　　</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計１２４名　教室・サロン数４０</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ff0000"/>
                </a:solidFill>
                <a:latin typeface="Calibri"/>
              </a:rPr>
              <a:t>各支部指導士で支部内希望者に「出前体操」を行います</a:t>
            </a:r>
            <a:r>
              <a:rPr b="1" lang="ja-JP" sz="2000" spc="-1" strike="noStrike">
                <a:solidFill>
                  <a:srgbClr val="000000"/>
                </a:solidFill>
                <a:latin typeface="Calibri"/>
              </a:rPr>
              <a:t>　　　　　　　　　　　　　　　　　　　　　　　　　</a:t>
            </a:r>
            <a:endParaRPr b="0" lang="en-US" sz="2000" spc="-1" strike="noStrike">
              <a:solidFill>
                <a:srgbClr val="000000"/>
              </a:solidFill>
              <a:latin typeface="Calibri"/>
            </a:endParaRPr>
          </a:p>
        </p:txBody>
      </p:sp>
      <p:sp>
        <p:nvSpPr>
          <p:cNvPr id="359" name="右中かっこ 14"/>
          <p:cNvSpPr/>
          <p:nvPr/>
        </p:nvSpPr>
        <p:spPr>
          <a:xfrm>
            <a:off x="4732200" y="1628640"/>
            <a:ext cx="216000" cy="1079640"/>
          </a:xfrm>
          <a:custGeom>
            <a:avLst/>
            <a:gdLst>
              <a:gd name="textAreaLeft" fmla="*/ 0 w 216000"/>
              <a:gd name="textAreaRight" fmla="*/ 78120 w 216000"/>
              <a:gd name="textAreaTop" fmla="*/ 5400 h 1079640"/>
              <a:gd name="textAreaBottom" fmla="*/ 1074240 h 107964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0" name="右中かっこ 15"/>
          <p:cNvSpPr/>
          <p:nvPr/>
        </p:nvSpPr>
        <p:spPr>
          <a:xfrm>
            <a:off x="376380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1" name="右中かっこ 16"/>
          <p:cNvSpPr/>
          <p:nvPr/>
        </p:nvSpPr>
        <p:spPr>
          <a:xfrm>
            <a:off x="3763800" y="4581360"/>
            <a:ext cx="216000" cy="1079640"/>
          </a:xfrm>
          <a:custGeom>
            <a:avLst/>
            <a:gdLst>
              <a:gd name="textAreaLeft" fmla="*/ 0 w 216000"/>
              <a:gd name="textAreaRight" fmla="*/ 78120 w 216000"/>
              <a:gd name="textAreaTop" fmla="*/ 5400 h 1079640"/>
              <a:gd name="textAreaBottom" fmla="*/ 1074240 h 107964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2" name="テキスト ボックス 1"/>
          <p:cNvSpPr/>
          <p:nvPr/>
        </p:nvSpPr>
        <p:spPr>
          <a:xfrm>
            <a:off x="611280" y="900000"/>
            <a:ext cx="77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体操教室・サロンへ来られない方々を対象に希望者宅で体操</a:t>
            </a:r>
            <a:endParaRPr b="0" lang="en-US" sz="2000" spc="-1" strike="noStrike">
              <a:solidFill>
                <a:srgbClr val="000000"/>
              </a:solidFill>
              <a:latin typeface="Arial Black"/>
            </a:endParaRPr>
          </a:p>
        </p:txBody>
      </p:sp>
      <p:sp>
        <p:nvSpPr>
          <p:cNvPr id="363" name="テキスト ボックス 9"/>
          <p:cNvSpPr/>
          <p:nvPr/>
        </p:nvSpPr>
        <p:spPr>
          <a:xfrm>
            <a:off x="611280" y="355680"/>
            <a:ext cx="7561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Arial Black"/>
              </a:rPr>
              <a:t>出前いきいきヘルス体操体制</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テキスト ボックス 1"/>
          <p:cNvSpPr/>
          <p:nvPr/>
        </p:nvSpPr>
        <p:spPr>
          <a:xfrm>
            <a:off x="539640" y="47628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b050"/>
                </a:solidFill>
                <a:latin typeface="AR P黒丸ＰＯＰ体H"/>
                <a:ea typeface="AR P黒丸ＰＯＰ体H"/>
              </a:rPr>
              <a:t>「出前いきいきヘルス体操」協働事業について</a:t>
            </a:r>
            <a:endParaRPr b="0" lang="en-US" sz="3200" spc="-1" strike="noStrike">
              <a:solidFill>
                <a:srgbClr val="000000"/>
              </a:solidFill>
              <a:latin typeface="Arial Black"/>
            </a:endParaRPr>
          </a:p>
        </p:txBody>
      </p:sp>
      <p:sp>
        <p:nvSpPr>
          <p:cNvPr id="365" name="テキスト ボックス 2"/>
          <p:cNvSpPr/>
          <p:nvPr/>
        </p:nvSpPr>
        <p:spPr>
          <a:xfrm>
            <a:off x="684360" y="1557360"/>
            <a:ext cx="78483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守谷市におけるシルバーリハビリ体操は実施以来７年を経過しました現在</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体操指導士１２０名、体操教室：２３、サロン：２０合わせて４３ヶ所と当初の</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目標以上に普及して、参加者も２２年度実績で延べ１万３千人にもなり順調に</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拡大しております。団塊の世代の高齢化の津波にも会場、指導士数も対応</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できる規模となっております。</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他方、現在の参加者は健常者が殆どで、体操の目標である体力の現状維持による介護予防（健康寿命）に応えられていると考えておりますが、高齢化に</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よる日常生活の低下が進み筋力、骨量の減少等により歩行困難、膝痛、腰痛</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等により外出、人との交流、社会参加などが困難となりつつある高齢者が増加しております。出前体操は希望者に合わせた体操指導を行い、日常活動の</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介護予防、支援予防につながる体操を個別に提供し、一人でも多く日常生活</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活動の現状維持を継続できる「健康長寿高齢者」への支援を実現するもので</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あります。高齢化に伴う種々の日常生活の少しでも円滑に行えるように体操を通じて支援させていただければと考えております。</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状況に応じては、独居高齢者への見守りサービス等合わせて考えております。</a:t>
            </a: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64600" y="312840"/>
            <a:ext cx="824868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b050"/>
                </a:solidFill>
                <a:latin typeface="Calibri"/>
              </a:rPr>
              <a:t>「出前いきいきヘルス体操」希望者募集方法</a:t>
            </a:r>
            <a:endParaRPr b="0" lang="en-US" sz="3200" spc="-1" strike="noStrike">
              <a:solidFill>
                <a:srgbClr val="000000"/>
              </a:solidFill>
              <a:latin typeface="Calibri"/>
            </a:endParaRPr>
          </a:p>
        </p:txBody>
      </p:sp>
      <p:sp>
        <p:nvSpPr>
          <p:cNvPr id="367" name="正方形/長方形 4"/>
          <p:cNvSpPr/>
          <p:nvPr/>
        </p:nvSpPr>
        <p:spPr>
          <a:xfrm>
            <a:off x="1351080" y="1655640"/>
            <a:ext cx="151128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一支部</a:t>
            </a:r>
            <a:endParaRPr b="0" lang="en-US" sz="1800" spc="-1" strike="noStrike">
              <a:solidFill>
                <a:srgbClr val="000000"/>
              </a:solidFill>
              <a:latin typeface="Arial Black"/>
            </a:endParaRPr>
          </a:p>
        </p:txBody>
      </p:sp>
      <p:sp>
        <p:nvSpPr>
          <p:cNvPr id="368" name="正方形/長方形 6"/>
          <p:cNvSpPr/>
          <p:nvPr/>
        </p:nvSpPr>
        <p:spPr>
          <a:xfrm>
            <a:off x="1327320" y="3213000"/>
            <a:ext cx="151272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二支部</a:t>
            </a:r>
            <a:endParaRPr b="0" lang="en-US" sz="1800" spc="-1" strike="noStrike">
              <a:solidFill>
                <a:srgbClr val="000000"/>
              </a:solidFill>
              <a:latin typeface="Arial Black"/>
            </a:endParaRPr>
          </a:p>
        </p:txBody>
      </p:sp>
      <p:sp>
        <p:nvSpPr>
          <p:cNvPr id="369" name="正方形/長方形 7"/>
          <p:cNvSpPr/>
          <p:nvPr/>
        </p:nvSpPr>
        <p:spPr>
          <a:xfrm>
            <a:off x="1327320" y="4761000"/>
            <a:ext cx="151272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三支部</a:t>
            </a:r>
            <a:endParaRPr b="0" lang="en-US" sz="1800" spc="-1" strike="noStrike">
              <a:solidFill>
                <a:srgbClr val="000000"/>
              </a:solidFill>
              <a:latin typeface="Arial Black"/>
            </a:endParaRPr>
          </a:p>
        </p:txBody>
      </p:sp>
      <p:sp>
        <p:nvSpPr>
          <p:cNvPr id="370" name="正方形/長方形 8"/>
          <p:cNvSpPr/>
          <p:nvPr/>
        </p:nvSpPr>
        <p:spPr>
          <a:xfrm>
            <a:off x="3132000" y="1844640"/>
            <a:ext cx="144000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1" name="正方形/長方形 11"/>
          <p:cNvSpPr/>
          <p:nvPr/>
        </p:nvSpPr>
        <p:spPr>
          <a:xfrm>
            <a:off x="3130560" y="3392640"/>
            <a:ext cx="144000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2" name="正方形/長方形 12"/>
          <p:cNvSpPr/>
          <p:nvPr/>
        </p:nvSpPr>
        <p:spPr>
          <a:xfrm>
            <a:off x="3156120" y="4923000"/>
            <a:ext cx="143964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3" name="正方形/長方形 13"/>
          <p:cNvSpPr/>
          <p:nvPr/>
        </p:nvSpPr>
        <p:spPr>
          <a:xfrm>
            <a:off x="1332000" y="5996160"/>
            <a:ext cx="1511280" cy="474480"/>
          </a:xfrm>
          <a:prstGeom prst="rect">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公民館等</a:t>
            </a:r>
            <a:endParaRPr b="0" lang="en-US" sz="1800" spc="-1" strike="noStrike">
              <a:solidFill>
                <a:srgbClr val="000000"/>
              </a:solidFill>
              <a:latin typeface="Arial Black"/>
            </a:endParaRPr>
          </a:p>
        </p:txBody>
      </p:sp>
      <p:cxnSp>
        <p:nvCxnSpPr>
          <p:cNvPr id="374" name="直線矢印コネクタ 15"/>
          <p:cNvCxnSpPr/>
          <p:nvPr/>
        </p:nvCxnSpPr>
        <p:spPr>
          <a:xfrm flipV="1">
            <a:off x="4595400" y="1736280"/>
            <a:ext cx="516600" cy="108720"/>
          </a:xfrm>
          <a:prstGeom prst="straightConnector1">
            <a:avLst/>
          </a:prstGeom>
          <a:ln w="9360">
            <a:solidFill>
              <a:srgbClr val="4a7ebb"/>
            </a:solidFill>
            <a:miter/>
            <a:tailEnd len="med" type="arrow" w="med"/>
          </a:ln>
        </p:spPr>
      </p:cxnSp>
      <p:cxnSp>
        <p:nvCxnSpPr>
          <p:cNvPr id="375" name="直線矢印コネクタ 17"/>
          <p:cNvCxnSpPr>
            <a:stCxn id="370" idx="3"/>
          </p:cNvCxnSpPr>
          <p:nvPr/>
        </p:nvCxnSpPr>
        <p:spPr>
          <a:xfrm flipV="1">
            <a:off x="4571640" y="2006280"/>
            <a:ext cx="540360" cy="18000"/>
          </a:xfrm>
          <a:prstGeom prst="straightConnector1">
            <a:avLst/>
          </a:prstGeom>
          <a:ln w="9360">
            <a:solidFill>
              <a:srgbClr val="4a7ebb"/>
            </a:solidFill>
            <a:miter/>
            <a:tailEnd len="med" type="arrow" w="med"/>
          </a:ln>
        </p:spPr>
      </p:cxnSp>
      <p:cxnSp>
        <p:nvCxnSpPr>
          <p:cNvPr id="376" name="直線矢印コネクタ 19"/>
          <p:cNvCxnSpPr/>
          <p:nvPr/>
        </p:nvCxnSpPr>
        <p:spPr>
          <a:xfrm>
            <a:off x="4570200" y="2204640"/>
            <a:ext cx="541800" cy="72360"/>
          </a:xfrm>
          <a:prstGeom prst="straightConnector1">
            <a:avLst/>
          </a:prstGeom>
          <a:ln w="9360">
            <a:solidFill>
              <a:srgbClr val="4a7ebb"/>
            </a:solidFill>
            <a:miter/>
            <a:tailEnd len="med" type="arrow" w="med"/>
          </a:ln>
        </p:spPr>
      </p:cxnSp>
      <p:cxnSp>
        <p:nvCxnSpPr>
          <p:cNvPr id="377" name="直線矢印コネクタ 21"/>
          <p:cNvCxnSpPr>
            <a:stCxn id="371" idx="3"/>
          </p:cNvCxnSpPr>
          <p:nvPr/>
        </p:nvCxnSpPr>
        <p:spPr>
          <a:xfrm flipV="1">
            <a:off x="4570200" y="3542760"/>
            <a:ext cx="686520" cy="30600"/>
          </a:xfrm>
          <a:prstGeom prst="straightConnector1">
            <a:avLst/>
          </a:prstGeom>
          <a:ln w="9360">
            <a:solidFill>
              <a:srgbClr val="4a7ebb"/>
            </a:solidFill>
            <a:miter/>
            <a:tailEnd len="med" type="arrow" w="med"/>
          </a:ln>
        </p:spPr>
      </p:cxnSp>
      <p:cxnSp>
        <p:nvCxnSpPr>
          <p:cNvPr id="378" name="直線矢印コネクタ 23"/>
          <p:cNvCxnSpPr/>
          <p:nvPr/>
        </p:nvCxnSpPr>
        <p:spPr>
          <a:xfrm flipV="1">
            <a:off x="4572000" y="3242520"/>
            <a:ext cx="705240" cy="181800"/>
          </a:xfrm>
          <a:prstGeom prst="straightConnector1">
            <a:avLst/>
          </a:prstGeom>
          <a:ln w="9360">
            <a:solidFill>
              <a:srgbClr val="4a7ebb"/>
            </a:solidFill>
            <a:miter/>
            <a:tailEnd len="med" type="arrow" w="med"/>
          </a:ln>
        </p:spPr>
      </p:cxnSp>
      <p:cxnSp>
        <p:nvCxnSpPr>
          <p:cNvPr id="379" name="直線矢印コネクタ 25"/>
          <p:cNvCxnSpPr/>
          <p:nvPr/>
        </p:nvCxnSpPr>
        <p:spPr>
          <a:xfrm>
            <a:off x="4511160" y="3733920"/>
            <a:ext cx="754920" cy="110160"/>
          </a:xfrm>
          <a:prstGeom prst="straightConnector1">
            <a:avLst/>
          </a:prstGeom>
          <a:ln w="9360">
            <a:solidFill>
              <a:srgbClr val="4a7ebb"/>
            </a:solidFill>
            <a:miter/>
            <a:tailEnd len="med" type="arrow" w="med"/>
          </a:ln>
        </p:spPr>
      </p:cxnSp>
      <p:cxnSp>
        <p:nvCxnSpPr>
          <p:cNvPr id="380" name="直線矢印コネクタ 29"/>
          <p:cNvCxnSpPr/>
          <p:nvPr/>
        </p:nvCxnSpPr>
        <p:spPr>
          <a:xfrm flipV="1">
            <a:off x="4572000" y="4851000"/>
            <a:ext cx="675360" cy="108720"/>
          </a:xfrm>
          <a:prstGeom prst="straightConnector1">
            <a:avLst/>
          </a:prstGeom>
          <a:ln w="9360">
            <a:solidFill>
              <a:srgbClr val="4a7ebb"/>
            </a:solidFill>
            <a:miter/>
            <a:tailEnd len="med" type="arrow" w="med"/>
          </a:ln>
        </p:spPr>
      </p:cxnSp>
      <p:cxnSp>
        <p:nvCxnSpPr>
          <p:cNvPr id="381" name="直線矢印コネクタ 33"/>
          <p:cNvCxnSpPr/>
          <p:nvPr/>
        </p:nvCxnSpPr>
        <p:spPr>
          <a:xfrm>
            <a:off x="4595760" y="5262480"/>
            <a:ext cx="687960" cy="91440"/>
          </a:xfrm>
          <a:prstGeom prst="straightConnector1">
            <a:avLst/>
          </a:prstGeom>
          <a:ln w="9360">
            <a:solidFill>
              <a:srgbClr val="4a7ebb"/>
            </a:solidFill>
            <a:miter/>
            <a:tailEnd len="med" type="arrow" w="med"/>
          </a:ln>
        </p:spPr>
      </p:cxnSp>
      <p:sp>
        <p:nvSpPr>
          <p:cNvPr id="382" name="正方形/長方形 37"/>
          <p:cNvSpPr/>
          <p:nvPr/>
        </p:nvSpPr>
        <p:spPr>
          <a:xfrm>
            <a:off x="343080" y="2637000"/>
            <a:ext cx="720720" cy="187164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本</a:t>
            </a:r>
            <a:endParaRPr b="0" lang="en-US" sz="2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部</a:t>
            </a:r>
            <a:endParaRPr b="0" lang="en-US" sz="2800" spc="-1" strike="noStrike">
              <a:solidFill>
                <a:srgbClr val="000000"/>
              </a:solidFill>
              <a:latin typeface="Arial Black"/>
            </a:endParaRPr>
          </a:p>
        </p:txBody>
      </p:sp>
      <p:sp>
        <p:nvSpPr>
          <p:cNvPr id="383" name="右矢印 38"/>
          <p:cNvSpPr/>
          <p:nvPr/>
        </p:nvSpPr>
        <p:spPr>
          <a:xfrm>
            <a:off x="684360" y="2023920"/>
            <a:ext cx="642960" cy="46080"/>
          </a:xfrm>
          <a:prstGeom prst="rightArrow">
            <a:avLst>
              <a:gd name="adj1" fmla="val 50000"/>
              <a:gd name="adj2" fmla="val 49934"/>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4" name="下矢印 39"/>
          <p:cNvSpPr/>
          <p:nvPr/>
        </p:nvSpPr>
        <p:spPr>
          <a:xfrm>
            <a:off x="684360" y="2023920"/>
            <a:ext cx="44280" cy="613080"/>
          </a:xfrm>
          <a:prstGeom prst="downArrow">
            <a:avLst>
              <a:gd name="adj1" fmla="val 50000"/>
              <a:gd name="adj2" fmla="val 501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5" name="下矢印 41"/>
          <p:cNvSpPr/>
          <p:nvPr/>
        </p:nvSpPr>
        <p:spPr>
          <a:xfrm>
            <a:off x="885960" y="4518000"/>
            <a:ext cx="46080" cy="612720"/>
          </a:xfrm>
          <a:prstGeom prst="downArrow">
            <a:avLst>
              <a:gd name="adj1" fmla="val 50000"/>
              <a:gd name="adj2" fmla="val 499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6" name="右矢印 42"/>
          <p:cNvSpPr/>
          <p:nvPr/>
        </p:nvSpPr>
        <p:spPr>
          <a:xfrm>
            <a:off x="885960" y="5106960"/>
            <a:ext cx="441360" cy="46080"/>
          </a:xfrm>
          <a:prstGeom prst="right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7" name="右矢印 43"/>
          <p:cNvSpPr/>
          <p:nvPr/>
        </p:nvSpPr>
        <p:spPr>
          <a:xfrm>
            <a:off x="2843280" y="2006640"/>
            <a:ext cx="287280" cy="4608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8" name="右矢印 44"/>
          <p:cNvSpPr/>
          <p:nvPr/>
        </p:nvSpPr>
        <p:spPr>
          <a:xfrm>
            <a:off x="2840040" y="3595680"/>
            <a:ext cx="290520" cy="4608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9" name="右矢印 45"/>
          <p:cNvSpPr/>
          <p:nvPr/>
        </p:nvSpPr>
        <p:spPr>
          <a:xfrm>
            <a:off x="2843280" y="5121360"/>
            <a:ext cx="287280" cy="4608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0" name="下矢印 46"/>
          <p:cNvSpPr/>
          <p:nvPr/>
        </p:nvSpPr>
        <p:spPr>
          <a:xfrm>
            <a:off x="646200" y="4508640"/>
            <a:ext cx="46080" cy="1290600"/>
          </a:xfrm>
          <a:prstGeom prst="downArrow">
            <a:avLst>
              <a:gd name="adj1" fmla="val 50000"/>
              <a:gd name="adj2" fmla="val 499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1" name="右矢印 47"/>
          <p:cNvSpPr/>
          <p:nvPr/>
        </p:nvSpPr>
        <p:spPr>
          <a:xfrm>
            <a:off x="669960" y="5745240"/>
            <a:ext cx="1050840" cy="63360"/>
          </a:xfrm>
          <a:prstGeom prst="rightArrow">
            <a:avLst>
              <a:gd name="adj1" fmla="val 50000"/>
              <a:gd name="adj2" fmla="val 50140"/>
            </a:avLst>
          </a:prstGeom>
          <a:solidFill>
            <a:srgbClr val="4f81bd"/>
          </a:solidFill>
          <a:ln w="25560">
            <a:solidFill>
              <a:srgbClr val="385d8a"/>
            </a:solidFill>
            <a:miter/>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2" name="右矢印 49"/>
          <p:cNvSpPr/>
          <p:nvPr/>
        </p:nvSpPr>
        <p:spPr>
          <a:xfrm>
            <a:off x="1063800" y="3573360"/>
            <a:ext cx="268200" cy="68400"/>
          </a:xfrm>
          <a:prstGeom prst="rightArrow">
            <a:avLst>
              <a:gd name="adj1" fmla="val 50000"/>
              <a:gd name="adj2" fmla="val 49884"/>
            </a:avLst>
          </a:prstGeom>
          <a:solidFill>
            <a:srgbClr val="4f81bd"/>
          </a:solidFill>
          <a:ln w="25560">
            <a:solidFill>
              <a:srgbClr val="385d8a"/>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3" name="正方形/長方形 51"/>
          <p:cNvSpPr/>
          <p:nvPr/>
        </p:nvSpPr>
        <p:spPr>
          <a:xfrm>
            <a:off x="3156120" y="2637000"/>
            <a:ext cx="1631880" cy="504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4" name="正方形/長方形 52"/>
          <p:cNvSpPr/>
          <p:nvPr/>
        </p:nvSpPr>
        <p:spPr>
          <a:xfrm>
            <a:off x="3276720" y="5516640"/>
            <a:ext cx="1295280" cy="433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5" name="正方形/長方形 54"/>
          <p:cNvSpPr/>
          <p:nvPr/>
        </p:nvSpPr>
        <p:spPr>
          <a:xfrm>
            <a:off x="3156120" y="5492880"/>
            <a:ext cx="1631880" cy="50328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6" name="正方形/長方形 55"/>
          <p:cNvSpPr/>
          <p:nvPr/>
        </p:nvSpPr>
        <p:spPr>
          <a:xfrm>
            <a:off x="3156120" y="4029120"/>
            <a:ext cx="1631880" cy="504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7" name="下矢印 56"/>
          <p:cNvSpPr/>
          <p:nvPr/>
        </p:nvSpPr>
        <p:spPr>
          <a:xfrm>
            <a:off x="2084400" y="2384280"/>
            <a:ext cx="44280" cy="505080"/>
          </a:xfrm>
          <a:prstGeom prst="downArrow">
            <a:avLst>
              <a:gd name="adj1" fmla="val 50000"/>
              <a:gd name="adj2" fmla="val 5022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8" name="右矢印 60"/>
          <p:cNvSpPr/>
          <p:nvPr/>
        </p:nvSpPr>
        <p:spPr>
          <a:xfrm flipV="1">
            <a:off x="2084400" y="4281480"/>
            <a:ext cx="1071720" cy="55440"/>
          </a:xfrm>
          <a:prstGeom prst="rightArrow">
            <a:avLst>
              <a:gd name="adj1" fmla="val 50000"/>
              <a:gd name="adj2" fmla="val 50118"/>
            </a:avLst>
          </a:prstGeom>
          <a:solidFill>
            <a:srgbClr val="4f81bd"/>
          </a:solidFill>
          <a:ln w="25560">
            <a:solidFill>
              <a:srgbClr val="385d8a"/>
            </a:solidFill>
            <a:miter/>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9" name="下矢印 61"/>
          <p:cNvSpPr/>
          <p:nvPr/>
        </p:nvSpPr>
        <p:spPr>
          <a:xfrm>
            <a:off x="2084400" y="3933720"/>
            <a:ext cx="44280" cy="347760"/>
          </a:xfrm>
          <a:prstGeom prst="downArrow">
            <a:avLst>
              <a:gd name="adj1" fmla="val 50000"/>
              <a:gd name="adj2" fmla="val 502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0" name="右矢印 62"/>
          <p:cNvSpPr/>
          <p:nvPr/>
        </p:nvSpPr>
        <p:spPr>
          <a:xfrm>
            <a:off x="2106720" y="2889360"/>
            <a:ext cx="1023840" cy="4608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1" name="下矢印 63"/>
          <p:cNvSpPr/>
          <p:nvPr/>
        </p:nvSpPr>
        <p:spPr>
          <a:xfrm>
            <a:off x="2084400" y="5492880"/>
            <a:ext cx="44280" cy="252360"/>
          </a:xfrm>
          <a:prstGeom prst="downArrow">
            <a:avLst>
              <a:gd name="adj1" fmla="val 50000"/>
              <a:gd name="adj2" fmla="val 501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2" name="右矢印 64"/>
          <p:cNvSpPr/>
          <p:nvPr/>
        </p:nvSpPr>
        <p:spPr>
          <a:xfrm>
            <a:off x="2106720" y="5732640"/>
            <a:ext cx="1023840" cy="45720"/>
          </a:xfrm>
          <a:prstGeom prst="rightArrow">
            <a:avLst>
              <a:gd name="adj1" fmla="val 50000"/>
              <a:gd name="adj2" fmla="val 50386"/>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3" name="テキスト ボックス 1"/>
          <p:cNvSpPr/>
          <p:nvPr/>
        </p:nvSpPr>
        <p:spPr>
          <a:xfrm>
            <a:off x="6836040" y="1863720"/>
            <a:ext cx="164376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１．募集案内の配布・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２．守谷市介護福祉課</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３．地域包括支援センター</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４．教室・サロンで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５．町会長、老人会他へ</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６．社会福祉協議会へ</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７．守谷市地域福祉計画</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推進各支部と連携</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８．公・民養護老人施設</a:t>
            </a:r>
            <a:endParaRPr b="0" lang="en-US" sz="1600" spc="-1" strike="noStrike">
              <a:solidFill>
                <a:srgbClr val="000000"/>
              </a:solidFill>
              <a:latin typeface="Arial Black"/>
            </a:endParaRPr>
          </a:p>
        </p:txBody>
      </p:sp>
      <p:sp>
        <p:nvSpPr>
          <p:cNvPr id="404" name="円/楕円 3"/>
          <p:cNvSpPr/>
          <p:nvPr/>
        </p:nvSpPr>
        <p:spPr>
          <a:xfrm>
            <a:off x="5124600" y="164628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5" name="円/楕円 48"/>
          <p:cNvSpPr/>
          <p:nvPr/>
        </p:nvSpPr>
        <p:spPr>
          <a:xfrm>
            <a:off x="5111640" y="1935000"/>
            <a:ext cx="1429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6" name="円/楕円 50"/>
          <p:cNvSpPr/>
          <p:nvPr/>
        </p:nvSpPr>
        <p:spPr>
          <a:xfrm>
            <a:off x="5124600" y="221940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7" name="円/楕円 53"/>
          <p:cNvSpPr/>
          <p:nvPr/>
        </p:nvSpPr>
        <p:spPr>
          <a:xfrm>
            <a:off x="5278320" y="3159000"/>
            <a:ext cx="1447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8" name="円/楕円 57"/>
          <p:cNvSpPr/>
          <p:nvPr/>
        </p:nvSpPr>
        <p:spPr>
          <a:xfrm>
            <a:off x="5278320" y="3476520"/>
            <a:ext cx="1447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9" name="円/楕円 58"/>
          <p:cNvSpPr/>
          <p:nvPr/>
        </p:nvSpPr>
        <p:spPr>
          <a:xfrm>
            <a:off x="5265720" y="378936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0" name="円/楕円 59"/>
          <p:cNvSpPr/>
          <p:nvPr/>
        </p:nvSpPr>
        <p:spPr>
          <a:xfrm>
            <a:off x="5268960" y="4815000"/>
            <a:ext cx="1429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1" name="円/楕円 65"/>
          <p:cNvSpPr/>
          <p:nvPr/>
        </p:nvSpPr>
        <p:spPr>
          <a:xfrm>
            <a:off x="5227560" y="5067360"/>
            <a:ext cx="1429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2" name="円/楕円 66"/>
          <p:cNvSpPr/>
          <p:nvPr/>
        </p:nvSpPr>
        <p:spPr>
          <a:xfrm>
            <a:off x="5251320" y="5284800"/>
            <a:ext cx="1447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3" name="正方形/長方形 9"/>
          <p:cNvSpPr/>
          <p:nvPr/>
        </p:nvSpPr>
        <p:spPr>
          <a:xfrm>
            <a:off x="3191040" y="6156360"/>
            <a:ext cx="2087280" cy="325440"/>
          </a:xfrm>
          <a:prstGeom prst="rect">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社会福祉協議会</a:t>
            </a:r>
            <a:endParaRPr b="0" lang="en-US" sz="1800" spc="-1" strike="noStrike">
              <a:solidFill>
                <a:srgbClr val="000000"/>
              </a:solidFill>
              <a:latin typeface="Arial Black"/>
            </a:endParaRPr>
          </a:p>
        </p:txBody>
      </p:sp>
      <p:sp>
        <p:nvSpPr>
          <p:cNvPr id="414" name="正方形/長方形 2"/>
          <p:cNvSpPr/>
          <p:nvPr/>
        </p:nvSpPr>
        <p:spPr>
          <a:xfrm>
            <a:off x="5757840" y="1646280"/>
            <a:ext cx="517680" cy="48070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在宅</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個人</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体操希望者</a:t>
            </a:r>
            <a:endParaRPr b="0" lang="en-US" sz="2000" spc="-1" strike="noStrike">
              <a:solidFill>
                <a:srgbClr val="000000"/>
              </a:solidFill>
              <a:latin typeface="Arial Black"/>
            </a:endParaRPr>
          </a:p>
        </p:txBody>
      </p:sp>
      <p:cxnSp>
        <p:nvCxnSpPr>
          <p:cNvPr id="415" name="直線矢印コネクタ 34"/>
          <p:cNvCxnSpPr>
            <a:endCxn id="411" idx="2"/>
          </p:cNvCxnSpPr>
          <p:nvPr/>
        </p:nvCxnSpPr>
        <p:spPr>
          <a:xfrm flipV="1">
            <a:off x="4389480" y="5137920"/>
            <a:ext cx="838800" cy="19800"/>
          </a:xfrm>
          <a:prstGeom prst="straightConnector1">
            <a:avLst/>
          </a:prstGeom>
          <a:ln w="9360">
            <a:solidFill>
              <a:srgbClr val="4a7ebb"/>
            </a:solidFill>
            <a:miter/>
            <a:tailEnd len="med" type="arrow" w="med"/>
          </a:ln>
        </p:spPr>
      </p:cxnSp>
      <p:sp>
        <p:nvSpPr>
          <p:cNvPr id="416" name="下矢印 36"/>
          <p:cNvSpPr/>
          <p:nvPr/>
        </p:nvSpPr>
        <p:spPr>
          <a:xfrm>
            <a:off x="1712880" y="5808600"/>
            <a:ext cx="46080" cy="193680"/>
          </a:xfrm>
          <a:prstGeom prst="downArrow">
            <a:avLst>
              <a:gd name="adj1" fmla="val 50000"/>
              <a:gd name="adj2" fmla="val 4995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7" name="下矢印 40"/>
          <p:cNvSpPr/>
          <p:nvPr/>
        </p:nvSpPr>
        <p:spPr>
          <a:xfrm>
            <a:off x="392040" y="4518000"/>
            <a:ext cx="46080" cy="2079720"/>
          </a:xfrm>
          <a:prstGeom prst="downArrow">
            <a:avLst>
              <a:gd name="adj1" fmla="val 50000"/>
              <a:gd name="adj2" fmla="val 4993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8" name="右矢印 67"/>
          <p:cNvSpPr/>
          <p:nvPr/>
        </p:nvSpPr>
        <p:spPr>
          <a:xfrm>
            <a:off x="438120" y="6597720"/>
            <a:ext cx="3197160" cy="46080"/>
          </a:xfrm>
          <a:prstGeom prst="rightArrow">
            <a:avLst>
              <a:gd name="adj1" fmla="val 50000"/>
              <a:gd name="adj2" fmla="val 5011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9" name="下矢印 68"/>
          <p:cNvSpPr/>
          <p:nvPr/>
        </p:nvSpPr>
        <p:spPr>
          <a:xfrm>
            <a:off x="3579840" y="6481800"/>
            <a:ext cx="46080" cy="115920"/>
          </a:xfrm>
          <a:prstGeom prst="downArrow">
            <a:avLst>
              <a:gd name="adj1" fmla="val 50000"/>
              <a:gd name="adj2" fmla="val 4996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0" name="正方形/長方形 10"/>
          <p:cNvSpPr/>
          <p:nvPr/>
        </p:nvSpPr>
        <p:spPr>
          <a:xfrm>
            <a:off x="1327320" y="1079640"/>
            <a:ext cx="1828800" cy="37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1" name="正方形/長方形 69"/>
          <p:cNvSpPr/>
          <p:nvPr/>
        </p:nvSpPr>
        <p:spPr>
          <a:xfrm>
            <a:off x="1327320" y="1079640"/>
            <a:ext cx="2252520" cy="37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守谷市介護福祉課</a:t>
            </a:r>
            <a:endParaRPr b="0" lang="en-US" sz="1800" spc="-1" strike="noStrike">
              <a:solidFill>
                <a:srgbClr val="000000"/>
              </a:solidFill>
              <a:latin typeface="Arial Black"/>
            </a:endParaRPr>
          </a:p>
        </p:txBody>
      </p:sp>
      <p:sp>
        <p:nvSpPr>
          <p:cNvPr id="422" name="正方形/長方形 70"/>
          <p:cNvSpPr/>
          <p:nvPr/>
        </p:nvSpPr>
        <p:spPr>
          <a:xfrm>
            <a:off x="4010040" y="1100160"/>
            <a:ext cx="2577960" cy="379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地域包括支援センター</a:t>
            </a:r>
            <a:endParaRPr b="0" lang="en-US" sz="1800" spc="-1" strike="noStrike">
              <a:solidFill>
                <a:srgbClr val="000000"/>
              </a:solidFill>
              <a:latin typeface="Arial Black"/>
            </a:endParaRPr>
          </a:p>
        </p:txBody>
      </p:sp>
      <p:sp>
        <p:nvSpPr>
          <p:cNvPr id="423" name="右矢印 14"/>
          <p:cNvSpPr/>
          <p:nvPr/>
        </p:nvSpPr>
        <p:spPr>
          <a:xfrm>
            <a:off x="414360" y="1289160"/>
            <a:ext cx="912960" cy="4608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4" name="下矢印 16"/>
          <p:cNvSpPr/>
          <p:nvPr/>
        </p:nvSpPr>
        <p:spPr>
          <a:xfrm>
            <a:off x="414360" y="1335240"/>
            <a:ext cx="46080" cy="1301760"/>
          </a:xfrm>
          <a:prstGeom prst="downArrow">
            <a:avLst>
              <a:gd name="adj1" fmla="val 50000"/>
              <a:gd name="adj2" fmla="val 499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5" name="右矢印 18"/>
          <p:cNvSpPr/>
          <p:nvPr/>
        </p:nvSpPr>
        <p:spPr>
          <a:xfrm>
            <a:off x="3603600" y="1268280"/>
            <a:ext cx="368280" cy="46080"/>
          </a:xfrm>
          <a:prstGeom prst="rightArrow">
            <a:avLst>
              <a:gd name="adj1" fmla="val 50000"/>
              <a:gd name="adj2" fmla="val 49951"/>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cxnSp>
        <p:nvCxnSpPr>
          <p:cNvPr id="426" name="直線矢印コネクタ 28"/>
          <p:cNvCxnSpPr>
            <a:stCxn id="405" idx="6"/>
          </p:cNvCxnSpPr>
          <p:nvPr/>
        </p:nvCxnSpPr>
        <p:spPr>
          <a:xfrm>
            <a:off x="5254560" y="2006280"/>
            <a:ext cx="504000" cy="1080"/>
          </a:xfrm>
          <a:prstGeom prst="straightConnector1">
            <a:avLst/>
          </a:prstGeom>
          <a:ln w="9360">
            <a:solidFill>
              <a:srgbClr val="4a7ebb"/>
            </a:solidFill>
            <a:miter/>
            <a:tailEnd len="med" type="arrow" w="med"/>
          </a:ln>
        </p:spPr>
      </p:cxnSp>
      <p:cxnSp>
        <p:nvCxnSpPr>
          <p:cNvPr id="427" name="直線矢印コネクタ 31"/>
          <p:cNvCxnSpPr>
            <a:stCxn id="404" idx="6"/>
          </p:cNvCxnSpPr>
          <p:nvPr/>
        </p:nvCxnSpPr>
        <p:spPr>
          <a:xfrm>
            <a:off x="5268960" y="1719000"/>
            <a:ext cx="489600" cy="144720"/>
          </a:xfrm>
          <a:prstGeom prst="straightConnector1">
            <a:avLst/>
          </a:prstGeom>
          <a:ln w="9360">
            <a:solidFill>
              <a:srgbClr val="4a7ebb"/>
            </a:solidFill>
            <a:miter/>
            <a:tailEnd len="med" type="arrow" w="med"/>
          </a:ln>
        </p:spPr>
      </p:cxnSp>
      <p:cxnSp>
        <p:nvCxnSpPr>
          <p:cNvPr id="428" name="直線矢印コネクタ 35"/>
          <p:cNvCxnSpPr>
            <a:stCxn id="406" idx="6"/>
          </p:cNvCxnSpPr>
          <p:nvPr/>
        </p:nvCxnSpPr>
        <p:spPr>
          <a:xfrm flipV="1">
            <a:off x="5268960" y="2204640"/>
            <a:ext cx="489600" cy="87840"/>
          </a:xfrm>
          <a:prstGeom prst="straightConnector1">
            <a:avLst/>
          </a:prstGeom>
          <a:ln w="9360">
            <a:solidFill>
              <a:srgbClr val="4a7ebb"/>
            </a:solidFill>
            <a:miter/>
            <a:tailEnd len="med" type="arrow" w="med"/>
          </a:ln>
        </p:spPr>
      </p:cxnSp>
      <p:cxnSp>
        <p:nvCxnSpPr>
          <p:cNvPr id="429" name="直線矢印コネクタ 72"/>
          <p:cNvCxnSpPr>
            <a:stCxn id="407" idx="6"/>
          </p:cNvCxnSpPr>
          <p:nvPr/>
        </p:nvCxnSpPr>
        <p:spPr>
          <a:xfrm>
            <a:off x="5423040" y="3230640"/>
            <a:ext cx="335520" cy="162720"/>
          </a:xfrm>
          <a:prstGeom prst="straightConnector1">
            <a:avLst/>
          </a:prstGeom>
          <a:ln w="9360">
            <a:solidFill>
              <a:srgbClr val="4a7ebb"/>
            </a:solidFill>
            <a:miter/>
            <a:tailEnd len="med" type="arrow" w="med"/>
          </a:ln>
        </p:spPr>
      </p:cxnSp>
      <p:cxnSp>
        <p:nvCxnSpPr>
          <p:cNvPr id="430" name="直線矢印コネクタ 74"/>
          <p:cNvCxnSpPr>
            <a:stCxn id="408" idx="5"/>
          </p:cNvCxnSpPr>
          <p:nvPr/>
        </p:nvCxnSpPr>
        <p:spPr>
          <a:xfrm flipV="1">
            <a:off x="5402160" y="3572640"/>
            <a:ext cx="356400" cy="26280"/>
          </a:xfrm>
          <a:prstGeom prst="straightConnector1">
            <a:avLst/>
          </a:prstGeom>
          <a:ln w="9360">
            <a:solidFill>
              <a:srgbClr val="4a7ebb"/>
            </a:solidFill>
            <a:miter/>
            <a:tailEnd len="med" type="arrow" w="med"/>
          </a:ln>
        </p:spPr>
      </p:cxnSp>
      <p:cxnSp>
        <p:nvCxnSpPr>
          <p:cNvPr id="431" name="直線矢印コネクタ 76"/>
          <p:cNvCxnSpPr>
            <a:stCxn id="409" idx="6"/>
          </p:cNvCxnSpPr>
          <p:nvPr/>
        </p:nvCxnSpPr>
        <p:spPr>
          <a:xfrm flipV="1">
            <a:off x="5410080" y="3752280"/>
            <a:ext cx="348480" cy="108360"/>
          </a:xfrm>
          <a:prstGeom prst="straightConnector1">
            <a:avLst/>
          </a:prstGeom>
          <a:ln w="9360">
            <a:solidFill>
              <a:srgbClr val="4a7ebb"/>
            </a:solidFill>
            <a:miter/>
            <a:tailEnd len="med" type="arrow" w="med"/>
          </a:ln>
        </p:spPr>
      </p:cxnSp>
      <p:cxnSp>
        <p:nvCxnSpPr>
          <p:cNvPr id="432" name="直線矢印コネクタ 78"/>
          <p:cNvCxnSpPr>
            <a:stCxn id="410" idx="7"/>
          </p:cNvCxnSpPr>
          <p:nvPr/>
        </p:nvCxnSpPr>
        <p:spPr>
          <a:xfrm>
            <a:off x="5390640" y="4835520"/>
            <a:ext cx="367560" cy="124560"/>
          </a:xfrm>
          <a:prstGeom prst="straightConnector1">
            <a:avLst/>
          </a:prstGeom>
          <a:ln w="9360">
            <a:solidFill>
              <a:srgbClr val="4a7ebb"/>
            </a:solidFill>
            <a:miter/>
            <a:tailEnd len="med" type="arrow" w="med"/>
          </a:ln>
        </p:spPr>
      </p:cxnSp>
      <p:cxnSp>
        <p:nvCxnSpPr>
          <p:cNvPr id="433" name="直線矢印コネクタ 80"/>
          <p:cNvCxnSpPr/>
          <p:nvPr/>
        </p:nvCxnSpPr>
        <p:spPr>
          <a:xfrm>
            <a:off x="5299200" y="5125680"/>
            <a:ext cx="459360" cy="1080"/>
          </a:xfrm>
          <a:prstGeom prst="straightConnector1">
            <a:avLst/>
          </a:prstGeom>
          <a:ln w="9360">
            <a:solidFill>
              <a:srgbClr val="4a7ebb"/>
            </a:solidFill>
            <a:miter/>
            <a:tailEnd len="med" type="arrow" w="med"/>
          </a:ln>
        </p:spPr>
      </p:cxnSp>
      <p:cxnSp>
        <p:nvCxnSpPr>
          <p:cNvPr id="434" name="直線矢印コネクタ 82"/>
          <p:cNvCxnSpPr>
            <a:stCxn id="412" idx="6"/>
          </p:cNvCxnSpPr>
          <p:nvPr/>
        </p:nvCxnSpPr>
        <p:spPr>
          <a:xfrm flipV="1">
            <a:off x="5395680" y="5331960"/>
            <a:ext cx="362520" cy="24480"/>
          </a:xfrm>
          <a:prstGeom prst="straightConnector1">
            <a:avLst/>
          </a:prstGeom>
          <a:ln w="9360">
            <a:solidFill>
              <a:srgbClr val="4a7ebb"/>
            </a:solidFill>
            <a:miter/>
            <a:tailEnd len="med" type="arrow" w="med"/>
          </a:ln>
        </p:spPr>
      </p:cxnSp>
      <p:cxnSp>
        <p:nvCxnSpPr>
          <p:cNvPr id="435" name="直線矢印コネクタ 24"/>
          <p:cNvCxnSpPr/>
          <p:nvPr/>
        </p:nvCxnSpPr>
        <p:spPr>
          <a:xfrm flipV="1">
            <a:off x="4739760" y="5617440"/>
            <a:ext cx="1018440" cy="96120"/>
          </a:xfrm>
          <a:prstGeom prst="straightConnector1">
            <a:avLst/>
          </a:prstGeom>
          <a:ln w="9360">
            <a:solidFill>
              <a:srgbClr val="4a7ebb"/>
            </a:solidFill>
            <a:miter/>
            <a:tailEnd len="med" type="arrow" w="med"/>
          </a:ln>
        </p:spPr>
      </p:cxnSp>
      <p:cxnSp>
        <p:nvCxnSpPr>
          <p:cNvPr id="436" name="直線矢印コネクタ 27"/>
          <p:cNvCxnSpPr>
            <a:stCxn id="395" idx="3"/>
          </p:cNvCxnSpPr>
          <p:nvPr/>
        </p:nvCxnSpPr>
        <p:spPr>
          <a:xfrm>
            <a:off x="4787640" y="5745240"/>
            <a:ext cx="991080" cy="49680"/>
          </a:xfrm>
          <a:prstGeom prst="straightConnector1">
            <a:avLst/>
          </a:prstGeom>
          <a:ln w="9360">
            <a:solidFill>
              <a:srgbClr val="4a7ebb"/>
            </a:solidFill>
            <a:miter/>
            <a:tailEnd len="med" type="arrow" w="med"/>
          </a:ln>
        </p:spPr>
      </p:cxnSp>
      <p:cxnSp>
        <p:nvCxnSpPr>
          <p:cNvPr id="437" name="直線矢印コネクタ 32"/>
          <p:cNvCxnSpPr>
            <a:stCxn id="395" idx="3"/>
          </p:cNvCxnSpPr>
          <p:nvPr/>
        </p:nvCxnSpPr>
        <p:spPr>
          <a:xfrm>
            <a:off x="4788000" y="5744880"/>
            <a:ext cx="970560" cy="167040"/>
          </a:xfrm>
          <a:prstGeom prst="straightConnector1">
            <a:avLst/>
          </a:prstGeom>
          <a:ln w="9360">
            <a:solidFill>
              <a:srgbClr val="4a7ebb"/>
            </a:solidFill>
            <a:miter/>
            <a:tailEnd len="med" type="arrow" w="med"/>
          </a:ln>
        </p:spPr>
      </p:cxnSp>
      <p:cxnSp>
        <p:nvCxnSpPr>
          <p:cNvPr id="438" name="直線矢印コネクタ 89"/>
          <p:cNvCxnSpPr>
            <a:stCxn id="396" idx="3"/>
          </p:cNvCxnSpPr>
          <p:nvPr/>
        </p:nvCxnSpPr>
        <p:spPr>
          <a:xfrm flipV="1">
            <a:off x="4787640" y="4280760"/>
            <a:ext cx="991080" cy="1080"/>
          </a:xfrm>
          <a:prstGeom prst="straightConnector1">
            <a:avLst/>
          </a:prstGeom>
          <a:ln w="9360">
            <a:solidFill>
              <a:srgbClr val="4a7ebb"/>
            </a:solidFill>
            <a:miter/>
            <a:tailEnd len="med" type="arrow" w="med"/>
          </a:ln>
        </p:spPr>
      </p:cxnSp>
      <p:cxnSp>
        <p:nvCxnSpPr>
          <p:cNvPr id="439" name="直線矢印コネクタ 91"/>
          <p:cNvCxnSpPr>
            <a:stCxn id="393" idx="3"/>
          </p:cNvCxnSpPr>
          <p:nvPr/>
        </p:nvCxnSpPr>
        <p:spPr>
          <a:xfrm>
            <a:off x="4788000" y="2889000"/>
            <a:ext cx="970560" cy="1080"/>
          </a:xfrm>
          <a:prstGeom prst="straightConnector1">
            <a:avLst/>
          </a:prstGeom>
          <a:ln w="9360">
            <a:solidFill>
              <a:srgbClr val="4a7ebb"/>
            </a:solidFill>
            <a:miter/>
            <a:tailEnd len="med" type="arrow" w="med"/>
          </a:ln>
        </p:spPr>
      </p:cxnSp>
      <p:cxnSp>
        <p:nvCxnSpPr>
          <p:cNvPr id="440" name="直線矢印コネクタ 93"/>
          <p:cNvCxnSpPr>
            <a:stCxn id="393" idx="3"/>
          </p:cNvCxnSpPr>
          <p:nvPr/>
        </p:nvCxnSpPr>
        <p:spPr>
          <a:xfrm flipV="1">
            <a:off x="4788000" y="2636280"/>
            <a:ext cx="970560" cy="253080"/>
          </a:xfrm>
          <a:prstGeom prst="straightConnector1">
            <a:avLst/>
          </a:prstGeom>
          <a:ln w="9360">
            <a:solidFill>
              <a:srgbClr val="4a7ebb"/>
            </a:solidFill>
            <a:miter/>
            <a:tailEnd len="med" type="arrow" w="med"/>
          </a:ln>
        </p:spPr>
      </p:cxnSp>
      <p:cxnSp>
        <p:nvCxnSpPr>
          <p:cNvPr id="441" name="直線矢印コネクタ 95"/>
          <p:cNvCxnSpPr>
            <a:stCxn id="393" idx="3"/>
          </p:cNvCxnSpPr>
          <p:nvPr/>
        </p:nvCxnSpPr>
        <p:spPr>
          <a:xfrm>
            <a:off x="4788000" y="2889360"/>
            <a:ext cx="970560" cy="180000"/>
          </a:xfrm>
          <a:prstGeom prst="straightConnector1">
            <a:avLst/>
          </a:prstGeom>
          <a:ln w="9360">
            <a:solidFill>
              <a:srgbClr val="4a7ebb"/>
            </a:solidFill>
            <a:miter/>
            <a:tailEnd len="med" type="arrow" w="med"/>
          </a:ln>
        </p:spPr>
      </p:cxnSp>
      <p:cxnSp>
        <p:nvCxnSpPr>
          <p:cNvPr id="442" name="直線矢印コネクタ 97"/>
          <p:cNvCxnSpPr>
            <a:stCxn id="396" idx="3"/>
            <a:endCxn id="414" idx="1"/>
          </p:cNvCxnSpPr>
          <p:nvPr/>
        </p:nvCxnSpPr>
        <p:spPr>
          <a:xfrm flipV="1">
            <a:off x="4788000" y="4049280"/>
            <a:ext cx="970560" cy="232560"/>
          </a:xfrm>
          <a:prstGeom prst="straightConnector1">
            <a:avLst/>
          </a:prstGeom>
          <a:ln w="9360">
            <a:solidFill>
              <a:srgbClr val="4a7ebb"/>
            </a:solidFill>
            <a:miter/>
            <a:tailEnd len="med" type="arrow" w="med"/>
          </a:ln>
        </p:spPr>
      </p:cxnSp>
      <p:cxnSp>
        <p:nvCxnSpPr>
          <p:cNvPr id="443" name="直線矢印コネクタ 99"/>
          <p:cNvCxnSpPr>
            <a:stCxn id="396" idx="3"/>
          </p:cNvCxnSpPr>
          <p:nvPr/>
        </p:nvCxnSpPr>
        <p:spPr>
          <a:xfrm>
            <a:off x="4788000" y="4281120"/>
            <a:ext cx="970560" cy="2278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m-takagi</cp:lastModifiedBy>
  <dcterms:modified xsi:type="dcterms:W3CDTF">2012-02-25T13:11:03Z</dcterms:modified>
  <cp:revision>145</cp:revision>
  <dc:subject/>
  <dc:title> </dc:title>
</cp:coreProperties>
</file>