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ED5-4C6A-49C1-9D6A-2B12E4EA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261-8110-47FC-845F-F1943FA8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8DB-F501-46FA-BE6A-6A378A89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27A-8954-41D4-8CCB-B1989A01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2AF2-66F4-4D26-B4BB-E4BF4F58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2AE3-66F7-4F3B-8031-18509F04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2B1C-BC18-4B1D-BFEC-F534292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5AEA-B9F5-46AF-BE1C-FD931A5E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73C4-20CA-4ADD-B710-D9B6D4F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C157-9D44-4F29-987C-F82BCB0D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425D-95EB-4A0B-9DD9-431F179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AFC-DC16-490F-B701-1E39BD4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0CDF-4149-496D-A7A4-FCA9701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4F9F-5D66-4BFF-8252-1025107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5B3D-B788-4D3B-9325-7FA0D532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5FF9-EA8E-4CF2-BFB7-045B6647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E7AE-F390-4CD5-93E2-3F1D1BF6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A06F-F091-401F-8619-07C6641D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A136-D3FD-45AE-B7DD-46B04064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3A27-A58B-4C5D-8EEA-47E420F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5ADB-3C4E-4FCE-9388-ADD8AC69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CD19-3749-49C4-B53C-9F1DE43D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101-E9D2-45EA-B9E3-C2621AE8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21CC-464C-476B-BBE8-0EF57CD7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2E63-B225-4C85-9E62-C226B9F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065D-07CD-497A-830B-C291DB8E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90B9-19D8-42CD-937D-57A2CEC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4FE3-6A63-4EDA-A6BE-D95DC4A9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2E78-1F0C-47B3-A990-1DDDC767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AE16-C4D7-4576-95E8-385BCC84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DFC2B-82C4-46B5-BE58-E5F783D8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5EF7-DF9B-465B-BBF4-4F5A0135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5E9E1-E38F-4455-BBE2-D9CBDF5F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BCB-CFD2-4D92-AF98-51B625B1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7290-F776-4CF8-9C06-30A67BA7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4776-1501-485D-8A77-86C33D59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9531-DD4E-4B91-8729-23788F10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A577-C990-4E58-B8AA-83170134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942F-A59D-4416-9C86-CA1973A4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DAF6-0132-468F-9470-017FEB0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F85F-A8C8-4C12-9646-A10C9AF6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9DAD-2677-41CB-8831-B2C36E57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3567-A632-4A60-B909-6453ABD0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F1D-4D8F-4C02-9274-538F2E4A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FFA-879E-41A5-8C07-6BA46AFC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36F-8731-4DF7-BACC-E1BAD7D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063-25B7-41BE-BC28-47EA1CA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7E9-84C4-4E22-8786-D774F17E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2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285-81C2-42FD-8087-AC760136CDD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AAB5-AE46-4804-9230-3C55F01743E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94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95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1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5A9B-8D52-4698-BB04-102462463AC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6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BC63-ADF8-4980-851B-201EF17D819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286000" y="1285920"/>
            <a:ext cx="3357720" cy="5049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7"/>
          <p:cNvSpPr txBox="1"/>
          <p:nvPr/>
        </p:nvSpPr>
        <p:spPr>
          <a:xfrm>
            <a:off x="82692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1" name="WordArt 21"/>
          <p:cNvSpPr txBox="1"/>
          <p:nvPr/>
        </p:nvSpPr>
        <p:spPr>
          <a:xfrm>
            <a:off x="468360" y="1484280"/>
            <a:ext cx="753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日常生活サポーター制度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2" name="WordArt 23"/>
          <p:cNvSpPr txBox="1"/>
          <p:nvPr/>
        </p:nvSpPr>
        <p:spPr>
          <a:xfrm>
            <a:off x="2357280" y="5643720"/>
            <a:ext cx="511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　大坪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3" name="WordArt 24"/>
          <p:cNvSpPr txBox="1"/>
          <p:nvPr/>
        </p:nvSpPr>
        <p:spPr>
          <a:xfrm>
            <a:off x="642960" y="578628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785880" y="4489560"/>
            <a:ext cx="157140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1"/>
          <p:cNvSpPr txBox="1"/>
          <p:nvPr/>
        </p:nvSpPr>
        <p:spPr>
          <a:xfrm>
            <a:off x="611280" y="476280"/>
            <a:ext cx="2071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16" name="WordArt 11" descr=""/>
          <p:cNvPicPr/>
          <p:nvPr/>
        </p:nvPicPr>
        <p:blipFill>
          <a:blip r:embed="rId2"/>
          <a:stretch/>
        </p:blipFill>
        <p:spPr>
          <a:xfrm>
            <a:off x="1030320" y="1328760"/>
            <a:ext cx="657684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000080" y="171468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642960" y="2786040"/>
            <a:ext cx="3357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木の剪定・消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0" name="WordArt 7" descr=""/>
          <p:cNvPicPr/>
          <p:nvPr/>
        </p:nvPicPr>
        <p:blipFill>
          <a:blip r:embed="rId1"/>
          <a:stretch/>
        </p:blipFill>
        <p:spPr>
          <a:xfrm>
            <a:off x="5132520" y="4986360"/>
            <a:ext cx="2238120" cy="744480"/>
          </a:xfrm>
          <a:prstGeom prst="rect">
            <a:avLst/>
          </a:prstGeom>
          <a:ln w="0">
            <a:noFill/>
          </a:ln>
        </p:spPr>
      </p:pic>
      <p:pic>
        <p:nvPicPr>
          <p:cNvPr id="221" name="図 5" descr="20091008185817_00004.jpg"/>
          <p:cNvPicPr/>
          <p:nvPr/>
        </p:nvPicPr>
        <p:blipFill>
          <a:blip r:embed="rId2"/>
          <a:stretch/>
        </p:blipFill>
        <p:spPr>
          <a:xfrm>
            <a:off x="428760" y="3429000"/>
            <a:ext cx="4546440" cy="3214800"/>
          </a:xfrm>
          <a:prstGeom prst="rect">
            <a:avLst/>
          </a:prstGeom>
          <a:ln w="0">
            <a:noFill/>
          </a:ln>
        </p:spPr>
      </p:pic>
      <p:pic>
        <p:nvPicPr>
          <p:cNvPr id="222" name="図 6" descr="20091008185817_00006 - コピー.jpg"/>
          <p:cNvPicPr/>
          <p:nvPr/>
        </p:nvPicPr>
        <p:blipFill>
          <a:blip r:embed="rId3"/>
          <a:stretch/>
        </p:blipFill>
        <p:spPr>
          <a:xfrm>
            <a:off x="4429080" y="2000160"/>
            <a:ext cx="4175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000080" y="142884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714240" y="1928880"/>
            <a:ext cx="3571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公園のベンチ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6" name="図 7" descr="20091008185817_00005.jpg"/>
          <p:cNvPicPr/>
          <p:nvPr/>
        </p:nvPicPr>
        <p:blipFill>
          <a:blip r:embed="rId1"/>
          <a:stretch/>
        </p:blipFill>
        <p:spPr>
          <a:xfrm>
            <a:off x="714240" y="2714760"/>
            <a:ext cx="40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27" name="図 8" descr="20091008185817_00007 - コピー (2) - コピー - コピー.jpg"/>
          <p:cNvPicPr/>
          <p:nvPr/>
        </p:nvPicPr>
        <p:blipFill>
          <a:blip r:embed="rId2"/>
          <a:stretch/>
        </p:blipFill>
        <p:spPr>
          <a:xfrm>
            <a:off x="6429240" y="1500120"/>
            <a:ext cx="2071800" cy="1527120"/>
          </a:xfrm>
          <a:prstGeom prst="rect">
            <a:avLst/>
          </a:prstGeom>
          <a:ln w="0">
            <a:noFill/>
          </a:ln>
        </p:spPr>
      </p:pic>
      <p:pic>
        <p:nvPicPr>
          <p:cNvPr id="228" name="図 9" descr="20091008185817_00007 - コピー (3) - コピー.jpg"/>
          <p:cNvPicPr/>
          <p:nvPr/>
        </p:nvPicPr>
        <p:blipFill>
          <a:blip r:embed="rId3"/>
          <a:stretch/>
        </p:blipFill>
        <p:spPr>
          <a:xfrm>
            <a:off x="5357880" y="2857680"/>
            <a:ext cx="2065320" cy="1645920"/>
          </a:xfrm>
          <a:prstGeom prst="rect">
            <a:avLst/>
          </a:prstGeom>
          <a:ln w="0">
            <a:noFill/>
          </a:ln>
        </p:spPr>
      </p:pic>
      <p:pic>
        <p:nvPicPr>
          <p:cNvPr id="229" name="図 10" descr="20091008185817_00007 - コピー (4) - コピー.jpg"/>
          <p:cNvPicPr/>
          <p:nvPr/>
        </p:nvPicPr>
        <p:blipFill>
          <a:blip r:embed="rId4"/>
          <a:stretch/>
        </p:blipFill>
        <p:spPr>
          <a:xfrm>
            <a:off x="4429080" y="4429080"/>
            <a:ext cx="1598760" cy="2124000"/>
          </a:xfrm>
          <a:prstGeom prst="rect">
            <a:avLst/>
          </a:prstGeom>
          <a:ln w="0">
            <a:noFill/>
          </a:ln>
        </p:spPr>
      </p:pic>
      <p:sp>
        <p:nvSpPr>
          <p:cNvPr id="230" name="左カーブ矢印 12"/>
          <p:cNvSpPr/>
          <p:nvPr/>
        </p:nvSpPr>
        <p:spPr>
          <a:xfrm rot="1872600">
            <a:off x="6948000" y="2854440"/>
            <a:ext cx="1009800" cy="3662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820800 h 3662280"/>
              <a:gd name="textAreaBottom" fmla="*/ 2715480 h 36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3603643"/>
                <a:lnTo>
                  <a:pt x="5400" y="21293"/>
                </a:lnTo>
                <a:lnTo>
                  <a:pt x="0" y="20112"/>
                </a:lnTo>
                <a:lnTo>
                  <a:pt x="5400" y="18316"/>
                </a:lnTo>
                <a:lnTo>
                  <a:pt x="5400" y="19060"/>
                </a:lnTo>
                <a:arcTo wR="21600" hR="9684" stAng="3603643" swAng="-3484848"/>
                <a:lnTo>
                  <a:pt x="21536" y="10428"/>
                </a:lnTo>
                <a:arcTo wR="21600" hR="9684" stAng="-118795" swAng="-5281205"/>
                <a:close/>
              </a:path>
              <a:path fill="darkenLess"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-118795"/>
                <a:lnTo>
                  <a:pt x="21536" y="10428"/>
                </a:lnTo>
                <a:arcTo wR="21600" hR="9684" stAng="-118795" swAng="-5281205"/>
                <a:close/>
              </a:path>
            </a:pathLst>
          </a:custGeom>
          <a:solidFill>
            <a:srgbClr val="e2c77c"/>
          </a:solidFill>
          <a:ln w="25560">
            <a:solidFill>
              <a:srgbClr val="a69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00040" y="5857920"/>
            <a:ext cx="3857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こんなにキレイになりま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571680" y="157176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4" name="WordArt 6" descr=""/>
          <p:cNvPicPr/>
          <p:nvPr/>
        </p:nvPicPr>
        <p:blipFill>
          <a:blip r:embed="rId1"/>
          <a:stretch/>
        </p:blipFill>
        <p:spPr>
          <a:xfrm>
            <a:off x="774720" y="2200320"/>
            <a:ext cx="2309760" cy="6714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4000680" y="5286240"/>
            <a:ext cx="3214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門扉の修理・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6" name="図 7" descr="20091008185817_00007 - コピー.jpg"/>
          <p:cNvPicPr/>
          <p:nvPr/>
        </p:nvPicPr>
        <p:blipFill>
          <a:blip r:embed="rId2"/>
          <a:stretch/>
        </p:blipFill>
        <p:spPr>
          <a:xfrm>
            <a:off x="928800" y="3000240"/>
            <a:ext cx="2315880" cy="3654720"/>
          </a:xfrm>
          <a:prstGeom prst="rect">
            <a:avLst/>
          </a:prstGeom>
          <a:ln w="0">
            <a:noFill/>
          </a:ln>
        </p:spPr>
      </p:pic>
      <p:pic>
        <p:nvPicPr>
          <p:cNvPr id="237" name="図 8" descr="20091008185817_00007.jpg"/>
          <p:cNvPicPr/>
          <p:nvPr/>
        </p:nvPicPr>
        <p:blipFill>
          <a:blip r:embed="rId3"/>
          <a:stretch/>
        </p:blipFill>
        <p:spPr>
          <a:xfrm>
            <a:off x="3643200" y="1643040"/>
            <a:ext cx="491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11"/>
          <p:cNvSpPr txBox="1"/>
          <p:nvPr/>
        </p:nvSpPr>
        <p:spPr>
          <a:xfrm>
            <a:off x="500040" y="642960"/>
            <a:ext cx="44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サポートアイデア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928800" y="1785960"/>
            <a:ext cx="4500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・垣根の手入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1000080" y="2714760"/>
            <a:ext cx="3929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自転車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1000080" y="3571920"/>
            <a:ext cx="5143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ゴミ置き場覆い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1071720" y="4357800"/>
            <a:ext cx="514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火災報知機の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1143000" y="5143680"/>
            <a:ext cx="4500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エトセトラ・・・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462320" cy="1086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38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1"/>
          <p:cNvSpPr txBox="1"/>
          <p:nvPr/>
        </p:nvSpPr>
        <p:spPr>
          <a:xfrm>
            <a:off x="68436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2852640"/>
            <a:ext cx="5327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先進地域の調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971640" y="3933720"/>
            <a:ext cx="68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ニーズを掘り起こすアンケート調査実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3924360" y="537372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57280" cy="1079640"/>
          </a:xfrm>
          <a:prstGeom prst="rect">
            <a:avLst/>
          </a:prstGeom>
          <a:ln w="0">
            <a:noFill/>
          </a:ln>
        </p:spPr>
      </p:pic>
      <p:sp>
        <p:nvSpPr>
          <p:cNvPr id="251" name="WordArt 11"/>
          <p:cNvSpPr txBox="1"/>
          <p:nvPr/>
        </p:nvSpPr>
        <p:spPr>
          <a:xfrm>
            <a:off x="1116000" y="1700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調査関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042920" y="270828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の事例をまとめ情報提供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1042920" y="3933720"/>
            <a:ext cx="54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他地域との意見交換会開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 rot="2760000">
            <a:off x="4754880" y="4901400"/>
            <a:ext cx="143352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1"/>
          <p:cNvSpPr txBox="1"/>
          <p:nvPr/>
        </p:nvSpPr>
        <p:spPr>
          <a:xfrm>
            <a:off x="1042920" y="184464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意見交換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7" name="Picture 16" descr="j0335314[1]"/>
          <p:cNvPicPr/>
          <p:nvPr/>
        </p:nvPicPr>
        <p:blipFill>
          <a:blip r:embed="rId2"/>
          <a:stretch/>
        </p:blipFill>
        <p:spPr>
          <a:xfrm rot="19645800">
            <a:off x="6094440" y="514440"/>
            <a:ext cx="1509840" cy="1511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j0346747[1]"/>
          <p:cNvPicPr/>
          <p:nvPr/>
        </p:nvPicPr>
        <p:blipFill>
          <a:blip r:embed="rId3"/>
          <a:stretch/>
        </p:blipFill>
        <p:spPr>
          <a:xfrm>
            <a:off x="1763640" y="5157720"/>
            <a:ext cx="9604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0" name="WordArt 11"/>
          <p:cNvSpPr txBox="1"/>
          <p:nvPr/>
        </p:nvSpPr>
        <p:spPr>
          <a:xfrm>
            <a:off x="900000" y="1844640"/>
            <a:ext cx="4500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仕組み作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1116000" y="2997360"/>
            <a:ext cx="69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生活サポーター制度仕組み作りの協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41497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広報活動によりボランティアを募集・登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63" name="Picture 15" descr="j0412662[1]"/>
          <p:cNvPicPr/>
          <p:nvPr/>
        </p:nvPicPr>
        <p:blipFill>
          <a:blip r:embed="rId1"/>
          <a:stretch/>
        </p:blipFill>
        <p:spPr>
          <a:xfrm rot="18363000">
            <a:off x="6723720" y="771480"/>
            <a:ext cx="124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j0293600[1]"/>
          <p:cNvPicPr/>
          <p:nvPr/>
        </p:nvPicPr>
        <p:blipFill>
          <a:blip r:embed="rId2"/>
          <a:stretch/>
        </p:blipFill>
        <p:spPr>
          <a:xfrm rot="1420800">
            <a:off x="1402920" y="5373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j0360027[1]"/>
          <p:cNvPicPr/>
          <p:nvPr/>
        </p:nvPicPr>
        <p:blipFill>
          <a:blip r:embed="rId3"/>
          <a:stretch/>
        </p:blipFill>
        <p:spPr>
          <a:xfrm rot="20354400">
            <a:off x="5724360" y="537336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0T13:47:04Z</dcterms:modified>
  <cp:revision>54</cp:revision>
  <dc:subject/>
  <dc:title> </dc:title>
</cp:coreProperties>
</file>