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8388" cy="30243463"/>
  <p:notesSz cx="10047288" cy="1447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DF9-47F5-40E6-9903-49FF649B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450-8C6A-47E4-9B79-55E261D3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012-0443-4717-8A3C-AD5E3547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764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536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92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764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536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9A0-0CBC-4224-87F5-A10F4C0F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588-4CB9-4F4B-8D5B-BFDBC2ED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903-7F3C-4B45-8C31-A486D868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B6F-5A22-45F0-B062-EB351DA0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C3A-99C9-4FED-8AA5-A3227770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920" y="1211400"/>
            <a:ext cx="192470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FEA-188D-4A9E-B120-989AD13C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363-89EE-41CF-910F-CC11F24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017-0794-465A-B49E-3E2938FB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DC1-67C3-4B57-986C-8A11A4B5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marL="1152360" indent="-115236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2496960" indent="-9601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3841920" indent="-7686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5378400" indent="-768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92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7280" y="27541440"/>
            <a:ext cx="677232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736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fld id="{F697A1FA-A8B8-4733-8860-9BA7283AB6A1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4720" y="336600"/>
            <a:ext cx="19010160" cy="201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中山間地の環境保全と集約型農業の促進を目的とした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地域ネットワーク型の農業法人組織化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70840" y="2430360"/>
            <a:ext cx="110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案者：伊東明彦（守谷環境情報ネットワーク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3360600"/>
            <a:ext cx="10117080" cy="97441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080" y="348444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課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440" y="4545000"/>
            <a:ext cx="92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守谷市では、中山間地における放棄地が多く散在しており、守谷の景観を代表する里山風景や、地域の自然環境が減少してきてい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72579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農地の多くは、私有地であり、個々の耕作者の意識に頼らざるを得ない。一個人や地域に根付いた環境団体のみの活動では、解決することが困難なことから、行政面での支援が必要と言え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2720" y="6384960"/>
            <a:ext cx="1568520" cy="676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2720" y="9648720"/>
            <a:ext cx="4248360" cy="297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92720" y="9648720"/>
            <a:ext cx="4321080" cy="302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92360" y="1263492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棄地のイメ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053800" y="3360600"/>
            <a:ext cx="10117080" cy="9744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98160" y="356220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98160" y="4502160"/>
            <a:ext cx="993636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耕作放棄地の環境保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（里山の景観改善を含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経済課の支援を頂き、耕作放棄地を把握し、耕作の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約化ができないか、検討を実施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就労者としての雇用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把握した耕作放棄地を利用する組織として、地域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民を主体とした地域ネットワークを形成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を軸とした地域ブランドの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耕作する作物として、地域ブランド化できる作物を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索すると共に、その事業展開を検討する。また、農業を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観光資源として捉え、つくばエクスプレス、常磐高速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路、守谷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連携したグリーン・ツーリズム化を目指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1557080" y="10514160"/>
            <a:ext cx="3889440" cy="24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6741800" y="10441080"/>
            <a:ext cx="4240080" cy="262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589080" y="11157120"/>
            <a:ext cx="863640" cy="739440"/>
          </a:xfrm>
          <a:prstGeom prst="rightArrow">
            <a:avLst>
              <a:gd name="adj1" fmla="val 50000"/>
              <a:gd name="adj2" fmla="val 29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393800"/>
            <a:ext cx="20810520" cy="127015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1350792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具体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277840"/>
            <a:ext cx="9577080" cy="3427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96720" y="15122520"/>
            <a:ext cx="6408720" cy="637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720" y="143827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耕作放棄地の環境保全（国の施策を可能な限り利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24000" y="21640680"/>
            <a:ext cx="9364680" cy="376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7160" y="25404840"/>
            <a:ext cx="669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農林水産省 耕作放棄地の再生利用のため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www.maff.go.jp/j/nousin/tikei/houkiti/pdf/zsankou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5440" y="15189120"/>
            <a:ext cx="2880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守谷市の担当課に協力を依頼し、耕作放棄地の特定、地権者との調整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117080" y="143161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就労者の雇用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10477440" y="16465680"/>
            <a:ext cx="9163080" cy="492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333080" y="14920920"/>
            <a:ext cx="10513800" cy="825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農業法人は、既存の法人を中心に実施して頂くことを予定しているが、既存の農業法人では難しい場合には、新たに農業法人を組織する。また、就労者は、住民を主体とし、地域ネットワークを形成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下記は、埼玉県のナガホリファームの例で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のパート職員がいる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117080" y="2190924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を軸とした地域ブランドの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709440" y="2143908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members.jcom.home.ne.jp/nou_nagahori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117080" y="26076240"/>
            <a:ext cx="10945800" cy="36291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10549080" y="22898160"/>
            <a:ext cx="5111640" cy="378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557080" y="22783680"/>
            <a:ext cx="1944720" cy="178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269800" y="22356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つくばエクスプレ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33080" y="267890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守谷サービス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621800" y="25202880"/>
            <a:ext cx="1800360" cy="15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781080" y="24796800"/>
            <a:ext cx="1008000" cy="20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06520" y="22380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国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94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57080" y="26882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常磐自動車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06160" y="27352800"/>
            <a:ext cx="532908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道路・鉄道網の整備が進んでいることから、これらの利点を活かした街作り・グリーン・ツーリズムを計画する。また、守谷の気象・土壌等を活かしたブランド作物の創出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3789080" y="22850640"/>
            <a:ext cx="504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57440" y="27352800"/>
            <a:ext cx="478944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都心の会社員でも社内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自宅から、常時、ほ場の状態を把握することが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720" y="26411400"/>
            <a:ext cx="3544920" cy="750600"/>
          </a:xfrm>
          <a:prstGeom prst="roundRect">
            <a:avLst>
              <a:gd name="adj" fmla="val 50000"/>
            </a:avLst>
          </a:prstGeom>
          <a:solidFill>
            <a:srgbClr val="ff66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効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9889200" y="6142320"/>
            <a:ext cx="14634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58960" y="128048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7080" y="259430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16022520" y="22898160"/>
            <a:ext cx="3095640" cy="2166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17822880" y="24731640"/>
            <a:ext cx="3095640" cy="2263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2720" y="274208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2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耕作放棄地の環境保全（里山の景観維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3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業就労者としての雇用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4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作物の地域ブランドの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2:12:44Z</dcterms:created>
  <dc:creator>u9977011</dc:creator>
  <dc:description/>
  <dc:language>en-US</dc:language>
  <cp:lastModifiedBy>tamotsu</cp:lastModifiedBy>
  <dcterms:modified xsi:type="dcterms:W3CDTF">2009-11-11T14:59:36Z</dcterms:modified>
  <cp:revision>8</cp:revision>
  <dc:subject/>
  <dc:title>スライド 1</dc:title>
</cp:coreProperties>
</file>