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6D5-D87B-4217-A021-76298886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1D1-1005-4CC0-861E-922D3070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8E2-5A55-4778-B072-C763838A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A8C-6115-4618-AFFE-C689116B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15F-3B49-405D-86A7-02A7D362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2D5-94DA-4B5B-B97D-33B05469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C50-E47F-4F51-9BD6-6E281B4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CD2-91B2-494D-8860-C8531B03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372-54F1-4432-8552-EBDD0A96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88D-480F-4027-8027-8633415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4EE-7D68-40D7-B749-72510E1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C21-88EF-4842-BC3B-3B21619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BE4D-0CB4-40F3-8AE4-F5EBAA15D0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2.wmf"/><Relationship Id="rId25" Type="http://schemas.openxmlformats.org/officeDocument/2006/relationships/image" Target="../media/image23.wmf"/><Relationship Id="rId26" Type="http://schemas.openxmlformats.org/officeDocument/2006/relationships/image" Target="../media/image16.wmf"/><Relationship Id="rId27" Type="http://schemas.openxmlformats.org/officeDocument/2006/relationships/image" Target="../media/image24.wmf"/><Relationship Id="rId28" Type="http://schemas.openxmlformats.org/officeDocument/2006/relationships/image" Target="../media/image25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守谷総合人生大学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生涯学習の仕組み、学校教育法上の大学ではない）</a:t>
            </a:r>
            <a:br>
              <a:rPr sz="2500"/>
            </a:b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の創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グループ提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会田榮光、片桐真奈美、古橋俊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正方形/長方形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6960" cy="811080"/>
          </a:xfrm>
          <a:prstGeom prst="rect">
            <a:avLst/>
          </a:prstGeom>
          <a:ln w="0">
            <a:noFill/>
          </a:ln>
        </p:spPr>
      </p:pic>
      <p:sp>
        <p:nvSpPr>
          <p:cNvPr id="44" name="ドーナツ 4"/>
          <p:cNvSpPr/>
          <p:nvPr/>
        </p:nvSpPr>
        <p:spPr>
          <a:xfrm>
            <a:off x="642960" y="1000080"/>
            <a:ext cx="7715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守谷総合人生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furuhashi\Local Settings\Temporary Internet Files\Content.IE5\VXOR3GV9\MCj04342250000[1].wmf"/>
          <p:cNvPicPr/>
          <p:nvPr/>
        </p:nvPicPr>
        <p:blipFill>
          <a:blip r:embed="rId2"/>
          <a:stretch/>
        </p:blipFill>
        <p:spPr>
          <a:xfrm>
            <a:off x="2071800" y="785880"/>
            <a:ext cx="85716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Documents and Settings\furuhashi\Local Settings\Temporary Internet Files\Content.IE5\OB0J42K1\MCj04321170000[1].wmf"/>
          <p:cNvPicPr/>
          <p:nvPr/>
        </p:nvPicPr>
        <p:blipFill>
          <a:blip r:embed="rId3"/>
          <a:stretch/>
        </p:blipFill>
        <p:spPr>
          <a:xfrm>
            <a:off x="5786280" y="78588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furuhashi\Local Settings\Temporary Internet Files\Content.IE5\UT23Q3EZ\MCj04304320000[1].wmf"/>
          <p:cNvPicPr/>
          <p:nvPr/>
        </p:nvPicPr>
        <p:blipFill>
          <a:blip r:embed="rId4"/>
          <a:stretch/>
        </p:blipFill>
        <p:spPr>
          <a:xfrm>
            <a:off x="6643800" y="1500120"/>
            <a:ext cx="94752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furuhashi\Local Settings\Temporary Internet Files\Content.IE5\W3M9Y9S3\MCj04342230000[1].wmf"/>
          <p:cNvPicPr/>
          <p:nvPr/>
        </p:nvPicPr>
        <p:blipFill>
          <a:blip r:embed="rId5"/>
          <a:stretch/>
        </p:blipFill>
        <p:spPr>
          <a:xfrm>
            <a:off x="4000680" y="1643040"/>
            <a:ext cx="10000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Documents and Settings\furuhashi\Local Settings\Temporary Internet Files\Content.IE5\IB8VAHUV\MCj04342210000[1].wmf"/>
          <p:cNvPicPr/>
          <p:nvPr/>
        </p:nvPicPr>
        <p:blipFill>
          <a:blip r:embed="rId6"/>
          <a:stretch/>
        </p:blipFill>
        <p:spPr>
          <a:xfrm>
            <a:off x="1285920" y="1500120"/>
            <a:ext cx="928800" cy="5968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684840" y="2000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郷州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3970440" y="22147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2"/>
          <p:cNvSpPr/>
          <p:nvPr/>
        </p:nvSpPr>
        <p:spPr>
          <a:xfrm>
            <a:off x="1466280" y="20350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駅前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3"/>
          <p:cNvSpPr/>
          <p:nvPr/>
        </p:nvSpPr>
        <p:spPr>
          <a:xfrm>
            <a:off x="5890680" y="1316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4"/>
          <p:cNvSpPr/>
          <p:nvPr/>
        </p:nvSpPr>
        <p:spPr>
          <a:xfrm>
            <a:off x="2123640" y="136692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北守谷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角丸四角形 13"/>
          <p:cNvSpPr/>
          <p:nvPr/>
        </p:nvSpPr>
        <p:spPr>
          <a:xfrm>
            <a:off x="357120" y="3786120"/>
            <a:ext cx="8358120" cy="100008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角丸四角形 14"/>
          <p:cNvSpPr/>
          <p:nvPr/>
        </p:nvSpPr>
        <p:spPr>
          <a:xfrm>
            <a:off x="285840" y="4929120"/>
            <a:ext cx="8572320" cy="1785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上矢印 15"/>
          <p:cNvSpPr/>
          <p:nvPr/>
        </p:nvSpPr>
        <p:spPr>
          <a:xfrm>
            <a:off x="3571920" y="2428920"/>
            <a:ext cx="1928880" cy="2428920"/>
          </a:xfrm>
          <a:prstGeom prst="upArrow">
            <a:avLst>
              <a:gd name="adj1" fmla="val 50056"/>
              <a:gd name="adj2" fmla="val 363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矢印 28"/>
          <p:cNvSpPr/>
          <p:nvPr/>
        </p:nvSpPr>
        <p:spPr>
          <a:xfrm rot="2914200">
            <a:off x="3472920" y="3178080"/>
            <a:ext cx="268560" cy="811440"/>
          </a:xfrm>
          <a:prstGeom prst="upArrow">
            <a:avLst>
              <a:gd name="adj1" fmla="val 36528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上矢印 29"/>
          <p:cNvSpPr/>
          <p:nvPr/>
        </p:nvSpPr>
        <p:spPr>
          <a:xfrm rot="18673200">
            <a:off x="5332320" y="3175920"/>
            <a:ext cx="266760" cy="812880"/>
          </a:xfrm>
          <a:prstGeom prst="upArrow">
            <a:avLst>
              <a:gd name="adj1" fmla="val 36528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0"/>
          <p:cNvSpPr/>
          <p:nvPr/>
        </p:nvSpPr>
        <p:spPr>
          <a:xfrm>
            <a:off x="341676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50"/>
          <p:cNvSpPr/>
          <p:nvPr/>
        </p:nvSpPr>
        <p:spPr>
          <a:xfrm>
            <a:off x="534528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2"/>
          <p:cNvSpPr/>
          <p:nvPr/>
        </p:nvSpPr>
        <p:spPr>
          <a:xfrm>
            <a:off x="160668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優秀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33"/>
          <p:cNvSpPr/>
          <p:nvPr/>
        </p:nvSpPr>
        <p:spPr>
          <a:xfrm>
            <a:off x="639396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豊富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C:\Documents and Settings\furuhashi\Local Settings\Temporary Internet Files\Content.IE5\TF578NDE\MCj03980970000[1].wmf"/>
          <p:cNvPicPr/>
          <p:nvPr/>
        </p:nvPicPr>
        <p:blipFill>
          <a:blip r:embed="rId7"/>
          <a:stretch/>
        </p:blipFill>
        <p:spPr>
          <a:xfrm>
            <a:off x="714240" y="4214880"/>
            <a:ext cx="50004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C:\Documents and Settings\furuhashi\Local Settings\Temporary Internet Files\Content.IE5\N9X2A0GX\MCj03984230000[1].wmf"/>
          <p:cNvPicPr/>
          <p:nvPr/>
        </p:nvPicPr>
        <p:blipFill>
          <a:blip r:embed="rId8"/>
          <a:stretch/>
        </p:blipFill>
        <p:spPr>
          <a:xfrm>
            <a:off x="1357200" y="41432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C:\Documents and Settings\furuhashi\Local Settings\Temporary Internet Files\Content.IE5\3I5USRKV\MCj03980810000[1].wmf"/>
          <p:cNvPicPr/>
          <p:nvPr/>
        </p:nvPicPr>
        <p:blipFill>
          <a:blip r:embed="rId9"/>
          <a:stretch/>
        </p:blipFill>
        <p:spPr>
          <a:xfrm>
            <a:off x="1857240" y="4214880"/>
            <a:ext cx="362160" cy="50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C:\Documents and Settings\furuhashi\Local Settings\Temporary Internet Files\Content.IE5\OB0J42K1\MCj03981030000[1].wmf"/>
          <p:cNvPicPr/>
          <p:nvPr/>
        </p:nvPicPr>
        <p:blipFill>
          <a:blip r:embed="rId10"/>
          <a:stretch/>
        </p:blipFill>
        <p:spPr>
          <a:xfrm>
            <a:off x="2357280" y="4214880"/>
            <a:ext cx="428760" cy="43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C:\Documents and Settings\furuhashi\Local Settings\Temporary Internet Files\Content.IE5\KOWLFU6R\MCj03983930000[1].wmf"/>
          <p:cNvPicPr/>
          <p:nvPr/>
        </p:nvPicPr>
        <p:blipFill>
          <a:blip r:embed="rId11"/>
          <a:stretch/>
        </p:blipFill>
        <p:spPr>
          <a:xfrm>
            <a:off x="2928960" y="4205160"/>
            <a:ext cx="4287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C:\Documents and Settings\furuhashi\Local Settings\Temporary Internet Files\Content.IE5\A2C59098\MCj04263620000[1].wmf"/>
          <p:cNvPicPr/>
          <p:nvPr/>
        </p:nvPicPr>
        <p:blipFill>
          <a:blip r:embed="rId12"/>
          <a:stretch/>
        </p:blipFill>
        <p:spPr>
          <a:xfrm>
            <a:off x="3500280" y="4214880"/>
            <a:ext cx="21456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C:\Documents and Settings\furuhashi\Local Settings\Temporary Internet Files\Content.IE5\GFNAG2W6\MCj03980910000[1].wmf"/>
          <p:cNvPicPr/>
          <p:nvPr/>
        </p:nvPicPr>
        <p:blipFill>
          <a:blip r:embed="rId13"/>
          <a:stretch/>
        </p:blipFill>
        <p:spPr>
          <a:xfrm>
            <a:off x="5286240" y="4214880"/>
            <a:ext cx="29700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C:\Documents and Settings\furuhashi\Local Settings\Temporary Internet Files\Content.IE5\YGGOXVRL\MCj03981370000[1].wmf"/>
          <p:cNvPicPr/>
          <p:nvPr/>
        </p:nvPicPr>
        <p:blipFill>
          <a:blip r:embed="rId14"/>
          <a:stretch/>
        </p:blipFill>
        <p:spPr>
          <a:xfrm>
            <a:off x="5786280" y="4214880"/>
            <a:ext cx="5004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C:\Documents and Settings\furuhashi\Local Settings\Temporary Internet Files\Content.IE5\E0389QF9\MCj03983830000[1].wmf"/>
          <p:cNvPicPr/>
          <p:nvPr/>
        </p:nvPicPr>
        <p:blipFill>
          <a:blip r:embed="rId15"/>
          <a:stretch/>
        </p:blipFill>
        <p:spPr>
          <a:xfrm>
            <a:off x="6286680" y="4214880"/>
            <a:ext cx="576000" cy="48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Documents and Settings\furuhashi\Local Settings\Temporary Internet Files\Content.IE5\UT23Q3EZ\MCj03980890000[1].wmf"/>
          <p:cNvPicPr/>
          <p:nvPr/>
        </p:nvPicPr>
        <p:blipFill>
          <a:blip r:embed="rId16"/>
          <a:stretch/>
        </p:blipFill>
        <p:spPr>
          <a:xfrm>
            <a:off x="7000920" y="4214880"/>
            <a:ext cx="376200" cy="43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Documents and Settings\furuhashi\Local Settings\Temporary Internet Files\Content.IE5\UOHJ5HHE\MCj03984170000[1].wmf"/>
          <p:cNvPicPr/>
          <p:nvPr/>
        </p:nvPicPr>
        <p:blipFill>
          <a:blip r:embed="rId17"/>
          <a:stretch/>
        </p:blipFill>
        <p:spPr>
          <a:xfrm>
            <a:off x="7572240" y="4214880"/>
            <a:ext cx="212760" cy="5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Documents and Settings\furuhashi\Local Settings\Temporary Internet Files\Content.IE5\VXOR3GV9\MCj03984050000[1].wmf"/>
          <p:cNvPicPr/>
          <p:nvPr/>
        </p:nvPicPr>
        <p:blipFill>
          <a:blip r:embed="rId18"/>
          <a:stretch/>
        </p:blipFill>
        <p:spPr>
          <a:xfrm>
            <a:off x="7929720" y="4143240"/>
            <a:ext cx="42840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円/楕円 46"/>
          <p:cNvSpPr/>
          <p:nvPr/>
        </p:nvSpPr>
        <p:spPr>
          <a:xfrm>
            <a:off x="4287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2149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Documents and Settings\furuhashi\Local Settings\Temporary Internet Files\Content.IE5\TF578NDE\MCj03334040000[1].wmf"/>
          <p:cNvPicPr/>
          <p:nvPr/>
        </p:nvPicPr>
        <p:blipFill>
          <a:blip r:embed="rId19"/>
          <a:stretch/>
        </p:blipFill>
        <p:spPr>
          <a:xfrm>
            <a:off x="185724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Documents and Settings\furuhashi\Local Settings\Temporary Internet Files\Content.IE5\TF578NDE\MCj03334040000[1].wmf"/>
          <p:cNvPicPr/>
          <p:nvPr/>
        </p:nvPicPr>
        <p:blipFill>
          <a:blip r:embed="rId20"/>
          <a:stretch/>
        </p:blipFill>
        <p:spPr>
          <a:xfrm>
            <a:off x="428616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" descr="C:\Documents and Settings\furuhashi\Local Settings\Temporary Internet Files\Content.IE5\TF578NDE\MCj03334040000[1].wmf"/>
          <p:cNvPicPr/>
          <p:nvPr/>
        </p:nvPicPr>
        <p:blipFill>
          <a:blip r:embed="rId21"/>
          <a:stretch/>
        </p:blipFill>
        <p:spPr>
          <a:xfrm>
            <a:off x="6715080" y="5715000"/>
            <a:ext cx="743040" cy="40644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9"/>
          <p:cNvSpPr/>
          <p:nvPr/>
        </p:nvSpPr>
        <p:spPr>
          <a:xfrm>
            <a:off x="80100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都市整備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9"/>
          <p:cNvSpPr/>
          <p:nvPr/>
        </p:nvSpPr>
        <p:spPr>
          <a:xfrm>
            <a:off x="244404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保健福祉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29"/>
          <p:cNvSpPr/>
          <p:nvPr/>
        </p:nvSpPr>
        <p:spPr>
          <a:xfrm>
            <a:off x="122976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生活経済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29"/>
          <p:cNvSpPr/>
          <p:nvPr/>
        </p:nvSpPr>
        <p:spPr>
          <a:xfrm>
            <a:off x="301572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教育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24"/>
          <p:cNvSpPr/>
          <p:nvPr/>
        </p:nvSpPr>
        <p:spPr>
          <a:xfrm>
            <a:off x="18576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24"/>
          <p:cNvSpPr/>
          <p:nvPr/>
        </p:nvSpPr>
        <p:spPr>
          <a:xfrm>
            <a:off x="66438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市民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24"/>
          <p:cNvSpPr/>
          <p:nvPr/>
        </p:nvSpPr>
        <p:spPr>
          <a:xfrm>
            <a:off x="4032000" y="6286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市民と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:\Program Files\Microsoft Office\MEDIA\CAGCAT10\j0240719.wmf"/>
          <p:cNvPicPr/>
          <p:nvPr/>
        </p:nvPicPr>
        <p:blipFill>
          <a:blip r:embed="rId22"/>
          <a:stretch/>
        </p:blipFill>
        <p:spPr>
          <a:xfrm>
            <a:off x="5929200" y="5214960"/>
            <a:ext cx="28728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:\Documents and Settings\furuhashi\Local Settings\Temporary Internet Files\Content.IE5\WVI1YLEB\MCj03984090000[1].wmf"/>
          <p:cNvPicPr/>
          <p:nvPr/>
        </p:nvPicPr>
        <p:blipFill>
          <a:blip r:embed="rId23"/>
          <a:stretch/>
        </p:blipFill>
        <p:spPr>
          <a:xfrm>
            <a:off x="5429160" y="5500800"/>
            <a:ext cx="357120" cy="57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C:\Documents and Settings\furuhashi\Local Settings\Temporary Internet Files\Content.IE5\IJMCMQLV\MCj03984130000[1].wmf"/>
          <p:cNvPicPr/>
          <p:nvPr/>
        </p:nvPicPr>
        <p:blipFill>
          <a:blip r:embed="rId24"/>
          <a:stretch/>
        </p:blipFill>
        <p:spPr>
          <a:xfrm>
            <a:off x="5857920" y="6000840"/>
            <a:ext cx="357120" cy="43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:\Documents and Settings\furuhashi\Local Settings\Temporary Internet Files\Content.IE5\BTRNCWZG\MCj04361590000[1].wmf"/>
          <p:cNvPicPr/>
          <p:nvPr/>
        </p:nvPicPr>
        <p:blipFill>
          <a:blip r:embed="rId25"/>
          <a:stretch/>
        </p:blipFill>
        <p:spPr>
          <a:xfrm>
            <a:off x="6357960" y="5143680"/>
            <a:ext cx="309600" cy="37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:\Documents and Settings\furuhashi\Local Settings\Temporary Internet Files\Content.IE5\UT23Q3EZ\MCj03980890000[1].wmf"/>
          <p:cNvPicPr/>
          <p:nvPr/>
        </p:nvPicPr>
        <p:blipFill>
          <a:blip r:embed="rId26"/>
          <a:stretch/>
        </p:blipFill>
        <p:spPr>
          <a:xfrm>
            <a:off x="6858000" y="5072040"/>
            <a:ext cx="4334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C:\Documents and Settings\furuhashi\Local Settings\Temporary Internet Files\Content.IE5\IB8VAHUV\MCj03984210000[1].wmf"/>
          <p:cNvPicPr/>
          <p:nvPr/>
        </p:nvPicPr>
        <p:blipFill>
          <a:blip r:embed="rId27"/>
          <a:stretch/>
        </p:blipFill>
        <p:spPr>
          <a:xfrm>
            <a:off x="7429680" y="5143680"/>
            <a:ext cx="428400" cy="53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C:\Documents and Settings\furuhashi\Local Settings\Temporary Internet Files\Content.IE5\W3M9Y9S3\MCj03980770000[1].wmf"/>
          <p:cNvPicPr/>
          <p:nvPr/>
        </p:nvPicPr>
        <p:blipFill>
          <a:blip r:embed="rId28"/>
          <a:stretch/>
        </p:blipFill>
        <p:spPr>
          <a:xfrm>
            <a:off x="8001000" y="5357880"/>
            <a:ext cx="368280" cy="42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C:\Documents and Settings\furuhashi\Local Settings\Temporary Internet Files\Content.IE5\3I5USRKV\MCj03980810000[1].wmf"/>
          <p:cNvPicPr/>
          <p:nvPr/>
        </p:nvPicPr>
        <p:blipFill>
          <a:blip r:embed="rId29"/>
          <a:stretch/>
        </p:blipFill>
        <p:spPr>
          <a:xfrm>
            <a:off x="7929720" y="5857920"/>
            <a:ext cx="357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守谷総合人生大学のイメージ・・・たたき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856800"/>
            <a:ext cx="8143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キャンパ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公民館や市民活動支援センターをそれぞれキャンパスとして活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市外通勤のサラリーマン向けに、夜間専用の駅前キャンパスを配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受講対象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義務教育終了で、守谷市在住あるいは守谷市の企業等に勤務の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生種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本科生→１年間の規定のカリキュラムを受講するもの・・・・・卒業証書授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ゲスト学生→スポットの講座受講やイベントに参加するも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学習コース（例えば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57160" y="4429080"/>
          <a:ext cx="7500960" cy="192564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本科生向け・・・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コー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ゲスト学生向けコース・・・スポッ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守谷市まちづくり学科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づくりリーダ育成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の案内人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□社会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介護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供支援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物作り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＜現行の講座を有効活用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趣味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育て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スポーツ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パソコン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スケジュー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2960" y="1143000"/>
          <a:ext cx="7858080" cy="4486320"/>
        </p:xfrm>
        <a:graphic>
          <a:graphicData uri="http://schemas.openxmlformats.org/drawingml/2006/table">
            <a:tbl>
              <a:tblPr/>
              <a:tblGrid>
                <a:gridCol w="1309680"/>
                <a:gridCol w="1673280"/>
                <a:gridCol w="4875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実施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初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調査・研究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立ち上げ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準備委員会メンバー編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９名程度（市役所４名、市民４名、アドバイザー１名）　　　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のための調査研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調査結果と実施モデルについての報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設立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行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開校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試行運営開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・・学園祭なども行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卒業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評価と改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⑤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年度以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以降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を開始し、継続的に大学を運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期待効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44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多くの学習メニューから市民の希望に合った学習の機会が得られ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の個性に合った生きがいつくりが可能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な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参加型の生き甲斐作り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学習す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教え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市は、まちづくりや福祉サービス等、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が必要としている協働事業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人材を育成したり、人材を得る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と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受講者のコミュニティ作りを支援すること（卒業生ＯＢ会等）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まちづくりのために積極的に参加してくれる組織や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先導的な組織の構築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最後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00080" y="1000080"/>
            <a:ext cx="7143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事業運営に伴う、市の費用負担は小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事業は既にある市や市民のファシリティや学習資源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活用していくことから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大きな費用は必要ない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更に費用削減の可能性があ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生涯学習は教育委員会以外の市の各部門が個別に関わっ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おり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学を創設し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の一元化を行えば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係わる各部職員の管理作業負荷を削減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き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このことは、市全体としての生涯学習に係わる費用削減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可能性を示してい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2:51Z</dcterms:created>
  <dc:creator>furuhashi</dc:creator>
  <dc:description/>
  <dc:language>en-US</dc:language>
  <cp:lastModifiedBy>furuhashi</cp:lastModifiedBy>
  <dcterms:modified xsi:type="dcterms:W3CDTF">2009-10-13T05:04:48Z</dcterms:modified>
  <cp:revision>39</cp:revision>
  <dc:subject/>
  <dc:title>守谷総合人生大学 （生涯学習の仕組み、学校教育法上の大学ではない） の創設</dc:title>
</cp:coreProperties>
</file>