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09E-05CF-4832-80E5-E0A7903B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688-06B1-4C9C-8EEB-D5125374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3F8-A962-4A60-8249-EFF28BF8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8FE-D2C8-4EF2-8F93-C9B38461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999E-9FEE-41F0-9267-C5DBEB96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8C6C-09C9-4260-89EC-E556D357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02DC-D85B-49D4-A5FD-D084C2ED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081-B267-4D7D-8F21-0A7B2243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81C2-48D2-41E4-B9EB-39DD2DF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A92D-E780-4A29-AED1-0030DC61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8195-638C-446B-BE8B-D86916EB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D18-F54B-470D-AD9D-DE33A495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2FF0-0EC9-463E-B98C-E0212F1D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89AC-7704-4612-BFD2-CAF70F37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77DE-88AD-4F0F-9B7A-A4A5CCE5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3D4A-29C4-4FBB-8C1D-3A392920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357B-E32F-4D47-9639-53AC2E58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4448-59CC-457F-A44E-5D7E60A4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8C6-995D-4BB8-8C19-82F4B349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FDD-6F2D-4727-890B-5CACDF83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031-CBEE-40D3-93C1-256DA085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77E-D6B5-4A25-BD53-533B1C49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23C-AFDA-44A1-A3E7-CADEF12F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7638-639A-47E1-9F3A-C9F30B2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97ED-42D2-4F93-96D2-E0D6D91A25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E0F6-08ED-463D-A094-D9A2DCB62A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1908000" y="1557360"/>
            <a:ext cx="3357720" cy="4729320"/>
          </a:xfrm>
          <a:prstGeom prst="rect">
            <a:avLst/>
          </a:prstGeom>
          <a:ln w="0">
            <a:noFill/>
          </a:ln>
        </p:spPr>
      </p:pic>
      <p:sp>
        <p:nvSpPr>
          <p:cNvPr id="86" name="WordArt 14"/>
          <p:cNvSpPr txBox="1"/>
          <p:nvPr/>
        </p:nvSpPr>
        <p:spPr>
          <a:xfrm>
            <a:off x="519120" y="1557360"/>
            <a:ext cx="7777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集まれ！ヤングオールド球児達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7" name="WordArt 15"/>
          <p:cNvSpPr txBox="1"/>
          <p:nvPr/>
        </p:nvSpPr>
        <p:spPr>
          <a:xfrm>
            <a:off x="2751120" y="5516640"/>
            <a:ext cx="5688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ソフトボールクラブ　今村昌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8" name="WordArt 17"/>
          <p:cNvSpPr txBox="1"/>
          <p:nvPr/>
        </p:nvSpPr>
        <p:spPr>
          <a:xfrm>
            <a:off x="80640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663480" y="573408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3"/>
          <a:stretch/>
        </p:blipFill>
        <p:spPr>
          <a:xfrm>
            <a:off x="5408640" y="3143160"/>
            <a:ext cx="24638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25" descr=""/>
          <p:cNvPicPr/>
          <p:nvPr/>
        </p:nvPicPr>
        <p:blipFill>
          <a:blip r:embed="rId2"/>
          <a:stretch/>
        </p:blipFill>
        <p:spPr>
          <a:xfrm>
            <a:off x="530280" y="1901880"/>
            <a:ext cx="8229600" cy="3913200"/>
          </a:xfrm>
          <a:prstGeom prst="rect">
            <a:avLst/>
          </a:prstGeom>
          <a:ln w="0">
            <a:noFill/>
          </a:ln>
        </p:spPr>
      </p:pic>
      <p:sp>
        <p:nvSpPr>
          <p:cNvPr id="92" name="WordArt 26"/>
          <p:cNvSpPr txBox="1"/>
          <p:nvPr/>
        </p:nvSpPr>
        <p:spPr>
          <a:xfrm>
            <a:off x="611280" y="549360"/>
            <a:ext cx="1585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市の６０歳代は増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3786120" y="2357280"/>
            <a:ext cx="5000760" cy="5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老人になりたくない団塊シルバー世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5" name="Picture 4" descr="C:\Documents and Settings\利用者用\My Documents\My Pictures\image015.gif"/>
          <p:cNvPicPr/>
          <p:nvPr/>
        </p:nvPicPr>
        <p:blipFill>
          <a:blip r:embed="rId2"/>
          <a:stretch/>
        </p:blipFill>
        <p:spPr>
          <a:xfrm>
            <a:off x="1116000" y="1773360"/>
            <a:ext cx="2523960" cy="4114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9"/>
          <p:cNvSpPr txBox="1"/>
          <p:nvPr/>
        </p:nvSpPr>
        <p:spPr>
          <a:xfrm>
            <a:off x="3857760" y="357192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やっぱり若い人に体は付いていか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3857760" y="4572000"/>
            <a:ext cx="500040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にはシルバーソフトボールチームはな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3"/>
          <p:cNvSpPr txBox="1"/>
          <p:nvPr/>
        </p:nvSpPr>
        <p:spPr>
          <a:xfrm>
            <a:off x="285840" y="5000760"/>
            <a:ext cx="15714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野球場入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99" name="Picture 6" descr="DSC_1492"/>
          <p:cNvPicPr/>
          <p:nvPr/>
        </p:nvPicPr>
        <p:blipFill>
          <a:blip r:embed="rId2"/>
          <a:stretch/>
        </p:blipFill>
        <p:spPr>
          <a:xfrm>
            <a:off x="2071800" y="1643040"/>
            <a:ext cx="6626160" cy="4410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7"/>
          <p:cNvSpPr txBox="1"/>
          <p:nvPr/>
        </p:nvSpPr>
        <p:spPr>
          <a:xfrm>
            <a:off x="1571760" y="642960"/>
            <a:ext cx="60451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カッコイイでしょ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1" name="Picture 8" descr="DSC_1404"/>
          <p:cNvPicPr/>
          <p:nvPr/>
        </p:nvPicPr>
        <p:blipFill>
          <a:blip r:embed="rId3"/>
          <a:stretch/>
        </p:blipFill>
        <p:spPr>
          <a:xfrm>
            <a:off x="428760" y="2643120"/>
            <a:ext cx="1398600" cy="20718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2571840" y="5715000"/>
            <a:ext cx="52862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HG創英角ﾎﾟｯﾌﾟ体"/>
              </a:rPr>
              <a:t>われらヤングオール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4" name="WordArt 4"/>
          <p:cNvSpPr txBox="1"/>
          <p:nvPr/>
        </p:nvSpPr>
        <p:spPr>
          <a:xfrm>
            <a:off x="500040" y="5000760"/>
            <a:ext cx="3286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準備体操十分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05" name="Picture 6" descr="DSC_1412"/>
          <p:cNvPicPr/>
          <p:nvPr/>
        </p:nvPicPr>
        <p:blipFill>
          <a:blip r:embed="rId2"/>
          <a:stretch/>
        </p:blipFill>
        <p:spPr>
          <a:xfrm>
            <a:off x="500040" y="1714680"/>
            <a:ext cx="4016520" cy="271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SC_1423"/>
          <p:cNvPicPr/>
          <p:nvPr/>
        </p:nvPicPr>
        <p:blipFill>
          <a:blip r:embed="rId3"/>
          <a:stretch/>
        </p:blipFill>
        <p:spPr>
          <a:xfrm>
            <a:off x="4071960" y="3429000"/>
            <a:ext cx="4429080" cy="29941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5214960" y="2643120"/>
            <a:ext cx="27367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すごい肩慣ら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826920" y="620640"/>
            <a:ext cx="238788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事例紹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0" name="WordArt 4" descr=""/>
          <p:cNvPicPr/>
          <p:nvPr/>
        </p:nvPicPr>
        <p:blipFill>
          <a:blip r:embed="rId2"/>
          <a:stretch/>
        </p:blipFill>
        <p:spPr>
          <a:xfrm>
            <a:off x="774720" y="4846680"/>
            <a:ext cx="3168720" cy="95076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8" descr=""/>
          <p:cNvPicPr/>
          <p:nvPr/>
        </p:nvPicPr>
        <p:blipFill>
          <a:blip r:embed="rId3"/>
          <a:stretch/>
        </p:blipFill>
        <p:spPr>
          <a:xfrm>
            <a:off x="4919760" y="2273400"/>
            <a:ext cx="3309840" cy="8110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714840" y="642960"/>
            <a:ext cx="40719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熱血？練習風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3" name="Picture 20" descr="DSC_1432"/>
          <p:cNvPicPr/>
          <p:nvPr/>
        </p:nvPicPr>
        <p:blipFill>
          <a:blip r:embed="rId4"/>
          <a:stretch/>
        </p:blipFill>
        <p:spPr>
          <a:xfrm>
            <a:off x="571680" y="1714680"/>
            <a:ext cx="4120920" cy="2786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DSC_1483"/>
          <p:cNvPicPr/>
          <p:nvPr/>
        </p:nvPicPr>
        <p:blipFill>
          <a:blip r:embed="rId5"/>
          <a:stretch/>
        </p:blipFill>
        <p:spPr>
          <a:xfrm>
            <a:off x="4500720" y="3286080"/>
            <a:ext cx="39290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休憩タイムもまた楽し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4857840" y="5643720"/>
            <a:ext cx="30970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水分補給は大切で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17" name="Picture 19" descr="j0231975[1]"/>
          <p:cNvPicPr/>
          <p:nvPr/>
        </p:nvPicPr>
        <p:blipFill>
          <a:blip r:embed="rId2"/>
          <a:stretch/>
        </p:blipFill>
        <p:spPr>
          <a:xfrm rot="19729800">
            <a:off x="888840" y="2328840"/>
            <a:ext cx="3876840" cy="341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DSC_1439"/>
          <p:cNvPicPr/>
          <p:nvPr/>
        </p:nvPicPr>
        <p:blipFill>
          <a:blip r:embed="rId3"/>
          <a:stretch/>
        </p:blipFill>
        <p:spPr>
          <a:xfrm>
            <a:off x="5143680" y="2857680"/>
            <a:ext cx="312084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1357200" y="928800"/>
            <a:ext cx="65008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ヤングオールドのためのネットワー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714240" y="2714760"/>
            <a:ext cx="7572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みずき野クラブの事例を紹介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714240" y="36432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体験教室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2" name="WordArt 9"/>
          <p:cNvSpPr txBox="1"/>
          <p:nvPr/>
        </p:nvSpPr>
        <p:spPr>
          <a:xfrm>
            <a:off x="714240" y="4572000"/>
            <a:ext cx="7572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将来はシニアソフトの親善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755640" y="928800"/>
            <a:ext cx="71024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の基礎知識いろいろ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1258920" y="2852640"/>
            <a:ext cx="259236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用具・競技場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ダブルベース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球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投法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離塁アウト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再出場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タイブレーカ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　ＤＰ　　　　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125" name="WordArt 9"/>
          <p:cNvSpPr txBox="1"/>
          <p:nvPr/>
        </p:nvSpPr>
        <p:spPr>
          <a:xfrm>
            <a:off x="1187280" y="2133720"/>
            <a:ext cx="626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ソフトボール独特のルール知っていますか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126" name="Picture 14" descr="j0252619[1]"/>
          <p:cNvPicPr/>
          <p:nvPr/>
        </p:nvPicPr>
        <p:blipFill>
          <a:blip r:embed="rId2"/>
          <a:stretch/>
        </p:blipFill>
        <p:spPr>
          <a:xfrm>
            <a:off x="6372360" y="3789360"/>
            <a:ext cx="201456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j0299897[1]"/>
          <p:cNvPicPr/>
          <p:nvPr/>
        </p:nvPicPr>
        <p:blipFill>
          <a:blip r:embed="rId3"/>
          <a:stretch/>
        </p:blipFill>
        <p:spPr>
          <a:xfrm>
            <a:off x="7667640" y="3068640"/>
            <a:ext cx="382680" cy="35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j0294286[1]"/>
          <p:cNvPicPr/>
          <p:nvPr/>
        </p:nvPicPr>
        <p:blipFill>
          <a:blip r:embed="rId4"/>
          <a:stretch/>
        </p:blipFill>
        <p:spPr>
          <a:xfrm>
            <a:off x="4067280" y="2924280"/>
            <a:ext cx="199368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"/>
          <p:cNvPicPr/>
          <p:nvPr/>
        </p:nvPicPr>
        <p:blipFill>
          <a:blip r:embed="rId5"/>
          <a:stretch/>
        </p:blipFill>
        <p:spPr>
          <a:xfrm>
            <a:off x="4500720" y="5300640"/>
            <a:ext cx="16840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4T02:14:14Z</dcterms:modified>
  <cp:revision>39</cp:revision>
  <dc:subject/>
  <dc:title> </dc:title>
</cp:coreProperties>
</file>