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F10-D97E-496D-91BA-B4CEDC88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C43-290F-4710-A365-27F5944D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F3A-F794-4802-BFBC-09A0E4C0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65E-5D14-48F9-B948-372D3848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A947-4B91-4059-986C-84168039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FB89-CF5F-4112-B9B1-C6EBCE5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439F-A317-4211-BA09-52EB561A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016D-4B07-4163-B5B1-9592DB35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25C7-9744-4D5C-B9C3-48571FE8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DB0D-2DCB-414D-A955-AF6D7F50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4553-9F9A-49F9-B6A9-306971F5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F97-B178-4611-B61D-0AB1600D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855A-30C1-4908-A774-FDC5BEF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17F4-2FD6-4EBA-8BAD-95B8410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531D-AF02-454C-8EDA-9A65FD81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DBCC-4912-4472-A5A9-871AAF11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65FD-1B4D-4924-B031-F0919A50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9CC-330B-4ACB-AB31-1C23FCD4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94C-B7B9-4DEE-8476-6995476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CE7-B991-4130-847B-EA3DB2CF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5FF-DB6B-4ADF-A3DF-233A714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2E0-1D65-4820-A004-EB76D6F6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37D-DCDC-432F-BC37-34A82269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AB9-245C-404B-9AD0-69878EB8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62F0-D5ED-4D38-9BC4-50E391056A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C390-EA4E-4359-9851-AB153097A8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3357720" cy="4729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14"/>
          <p:cNvSpPr txBox="1"/>
          <p:nvPr/>
        </p:nvSpPr>
        <p:spPr>
          <a:xfrm>
            <a:off x="519120" y="155736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集まれ！ヤングオールド球児達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751120" y="5516640"/>
            <a:ext cx="568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ソフトボールクラブ　今村昌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80640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663480" y="573408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5408640" y="3143160"/>
            <a:ext cx="2463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5" descr=""/>
          <p:cNvPicPr/>
          <p:nvPr/>
        </p:nvPicPr>
        <p:blipFill>
          <a:blip r:embed="rId2"/>
          <a:stretch/>
        </p:blipFill>
        <p:spPr>
          <a:xfrm>
            <a:off x="530280" y="190188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6"/>
          <p:cNvSpPr txBox="1"/>
          <p:nvPr/>
        </p:nvSpPr>
        <p:spPr>
          <a:xfrm>
            <a:off x="611280" y="549360"/>
            <a:ext cx="158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市の６０歳代は増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3786120" y="2357280"/>
            <a:ext cx="5000760" cy="5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老人になりたくない団塊シルバー世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5" name="Picture 4" descr="C:\Documents and Settings\利用者用\My Documents\My Pictures\image015.gif"/>
          <p:cNvPicPr/>
          <p:nvPr/>
        </p:nvPicPr>
        <p:blipFill>
          <a:blip r:embed="rId2"/>
          <a:stretch/>
        </p:blipFill>
        <p:spPr>
          <a:xfrm>
            <a:off x="1116000" y="1773360"/>
            <a:ext cx="2523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3857760" y="357192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やっぱり若い人に体は付いていか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3857760" y="457200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にはシルバーソフトボールチームは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285840" y="5000760"/>
            <a:ext cx="1571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野球場入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9" name="Picture 6" descr="DSC_1492"/>
          <p:cNvPicPr/>
          <p:nvPr/>
        </p:nvPicPr>
        <p:blipFill>
          <a:blip r:embed="rId2"/>
          <a:stretch/>
        </p:blipFill>
        <p:spPr>
          <a:xfrm>
            <a:off x="2071800" y="1643040"/>
            <a:ext cx="6626160" cy="4410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571760" y="642960"/>
            <a:ext cx="604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カッコイイでしょ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1" name="Picture 8" descr="DSC_1404"/>
          <p:cNvPicPr/>
          <p:nvPr/>
        </p:nvPicPr>
        <p:blipFill>
          <a:blip r:embed="rId3"/>
          <a:stretch/>
        </p:blipFill>
        <p:spPr>
          <a:xfrm>
            <a:off x="428760" y="2643120"/>
            <a:ext cx="13986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571840" y="5715000"/>
            <a:ext cx="5286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HG創英角ﾎﾟｯﾌﾟ体"/>
              </a:rPr>
              <a:t>われらヤングオール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500040" y="5000760"/>
            <a:ext cx="3286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準備体操十分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5" name="Picture 6" descr="DSC_1412"/>
          <p:cNvPicPr/>
          <p:nvPr/>
        </p:nvPicPr>
        <p:blipFill>
          <a:blip r:embed="rId2"/>
          <a:stretch/>
        </p:blipFill>
        <p:spPr>
          <a:xfrm>
            <a:off x="500040" y="1714680"/>
            <a:ext cx="4016520" cy="27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SC_1423"/>
          <p:cNvPicPr/>
          <p:nvPr/>
        </p:nvPicPr>
        <p:blipFill>
          <a:blip r:embed="rId3"/>
          <a:stretch/>
        </p:blipFill>
        <p:spPr>
          <a:xfrm>
            <a:off x="4071960" y="3429000"/>
            <a:ext cx="442908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5214960" y="264312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すごい肩慣ら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0" name="WordArt 4" descr=""/>
          <p:cNvPicPr/>
          <p:nvPr/>
        </p:nvPicPr>
        <p:blipFill>
          <a:blip r:embed="rId2"/>
          <a:stretch/>
        </p:blipFill>
        <p:spPr>
          <a:xfrm>
            <a:off x="774720" y="4846680"/>
            <a:ext cx="3168720" cy="95076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8" descr=""/>
          <p:cNvPicPr/>
          <p:nvPr/>
        </p:nvPicPr>
        <p:blipFill>
          <a:blip r:embed="rId3"/>
          <a:stretch/>
        </p:blipFill>
        <p:spPr>
          <a:xfrm>
            <a:off x="4919760" y="2273400"/>
            <a:ext cx="3309840" cy="8110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3" name="Picture 20" descr="DSC_1432"/>
          <p:cNvPicPr/>
          <p:nvPr/>
        </p:nvPicPr>
        <p:blipFill>
          <a:blip r:embed="rId4"/>
          <a:stretch/>
        </p:blipFill>
        <p:spPr>
          <a:xfrm>
            <a:off x="571680" y="1714680"/>
            <a:ext cx="412092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SC_1483"/>
          <p:cNvPicPr/>
          <p:nvPr/>
        </p:nvPicPr>
        <p:blipFill>
          <a:blip r:embed="rId5"/>
          <a:stretch/>
        </p:blipFill>
        <p:spPr>
          <a:xfrm>
            <a:off x="4500720" y="32860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休憩タイムもまた楽し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4857840" y="5643720"/>
            <a:ext cx="30970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分補給は大切で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7" name="Picture 19" descr="j0231975[1]"/>
          <p:cNvPicPr/>
          <p:nvPr/>
        </p:nvPicPr>
        <p:blipFill>
          <a:blip r:embed="rId2"/>
          <a:stretch/>
        </p:blipFill>
        <p:spPr>
          <a:xfrm rot="19729800">
            <a:off x="888840" y="2328840"/>
            <a:ext cx="3876840" cy="341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_1439"/>
          <p:cNvPicPr/>
          <p:nvPr/>
        </p:nvPicPr>
        <p:blipFill>
          <a:blip r:embed="rId3"/>
          <a:stretch/>
        </p:blipFill>
        <p:spPr>
          <a:xfrm>
            <a:off x="5143680" y="2857680"/>
            <a:ext cx="31208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ヤングオールドのためのネットワー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14240" y="2714760"/>
            <a:ext cx="7572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クラブの事例を紹介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714240" y="36432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体験教室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714240" y="45720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将来はシニアソフトの親善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755640" y="928800"/>
            <a:ext cx="7102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の基礎知識いろい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258920" y="2852640"/>
            <a:ext cx="2592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用具・競技場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ダブルベース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球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法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離塁アウト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再出場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タイブレーカ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ＤＰ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87280" y="2133720"/>
            <a:ext cx="626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独特のルール知っています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26" name="Picture 14" descr="j0252619[1]"/>
          <p:cNvPicPr/>
          <p:nvPr/>
        </p:nvPicPr>
        <p:blipFill>
          <a:blip r:embed="rId2"/>
          <a:stretch/>
        </p:blipFill>
        <p:spPr>
          <a:xfrm>
            <a:off x="6372360" y="3789360"/>
            <a:ext cx="20145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299897[1]"/>
          <p:cNvPicPr/>
          <p:nvPr/>
        </p:nvPicPr>
        <p:blipFill>
          <a:blip r:embed="rId3"/>
          <a:stretch/>
        </p:blipFill>
        <p:spPr>
          <a:xfrm>
            <a:off x="7667640" y="3068640"/>
            <a:ext cx="382680" cy="35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94286[1]"/>
          <p:cNvPicPr/>
          <p:nvPr/>
        </p:nvPicPr>
        <p:blipFill>
          <a:blip r:embed="rId4"/>
          <a:stretch/>
        </p:blipFill>
        <p:spPr>
          <a:xfrm>
            <a:off x="4067280" y="2924280"/>
            <a:ext cx="199368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5"/>
          <a:stretch/>
        </p:blipFill>
        <p:spPr>
          <a:xfrm>
            <a:off x="4500720" y="5300640"/>
            <a:ext cx="1684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4T02:14:14Z</dcterms:modified>
  <cp:revision>39</cp:revision>
  <dc:subject/>
  <dc:title> </dc:title>
</cp:coreProperties>
</file>