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388388" cy="30243463"/>
  <p:notesSz cx="10047288" cy="1447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B978-7724-49AC-AD73-9123F52A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1924704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9920" y="17481600"/>
            <a:ext cx="1924704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7F88-B626-4240-9CEC-0B7ACE37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32480" y="705636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9920" y="1748160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0932480" y="1748160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5042-6AAD-4899-A259-8B95BCAF5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6197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577640" y="7056360"/>
            <a:ext cx="6197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085360" y="7056360"/>
            <a:ext cx="6197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9920" y="17481600"/>
            <a:ext cx="6197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577640" y="17481600"/>
            <a:ext cx="6197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085360" y="17481600"/>
            <a:ext cx="6197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357B-403A-4088-81EB-3945C935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9920" y="7056360"/>
            <a:ext cx="19247040" cy="1995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E95A-446B-4E3F-A603-F4943013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19247040" cy="199598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57F9-D9D9-4031-B4F6-8D26CA82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9392400" cy="199598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0932480" y="7056360"/>
            <a:ext cx="9392400" cy="199598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73CE-C44D-4204-A597-CFDE8233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F95A-E633-4E4D-A627-525D5A4E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9920" y="1211400"/>
            <a:ext cx="19247040" cy="233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50EA-D2D3-4CF1-8517-C6F7CCA0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0932480" y="7056360"/>
            <a:ext cx="9392400" cy="199598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9920" y="1748160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3ED3-B9FD-45AB-AE85-F970F745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9392400" cy="199598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0932480" y="705636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932480" y="1748160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873E-D1AC-43FF-8431-8B3C91A0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0932480" y="705636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9920" y="17481600"/>
            <a:ext cx="1924704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5EF9-7444-4378-BC33-23F0206E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9920" y="7056360"/>
            <a:ext cx="19247040" cy="199598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marL="1152360" indent="-115236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1" marL="2496960" indent="-96012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2" marL="3841920" indent="-76860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3" marL="5378400" indent="-7682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4" marL="6916680" indent="-770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5" marL="6916680" indent="-770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6" marL="6916680" indent="-770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9920" y="27541440"/>
            <a:ext cx="4989600" cy="21002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Autofit/>
          </a:bodyPr>
          <a:lstStyle>
            <a:lvl1pPr indent="0">
              <a:buNone/>
              <a:tabLst>
                <a:tab algn="l" pos="0"/>
                <a:tab algn="l" pos="3073320"/>
                <a:tab algn="l" pos="6146640"/>
                <a:tab algn="l" pos="922032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307280" y="27541440"/>
            <a:ext cx="6772320" cy="21002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Autofit/>
          </a:bodyPr>
          <a:lstStyle>
            <a:lvl1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327360" y="27541440"/>
            <a:ext cx="4989600" cy="21002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Autofit/>
          </a:bodyPr>
          <a:lstStyle>
            <a:lvl1pPr indent="0" algn="r">
              <a:buNone/>
              <a:tabLst>
                <a:tab algn="l" pos="0"/>
                <a:tab algn="l" pos="3073320"/>
                <a:tab algn="l" pos="6146640"/>
                <a:tab algn="l" pos="922032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fld id="{C8E98733-0A70-4F0F-8724-2B0380161DEE}" type="slidenum">
              <a:rPr b="0" lang="en-US" sz="4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4720" y="336600"/>
            <a:ext cx="19010160" cy="2014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zh-CN" sz="6100" spc="-1" strike="noStrike">
                <a:solidFill>
                  <a:srgbClr val="000000"/>
                </a:solidFill>
                <a:latin typeface="Arial"/>
              </a:rPr>
              <a:t>中山間地の環境保全と集約型農業の促進を目的とした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zh-CN" sz="6100" spc="-1" strike="noStrike">
                <a:solidFill>
                  <a:srgbClr val="000000"/>
                </a:solidFill>
                <a:latin typeface="Arial"/>
              </a:rPr>
              <a:t>地域ネットワーク型の農業法人組織化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70840" y="2430360"/>
            <a:ext cx="1108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提案者：伊東明彦（守谷環境情報ネットワーク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6000" y="3360600"/>
            <a:ext cx="10117080" cy="97441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5080" y="3484440"/>
            <a:ext cx="3544920" cy="749520"/>
          </a:xfrm>
          <a:prstGeom prst="roundRect">
            <a:avLst>
              <a:gd name="adj" fmla="val 50000"/>
            </a:avLst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課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0440" y="4545000"/>
            <a:ext cx="92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守谷市では、中山間地における放棄地が多く散在しており、守谷の景観を代表する里山風景や、地域の自然環境が減少してきてい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7257960"/>
            <a:ext cx="95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農地の多くは、私有地であり、個々の耕作者の意識に頼らざるを得ない。一個人や地域に根付いた環境団体のみの活動では、解決することが困難なことから、行政面での支援が必要と言え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2720" y="6384960"/>
            <a:ext cx="1568520" cy="676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12720" y="9648720"/>
            <a:ext cx="4248360" cy="2973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292720" y="9648720"/>
            <a:ext cx="4321080" cy="3024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92360" y="12634920"/>
            <a:ext cx="59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放棄地のイメ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053800" y="3360600"/>
            <a:ext cx="10117080" cy="97441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98160" y="3562200"/>
            <a:ext cx="3544920" cy="749520"/>
          </a:xfrm>
          <a:prstGeom prst="roundRect">
            <a:avLst>
              <a:gd name="adj" fmla="val 50000"/>
            </a:avLst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98160" y="4502160"/>
            <a:ext cx="9936360" cy="56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．耕作放棄地の環境保全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（里山の景観改善を含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経済課の支援を頂き、耕作放棄地を把握し、耕作の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約化ができないか、検討を実施す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．農業就労者としての雇用創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把握した耕作放棄地を利用する組織として、地域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民を主体とした地域ネットワークを形成す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．農業を軸とした地域ブランドの創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耕作する作物として、地域ブランド化できる作物を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索すると共に、その事業展開を検討する。また、農業を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観光資源として捉え、つくばエクスプレス、常磐高速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路、守谷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連携したグリーン・ツーリズム化を目指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1557080" y="10514160"/>
            <a:ext cx="3889440" cy="2411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16741800" y="10441080"/>
            <a:ext cx="4240080" cy="2627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589080" y="11157120"/>
            <a:ext cx="863640" cy="739440"/>
          </a:xfrm>
          <a:prstGeom prst="rightArrow">
            <a:avLst>
              <a:gd name="adj1" fmla="val 50000"/>
              <a:gd name="adj2" fmla="val 2919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3393800"/>
            <a:ext cx="20810520" cy="127015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720" y="13507920"/>
            <a:ext cx="3544920" cy="749520"/>
          </a:xfrm>
          <a:prstGeom prst="roundRect">
            <a:avLst>
              <a:gd name="adj" fmla="val 50000"/>
            </a:avLst>
          </a:prstGeom>
          <a:solidFill>
            <a:srgbClr val="0000ff">
              <a:alpha val="7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具体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6277840"/>
            <a:ext cx="9577080" cy="34275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396720" y="15122520"/>
            <a:ext cx="6408720" cy="6375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6720" y="14382720"/>
            <a:ext cx="87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耕作放棄地の環境保全（国の施策を可能な限り利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324000" y="21640680"/>
            <a:ext cx="9364680" cy="3760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17160" y="25404840"/>
            <a:ext cx="669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典：農林水産省 耕作放棄地の再生利用のため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ttp://www.maff.go.jp/j/nousin/tikei/houkiti/pdf/zsankou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05440" y="15189120"/>
            <a:ext cx="2880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守谷市の担当課に協力を依頼し、耕作放棄地の特定、地権者との調整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117080" y="14316120"/>
            <a:ext cx="87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農業就労者の雇用創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10477440" y="16465680"/>
            <a:ext cx="9163080" cy="4929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333080" y="14920920"/>
            <a:ext cx="10513800" cy="825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農業法人は、既存の法人を中心に実施して頂くことを予定しているが、既存の農業法人では難しい場合には、新たに農業法人を組織する。また、就労者は、住民を主体とし、地域ネットワークを形成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下記は、埼玉県のナガホリファームの例で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名のパート職員がいる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117080" y="21909240"/>
            <a:ext cx="87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農業を軸とした地域ブランドの創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709440" y="2143908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典：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ttp://members.jcom.home.ne.jp/nou_nagahori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117080" y="26076240"/>
            <a:ext cx="10945800" cy="36291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10549080" y="22898160"/>
            <a:ext cx="5111640" cy="3786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557080" y="22783680"/>
            <a:ext cx="1944720" cy="178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269800" y="2235672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つくばエクスプレ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333080" y="2678904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守谷サービスエリ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0621800" y="25202880"/>
            <a:ext cx="1800360" cy="15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781080" y="24796800"/>
            <a:ext cx="1008000" cy="20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006520" y="22380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国道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94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57080" y="2688264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常磐自動車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406160" y="27352800"/>
            <a:ext cx="532908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道路・鉄道網の整備が進んでいることから、これらの利点を活かした街作り・グリーン・ツーリズムを計画する。また、守谷の気象・土壌等を活かしたブランド作物の創出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3789080" y="22850640"/>
            <a:ext cx="50472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057440" y="27352800"/>
            <a:ext cx="478944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都心の会社員でも社内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自宅から、常時、ほ場の状態を把握することが可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6720" y="26411400"/>
            <a:ext cx="3544920" cy="750600"/>
          </a:xfrm>
          <a:prstGeom prst="roundRect">
            <a:avLst>
              <a:gd name="adj" fmla="val 50000"/>
            </a:avLst>
          </a:prstGeom>
          <a:solidFill>
            <a:srgbClr val="ff6600">
              <a:alpha val="7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効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9889200" y="6142320"/>
            <a:ext cx="146340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58960" y="12804840"/>
            <a:ext cx="1568520" cy="939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77080" y="25943040"/>
            <a:ext cx="1568520" cy="939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0"/>
          <a:stretch/>
        </p:blipFill>
        <p:spPr>
          <a:xfrm>
            <a:off x="16022520" y="22898160"/>
            <a:ext cx="3095640" cy="2166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1"/>
          <a:stretch/>
        </p:blipFill>
        <p:spPr>
          <a:xfrm>
            <a:off x="17822880" y="24731640"/>
            <a:ext cx="3095640" cy="2263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12720" y="274208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2"/>
              <a:buBlip>
                <a:blip r:embed="rId12"/>
              </a:buBlip>
              <a:tabLst>
                <a:tab algn="l" pos="3073320"/>
                <a:tab algn="l" pos="6146640"/>
                <a:tab algn="l" pos="922032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耕作放棄地の環境保全（里山の景観維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72"/>
              <a:buBlip>
                <a:blip r:embed="rId13"/>
              </a:buBlip>
              <a:tabLst>
                <a:tab algn="l" pos="3073320"/>
                <a:tab algn="l" pos="6146640"/>
                <a:tab algn="l" pos="922032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農業就労者としての雇用創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72"/>
              <a:buBlip>
                <a:blip r:embed="rId14"/>
              </a:buBlip>
              <a:tabLst>
                <a:tab algn="l" pos="3073320"/>
                <a:tab algn="l" pos="6146640"/>
                <a:tab algn="l" pos="922032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農作物の地域ブランドの創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02:12:44Z</dcterms:created>
  <dc:creator>u9977011</dc:creator>
  <dc:description/>
  <dc:language>en-US</dc:language>
  <cp:lastModifiedBy>tamotsu</cp:lastModifiedBy>
  <dcterms:modified xsi:type="dcterms:W3CDTF">2009-11-11T14:59:36Z</dcterms:modified>
  <cp:revision>8</cp:revision>
  <dc:subject/>
  <dc:title>スライド 1</dc:title>
</cp:coreProperties>
</file>