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28.wmf" ContentType="image/x-wmf"/>
  <Override PartName="/ppt/media/image4.png" ContentType="image/png"/>
  <Override PartName="/ppt/media/image27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4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5.png" ContentType="image/png"/>
  <Override PartName="/ppt/media/image24.jpeg" ContentType="image/jpeg"/>
  <Override PartName="/ppt/media/image15.png" ContentType="image/png"/>
  <Override PartName="/ppt/media/image2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B7D-859C-45C7-82EE-FB8DB436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404-B3FC-46A8-8B3E-BB0263BA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755-23B9-4823-B19C-178A0E5E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96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04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488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96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04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8AD-DD9C-46C4-99B2-B5DB5C0F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4F1D-8CE0-4AA7-B5FC-AAD93923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FEEA-78F5-4B98-935E-B3911CB7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B8EF-66DC-41E5-94BA-DCF96E7B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9F8E-B364-41C4-B02C-375A050E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CC7A-5BC6-4D2C-ADEB-25E7DFFC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4880" y="1052280"/>
            <a:ext cx="65516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BB0E-8CB4-48A3-A5FA-9A636C77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A825-E8AE-4423-B719-7C75024F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A85-78D2-42DC-A8D1-A3912907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03C4-23BC-4850-BC8A-8E0906FE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F5B7-F4B4-4566-84DC-812BDA8E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C0D5-AD9A-42B5-AFE1-B47856D6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C1E9-BD51-4590-988B-4D07504D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96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304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488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96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304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E7AE-E9DE-4962-AE9D-77F707A3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17E-3832-4817-8BDA-43A0B73D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9AA-D2FB-4F0A-BBAF-C7C8EF79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55E-138A-4BC1-B6EA-586287B1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4880" y="1052280"/>
            <a:ext cx="65516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718-DF0A-445E-9108-6824303C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5A4-D1FB-4FB8-92F8-8633C7AC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21F-3D98-4D25-AA6D-C997AFA5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E99-40E8-4787-813F-436C1198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HG丸ｺﾞｼｯｸM-PRO"/>
              </a:rPr>
              <a:t>Click to edit the title text format</a:t>
            </a: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1" marL="646200" indent="-248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2" marL="994320" indent="-1987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3" marL="1392120" indent="-1987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4" marL="1789920" indent="-1987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5" marL="1789920" indent="-1987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6" marL="1789920" indent="-19872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33680" y="6237000"/>
            <a:ext cx="202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0520" y="6244920"/>
            <a:ext cx="31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568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ABC4-573C-463E-9128-370E4C3660BD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HG丸ｺﾞｼｯｸM-PRO"/>
              </a:rPr>
              <a:t>Click to edit the title text format</a:t>
            </a: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1" marL="646200" indent="-248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2" marL="994320" indent="-1987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3" marL="1392120" indent="-1987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4" marL="1789920" indent="-1987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5" marL="1789920" indent="-1987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6" marL="1789920" indent="-19872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504880" y="6237000"/>
            <a:ext cx="194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665240" y="6244920"/>
            <a:ext cx="259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47360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A415-31D8-4F67-8B6A-6A317CDD4784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7"/>
          <p:cNvSpPr txBox="1"/>
          <p:nvPr/>
        </p:nvSpPr>
        <p:spPr>
          <a:xfrm>
            <a:off x="920880" y="907920"/>
            <a:ext cx="4390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HG創英角ｺﾞｼｯｸUB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83" name="WordArt 18"/>
          <p:cNvSpPr txBox="1"/>
          <p:nvPr/>
        </p:nvSpPr>
        <p:spPr>
          <a:xfrm>
            <a:off x="1065240" y="5589720"/>
            <a:ext cx="1874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84" name="Picture 8" descr="j0420582[1]"/>
          <p:cNvPicPr/>
          <p:nvPr/>
        </p:nvPicPr>
        <p:blipFill>
          <a:blip r:embed="rId2"/>
          <a:stretch/>
        </p:blipFill>
        <p:spPr>
          <a:xfrm>
            <a:off x="5457960" y="333360"/>
            <a:ext cx="3373200" cy="5297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280689[1]"/>
          <p:cNvPicPr/>
          <p:nvPr/>
        </p:nvPicPr>
        <p:blipFill>
          <a:blip r:embed="rId3"/>
          <a:stretch/>
        </p:blipFill>
        <p:spPr>
          <a:xfrm>
            <a:off x="1712880" y="4221000"/>
            <a:ext cx="1612800" cy="125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j0344946[1]"/>
          <p:cNvPicPr/>
          <p:nvPr/>
        </p:nvPicPr>
        <p:blipFill>
          <a:blip r:embed="rId4"/>
          <a:stretch/>
        </p:blipFill>
        <p:spPr>
          <a:xfrm>
            <a:off x="3368520" y="3500280"/>
            <a:ext cx="1783080" cy="2400480"/>
          </a:xfrm>
          <a:prstGeom prst="rect">
            <a:avLst/>
          </a:prstGeom>
          <a:ln w="0">
            <a:noFill/>
          </a:ln>
        </p:spPr>
      </p:pic>
      <p:sp>
        <p:nvSpPr>
          <p:cNvPr id="87" name="WordArt 14"/>
          <p:cNvSpPr txBox="1"/>
          <p:nvPr/>
        </p:nvSpPr>
        <p:spPr>
          <a:xfrm>
            <a:off x="992160" y="2276640"/>
            <a:ext cx="8137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夏期巡回ラジオ体操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みんなの体操の開催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3584520" y="5589720"/>
            <a:ext cx="51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けやき台雅会　渡辺英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11"/>
          <p:cNvSpPr txBox="1"/>
          <p:nvPr/>
        </p:nvSpPr>
        <p:spPr>
          <a:xfrm>
            <a:off x="704880" y="765000"/>
            <a:ext cx="2181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0" name="Picture 9" descr="j0395334[1]"/>
          <p:cNvPicPr/>
          <p:nvPr/>
        </p:nvPicPr>
        <p:blipFill>
          <a:blip r:embed="rId2"/>
          <a:stretch/>
        </p:blipFill>
        <p:spPr>
          <a:xfrm>
            <a:off x="7761240" y="333360"/>
            <a:ext cx="1119240" cy="11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103"/>
          <p:cNvPicPr/>
          <p:nvPr/>
        </p:nvPicPr>
        <p:blipFill>
          <a:blip r:embed="rId3"/>
          <a:stretch/>
        </p:blipFill>
        <p:spPr>
          <a:xfrm>
            <a:off x="2936880" y="357336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92" name="WordArt 12"/>
          <p:cNvSpPr txBox="1"/>
          <p:nvPr/>
        </p:nvSpPr>
        <p:spPr>
          <a:xfrm>
            <a:off x="560520" y="1844640"/>
            <a:ext cx="9001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ＮＨＫ夏期巡回ラジオ体操・みんなの体操会を開催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異世代間の交流と参加者の健康作りを促進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4"/>
          <p:cNvSpPr txBox="1"/>
          <p:nvPr/>
        </p:nvSpPr>
        <p:spPr>
          <a:xfrm>
            <a:off x="1065240" y="765000"/>
            <a:ext cx="4535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けやき台地区事例紹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4" name="Picture 7" descr="20091008185817_00008 - コピー (4)"/>
          <p:cNvPicPr/>
          <p:nvPr/>
        </p:nvPicPr>
        <p:blipFill>
          <a:blip r:embed="rId2"/>
          <a:stretch/>
        </p:blipFill>
        <p:spPr>
          <a:xfrm>
            <a:off x="992160" y="1916280"/>
            <a:ext cx="8352000" cy="2463480"/>
          </a:xfrm>
          <a:prstGeom prst="rect">
            <a:avLst/>
          </a:prstGeom>
          <a:ln w="0">
            <a:noFill/>
          </a:ln>
        </p:spPr>
      </p:pic>
      <p:pic>
        <p:nvPicPr>
          <p:cNvPr id="95" name="WordArt 14" descr=""/>
          <p:cNvPicPr/>
          <p:nvPr/>
        </p:nvPicPr>
        <p:blipFill>
          <a:blip r:embed="rId3"/>
          <a:stretch/>
        </p:blipFill>
        <p:spPr>
          <a:xfrm>
            <a:off x="5516640" y="4572000"/>
            <a:ext cx="3913200" cy="4507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4"/>
          <p:cNvSpPr txBox="1"/>
          <p:nvPr/>
        </p:nvSpPr>
        <p:spPr>
          <a:xfrm>
            <a:off x="5673600" y="5805360"/>
            <a:ext cx="381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地域の子供会と連携する活動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7" name="Picture 12" descr="20091008185817_00008 - コピー (3) - コピー"/>
          <p:cNvPicPr/>
          <p:nvPr/>
        </p:nvPicPr>
        <p:blipFill>
          <a:blip r:embed="rId4"/>
          <a:stretch/>
        </p:blipFill>
        <p:spPr>
          <a:xfrm>
            <a:off x="488880" y="4076640"/>
            <a:ext cx="4824360" cy="2222640"/>
          </a:xfrm>
          <a:prstGeom prst="rect">
            <a:avLst/>
          </a:prstGeom>
          <a:ln w="0">
            <a:noFill/>
          </a:ln>
        </p:spPr>
      </p:pic>
      <p:sp>
        <p:nvSpPr>
          <p:cNvPr id="98" name="WordArt 14"/>
          <p:cNvSpPr txBox="1"/>
          <p:nvPr/>
        </p:nvSpPr>
        <p:spPr>
          <a:xfrm>
            <a:off x="5600880" y="5157720"/>
            <a:ext cx="374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夏休み期間中の土日ごと開催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_hlt_rdo_d2_01" descr=""/>
          <p:cNvPicPr/>
          <p:nvPr/>
        </p:nvPicPr>
        <p:blipFill>
          <a:blip r:embed="rId2"/>
          <a:stretch/>
        </p:blipFill>
        <p:spPr>
          <a:xfrm>
            <a:off x="5745240" y="62064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100" name="i_hlt_rdo_d2_02" descr=""/>
          <p:cNvPicPr/>
          <p:nvPr/>
        </p:nvPicPr>
        <p:blipFill>
          <a:blip r:embed="rId3"/>
          <a:stretch/>
        </p:blipFill>
        <p:spPr>
          <a:xfrm>
            <a:off x="5313240" y="2205000"/>
            <a:ext cx="426744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i_hlt_rdo_d2_03" descr=""/>
          <p:cNvPicPr/>
          <p:nvPr/>
        </p:nvPicPr>
        <p:blipFill>
          <a:blip r:embed="rId4"/>
          <a:stretch/>
        </p:blipFill>
        <p:spPr>
          <a:xfrm>
            <a:off x="4592520" y="4076640"/>
            <a:ext cx="5000760" cy="1704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7564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2160" y="550800"/>
            <a:ext cx="39607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  <a:ea typeface="HG創英角ﾎﾟｯﾌﾟ体"/>
              </a:rPr>
              <a:t>ラジオ体操第二ができます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ラジオ体操第二は、体を鍛える筋力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強化することにポイントを置いてい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．全身をゆする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２．腕と足を曲げ伸ば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３．腕を開き、回す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４．胸を反らす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５．体を横に曲げる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６．体を前後に曲げる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７．体をねじ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８．片足跳びとかけ足あし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９．体をねじり反らせて斜め下に曲げ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０体を倒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１両足で跳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２腕を振って足を曲げ伸ば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３深呼吸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14"/>
          <p:cNvSpPr txBox="1"/>
          <p:nvPr/>
        </p:nvSpPr>
        <p:spPr>
          <a:xfrm>
            <a:off x="631800" y="198900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住宅地区では転入家族が多く、地域の繋がりが希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05" name="Picture 12" descr="j0424762[1]"/>
          <p:cNvPicPr/>
          <p:nvPr/>
        </p:nvPicPr>
        <p:blipFill>
          <a:blip r:embed="rId2"/>
          <a:stretch/>
        </p:blipFill>
        <p:spPr>
          <a:xfrm>
            <a:off x="4376880" y="260280"/>
            <a:ext cx="1341360" cy="14684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1"/>
          <p:cNvSpPr txBox="1"/>
          <p:nvPr/>
        </p:nvSpPr>
        <p:spPr>
          <a:xfrm>
            <a:off x="849240" y="692280"/>
            <a:ext cx="218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＜課題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7" name="WordArt 14"/>
          <p:cNvSpPr txBox="1"/>
          <p:nvPr/>
        </p:nvSpPr>
        <p:spPr>
          <a:xfrm>
            <a:off x="631800" y="2997360"/>
            <a:ext cx="87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核家族化で地域の子供たちと高齢者とのふれあいが少な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631800" y="4005360"/>
            <a:ext cx="8066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都市圏では、ラジオ体操の実施率が低くなってい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9" name="WordArt 14"/>
          <p:cNvSpPr txBox="1"/>
          <p:nvPr/>
        </p:nvSpPr>
        <p:spPr>
          <a:xfrm>
            <a:off x="631800" y="5013360"/>
            <a:ext cx="86425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高齢化が進むなか、心身ともに健康が求められてい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0" name="Picture 19" descr="j0398031[1]"/>
          <p:cNvPicPr/>
          <p:nvPr/>
        </p:nvPicPr>
        <p:blipFill>
          <a:blip r:embed="rId3"/>
          <a:stretch/>
        </p:blipFill>
        <p:spPr>
          <a:xfrm>
            <a:off x="4592520" y="5805360"/>
            <a:ext cx="82548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j0398031[1]"/>
          <p:cNvPicPr/>
          <p:nvPr/>
        </p:nvPicPr>
        <p:blipFill>
          <a:blip r:embed="rId2"/>
          <a:stretch/>
        </p:blipFill>
        <p:spPr>
          <a:xfrm>
            <a:off x="415800" y="4292640"/>
            <a:ext cx="825480" cy="849240"/>
          </a:xfrm>
          <a:prstGeom prst="rect">
            <a:avLst/>
          </a:prstGeom>
          <a:ln w="0">
            <a:noFill/>
          </a:ln>
        </p:spPr>
      </p:pic>
      <p:sp>
        <p:nvSpPr>
          <p:cNvPr id="112" name="WordArt 14"/>
          <p:cNvSpPr txBox="1"/>
          <p:nvPr/>
        </p:nvSpPr>
        <p:spPr>
          <a:xfrm>
            <a:off x="992160" y="90792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協働事業提案内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3"/>
          <a:stretch/>
        </p:blipFill>
        <p:spPr>
          <a:xfrm>
            <a:off x="3081240" y="3573360"/>
            <a:ext cx="3745080" cy="2490840"/>
          </a:xfrm>
          <a:prstGeom prst="rect">
            <a:avLst/>
          </a:prstGeom>
          <a:ln w="0">
            <a:noFill/>
          </a:ln>
        </p:spPr>
      </p:pic>
      <p:pic>
        <p:nvPicPr>
          <p:cNvPr id="114" name="WordArt 14" descr=""/>
          <p:cNvPicPr/>
          <p:nvPr/>
        </p:nvPicPr>
        <p:blipFill>
          <a:blip r:embed="rId4"/>
          <a:stretch/>
        </p:blipFill>
        <p:spPr>
          <a:xfrm>
            <a:off x="298440" y="1847880"/>
            <a:ext cx="9381960" cy="252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j0089304[1]"/>
          <p:cNvPicPr/>
          <p:nvPr/>
        </p:nvPicPr>
        <p:blipFill>
          <a:blip r:embed="rId5"/>
          <a:stretch/>
        </p:blipFill>
        <p:spPr>
          <a:xfrm>
            <a:off x="7400880" y="549360"/>
            <a:ext cx="15480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70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14"/>
          <p:cNvSpPr txBox="1"/>
          <p:nvPr/>
        </p:nvSpPr>
        <p:spPr>
          <a:xfrm>
            <a:off x="776160" y="76500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協働事業提案内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17" name="WordArt 14"/>
          <p:cNvSpPr txBox="1"/>
          <p:nvPr/>
        </p:nvSpPr>
        <p:spPr>
          <a:xfrm>
            <a:off x="666720" y="1773360"/>
            <a:ext cx="8607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☆</a:t>
            </a: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みんなの体操会を開催するための体制作り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8" name="Picture 6" descr="j0410475[1]"/>
          <p:cNvPicPr/>
          <p:nvPr/>
        </p:nvPicPr>
        <p:blipFill>
          <a:blip r:embed="rId2"/>
          <a:stretch/>
        </p:blipFill>
        <p:spPr>
          <a:xfrm>
            <a:off x="3152880" y="4005360"/>
            <a:ext cx="2665440" cy="23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7545240" y="4581360"/>
            <a:ext cx="1243080" cy="187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banzai"/>
          <p:cNvPicPr/>
          <p:nvPr/>
        </p:nvPicPr>
        <p:blipFill>
          <a:blip r:embed="rId4"/>
          <a:stretch/>
        </p:blipFill>
        <p:spPr>
          <a:xfrm rot="20227200">
            <a:off x="1652760" y="4622400"/>
            <a:ext cx="1380960" cy="2048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banzai_usagi"/>
          <p:cNvPicPr/>
          <p:nvPr/>
        </p:nvPicPr>
        <p:blipFill>
          <a:blip r:embed="rId5"/>
          <a:stretch/>
        </p:blipFill>
        <p:spPr>
          <a:xfrm rot="1566600">
            <a:off x="6465600" y="4365720"/>
            <a:ext cx="904680" cy="1809720"/>
          </a:xfrm>
          <a:prstGeom prst="rect">
            <a:avLst/>
          </a:prstGeom>
          <a:ln w="0">
            <a:noFill/>
          </a:ln>
        </p:spPr>
      </p:pic>
      <p:pic>
        <p:nvPicPr>
          <p:cNvPr id="122" name="WordArt 14" descr=""/>
          <p:cNvPicPr/>
          <p:nvPr/>
        </p:nvPicPr>
        <p:blipFill>
          <a:blip r:embed="rId6"/>
          <a:stretch/>
        </p:blipFill>
        <p:spPr>
          <a:xfrm>
            <a:off x="585720" y="2914560"/>
            <a:ext cx="7809120" cy="15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j0370448[1]"/>
          <p:cNvPicPr/>
          <p:nvPr/>
        </p:nvPicPr>
        <p:blipFill>
          <a:blip r:embed="rId7"/>
          <a:stretch/>
        </p:blipFill>
        <p:spPr>
          <a:xfrm>
            <a:off x="8624880" y="2924280"/>
            <a:ext cx="9856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7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6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21:30Z</dcterms:created>
  <dc:creator>takagi</dc:creator>
  <dc:description/>
  <cp:keywords/>
  <dc:language>en-US</dc:language>
  <cp:lastModifiedBy>tamotsu</cp:lastModifiedBy>
  <dcterms:modified xsi:type="dcterms:W3CDTF">2009-10-20T13:53:54Z</dcterms:modified>
  <cp:revision>9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78061041</vt:lpwstr>
  </property>
</Properties>
</file>