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28.wmf" ContentType="image/x-wmf"/>
  <Override PartName="/ppt/media/image4.png" ContentType="image/png"/>
  <Override PartName="/ppt/media/image27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4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FD9-FD74-4138-BE0A-D80FA87C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355-9B25-4BA5-A047-D61B6746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89C-422A-4E8A-BD11-9D63B708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6A3-0114-446F-837C-F5D7F4EE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4B0D-AEFE-4660-ABEB-C99B80C5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559F-9DD1-4C8E-8900-D5EE44D7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96AC-2597-429D-BD1C-523EB36D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70EF-948D-454A-B6B2-4D889F98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1038-B203-4D4A-87AE-A7D5F89B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2944-44FF-4EAE-9336-67391D5C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4827-723D-4C2C-94CD-1340667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534-19DA-496A-BCAB-4647D284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580D-E587-4ACC-BAAC-884F9691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9C70-4EFB-4EE3-90FF-30090D1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30FF-5196-4DB0-B537-3EAB38F5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640A-84A2-42DF-A0E6-B33CE45C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CFCE-C6BB-430B-9FEC-909D6165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D34-AC97-4FC3-8C31-03567D23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56F-7F4E-4538-BE80-E2542103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C2E-604F-4A28-B5FB-AD51287D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33B-015C-44D8-8A93-2A6294D0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4F4-2A45-4994-A5BD-E0F5EFC4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2B5-A9CC-49B4-BB51-013A96E6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315-97A0-4E10-8582-C92CC3B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3680" y="6237000"/>
            <a:ext cx="202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052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568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452D-0F7E-487C-B79D-4378DEDECDCF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504880" y="6237000"/>
            <a:ext cx="194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65240" y="6244920"/>
            <a:ext cx="25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7360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C2B5-A4A5-4480-93CF-4065744FF119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7"/>
          <p:cNvSpPr txBox="1"/>
          <p:nvPr/>
        </p:nvSpPr>
        <p:spPr>
          <a:xfrm>
            <a:off x="920880" y="90792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HG創英角ｺﾞｼｯｸUB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3" name="WordArt 18"/>
          <p:cNvSpPr txBox="1"/>
          <p:nvPr/>
        </p:nvSpPr>
        <p:spPr>
          <a:xfrm>
            <a:off x="1065240" y="558972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84" name="Picture 8" descr="j0420582[1]"/>
          <p:cNvPicPr/>
          <p:nvPr/>
        </p:nvPicPr>
        <p:blipFill>
          <a:blip r:embed="rId2"/>
          <a:stretch/>
        </p:blipFill>
        <p:spPr>
          <a:xfrm>
            <a:off x="5457960" y="333360"/>
            <a:ext cx="3373200" cy="529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0689[1]"/>
          <p:cNvPicPr/>
          <p:nvPr/>
        </p:nvPicPr>
        <p:blipFill>
          <a:blip r:embed="rId3"/>
          <a:stretch/>
        </p:blipFill>
        <p:spPr>
          <a:xfrm>
            <a:off x="1712880" y="4221000"/>
            <a:ext cx="1612800" cy="125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344946[1]"/>
          <p:cNvPicPr/>
          <p:nvPr/>
        </p:nvPicPr>
        <p:blipFill>
          <a:blip r:embed="rId4"/>
          <a:stretch/>
        </p:blipFill>
        <p:spPr>
          <a:xfrm>
            <a:off x="3368520" y="3500280"/>
            <a:ext cx="178308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WordArt 14"/>
          <p:cNvSpPr txBox="1"/>
          <p:nvPr/>
        </p:nvSpPr>
        <p:spPr>
          <a:xfrm>
            <a:off x="992160" y="2276640"/>
            <a:ext cx="813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期巡回ラジオ体操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の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3584520" y="5589720"/>
            <a:ext cx="51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けやき台雅会　渡辺英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1"/>
          <p:cNvSpPr txBox="1"/>
          <p:nvPr/>
        </p:nvSpPr>
        <p:spPr>
          <a:xfrm>
            <a:off x="704880" y="76500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0" name="Picture 9" descr="j0395334[1]"/>
          <p:cNvPicPr/>
          <p:nvPr/>
        </p:nvPicPr>
        <p:blipFill>
          <a:blip r:embed="rId2"/>
          <a:stretch/>
        </p:blipFill>
        <p:spPr>
          <a:xfrm>
            <a:off x="7761240" y="333360"/>
            <a:ext cx="111924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103"/>
          <p:cNvPicPr/>
          <p:nvPr/>
        </p:nvPicPr>
        <p:blipFill>
          <a:blip r:embed="rId3"/>
          <a:stretch/>
        </p:blipFill>
        <p:spPr>
          <a:xfrm>
            <a:off x="2936880" y="3573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2"/>
          <p:cNvSpPr txBox="1"/>
          <p:nvPr/>
        </p:nvSpPr>
        <p:spPr>
          <a:xfrm>
            <a:off x="560520" y="184464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ＮＨＫ夏期巡回ラジオ体操・みんなの体操会を開催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異世代間の交流と参加者の健康作りを促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4"/>
          <p:cNvSpPr txBox="1"/>
          <p:nvPr/>
        </p:nvSpPr>
        <p:spPr>
          <a:xfrm>
            <a:off x="1065240" y="765000"/>
            <a:ext cx="45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けやき台地区事例紹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4" name="Picture 7" descr="20091008185817_00008 - コピー (4)"/>
          <p:cNvPicPr/>
          <p:nvPr/>
        </p:nvPicPr>
        <p:blipFill>
          <a:blip r:embed="rId2"/>
          <a:stretch/>
        </p:blipFill>
        <p:spPr>
          <a:xfrm>
            <a:off x="992160" y="1916280"/>
            <a:ext cx="8352000" cy="2463480"/>
          </a:xfrm>
          <a:prstGeom prst="rect">
            <a:avLst/>
          </a:prstGeom>
          <a:ln w="0">
            <a:noFill/>
          </a:ln>
        </p:spPr>
      </p:pic>
      <p:pic>
        <p:nvPicPr>
          <p:cNvPr id="95" name="WordArt 14" descr=""/>
          <p:cNvPicPr/>
          <p:nvPr/>
        </p:nvPicPr>
        <p:blipFill>
          <a:blip r:embed="rId3"/>
          <a:stretch/>
        </p:blipFill>
        <p:spPr>
          <a:xfrm>
            <a:off x="5516640" y="4572000"/>
            <a:ext cx="3913200" cy="450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4"/>
          <p:cNvSpPr txBox="1"/>
          <p:nvPr/>
        </p:nvSpPr>
        <p:spPr>
          <a:xfrm>
            <a:off x="5673600" y="5805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地域の子供会と連携する活動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7" name="Picture 12" descr="20091008185817_00008 - コピー (3) - コピー"/>
          <p:cNvPicPr/>
          <p:nvPr/>
        </p:nvPicPr>
        <p:blipFill>
          <a:blip r:embed="rId4"/>
          <a:stretch/>
        </p:blipFill>
        <p:spPr>
          <a:xfrm>
            <a:off x="488880" y="4076640"/>
            <a:ext cx="4824360" cy="2222640"/>
          </a:xfrm>
          <a:prstGeom prst="rect">
            <a:avLst/>
          </a:prstGeom>
          <a:ln w="0">
            <a:noFill/>
          </a:ln>
        </p:spPr>
      </p:pic>
      <p:sp>
        <p:nvSpPr>
          <p:cNvPr id="98" name="WordArt 14"/>
          <p:cNvSpPr txBox="1"/>
          <p:nvPr/>
        </p:nvSpPr>
        <p:spPr>
          <a:xfrm>
            <a:off x="5600880" y="5157720"/>
            <a:ext cx="37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休み期間中の土日ごと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_hlt_rdo_d2_01" descr=""/>
          <p:cNvPicPr/>
          <p:nvPr/>
        </p:nvPicPr>
        <p:blipFill>
          <a:blip r:embed="rId2"/>
          <a:stretch/>
        </p:blipFill>
        <p:spPr>
          <a:xfrm>
            <a:off x="5745240" y="6206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00" name="i_hlt_rdo_d2_02" descr=""/>
          <p:cNvPicPr/>
          <p:nvPr/>
        </p:nvPicPr>
        <p:blipFill>
          <a:blip r:embed="rId3"/>
          <a:stretch/>
        </p:blipFill>
        <p:spPr>
          <a:xfrm>
            <a:off x="5313240" y="2205000"/>
            <a:ext cx="42674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i_hlt_rdo_d2_03" descr=""/>
          <p:cNvPicPr/>
          <p:nvPr/>
        </p:nvPicPr>
        <p:blipFill>
          <a:blip r:embed="rId4"/>
          <a:stretch/>
        </p:blipFill>
        <p:spPr>
          <a:xfrm>
            <a:off x="4592520" y="4076640"/>
            <a:ext cx="5000760" cy="170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756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2160" y="550800"/>
            <a:ext cx="39607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  <a:ea typeface="HG創英角ﾎﾟｯﾌﾟ体"/>
              </a:rPr>
              <a:t>ラジオ体操第二ができ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ラジオ体操第二は、体を鍛える筋力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強化することにポイントを置いて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．全身をゆする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．腕と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．腕を開き、回す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４．胸を反らす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５．体を横に曲げる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６．体を前後に曲げる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７．体をねじ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８．片足跳びとかけ足あし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９．体をねじり反らせて斜め下に曲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０体を倒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１両足で跳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２腕を振って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３深呼吸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14"/>
          <p:cNvSpPr txBox="1"/>
          <p:nvPr/>
        </p:nvSpPr>
        <p:spPr>
          <a:xfrm>
            <a:off x="631800" y="198900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住宅地区では転入家族が多く、地域の繋がりが希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05" name="Picture 12" descr="j0424762[1]"/>
          <p:cNvPicPr/>
          <p:nvPr/>
        </p:nvPicPr>
        <p:blipFill>
          <a:blip r:embed="rId2"/>
          <a:stretch/>
        </p:blipFill>
        <p:spPr>
          <a:xfrm>
            <a:off x="4376880" y="260280"/>
            <a:ext cx="134136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1"/>
          <p:cNvSpPr txBox="1"/>
          <p:nvPr/>
        </p:nvSpPr>
        <p:spPr>
          <a:xfrm>
            <a:off x="849240" y="692280"/>
            <a:ext cx="21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課題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631800" y="2997360"/>
            <a:ext cx="87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核家族化で地域の子供たちと高齢者とのふれあいが少な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631800" y="4005360"/>
            <a:ext cx="806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都市圏では、ラジオ体操の実施率が低くなっ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631800" y="5013360"/>
            <a:ext cx="86425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高齢化が進むなか、心身ともに健康が求められ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0" name="Picture 19" descr="j0398031[1]"/>
          <p:cNvPicPr/>
          <p:nvPr/>
        </p:nvPicPr>
        <p:blipFill>
          <a:blip r:embed="rId3"/>
          <a:stretch/>
        </p:blipFill>
        <p:spPr>
          <a:xfrm>
            <a:off x="4592520" y="5805360"/>
            <a:ext cx="8254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j0398031[1]"/>
          <p:cNvPicPr/>
          <p:nvPr/>
        </p:nvPicPr>
        <p:blipFill>
          <a:blip r:embed="rId2"/>
          <a:stretch/>
        </p:blipFill>
        <p:spPr>
          <a:xfrm>
            <a:off x="415800" y="4292640"/>
            <a:ext cx="825480" cy="8492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4"/>
          <p:cNvSpPr txBox="1"/>
          <p:nvPr/>
        </p:nvSpPr>
        <p:spPr>
          <a:xfrm>
            <a:off x="992160" y="90792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3081240" y="3573360"/>
            <a:ext cx="374508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14" descr=""/>
          <p:cNvPicPr/>
          <p:nvPr/>
        </p:nvPicPr>
        <p:blipFill>
          <a:blip r:embed="rId4"/>
          <a:stretch/>
        </p:blipFill>
        <p:spPr>
          <a:xfrm>
            <a:off x="298440" y="1847880"/>
            <a:ext cx="9381960" cy="252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j0089304[1]"/>
          <p:cNvPicPr/>
          <p:nvPr/>
        </p:nvPicPr>
        <p:blipFill>
          <a:blip r:embed="rId5"/>
          <a:stretch/>
        </p:blipFill>
        <p:spPr>
          <a:xfrm>
            <a:off x="7400880" y="549360"/>
            <a:ext cx="15480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7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14"/>
          <p:cNvSpPr txBox="1"/>
          <p:nvPr/>
        </p:nvSpPr>
        <p:spPr>
          <a:xfrm>
            <a:off x="776160" y="76500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666720" y="1773360"/>
            <a:ext cx="8607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☆</a:t>
            </a: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会を開催するための体制作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8" name="Picture 6" descr="j0410475[1]"/>
          <p:cNvPicPr/>
          <p:nvPr/>
        </p:nvPicPr>
        <p:blipFill>
          <a:blip r:embed="rId2"/>
          <a:stretch/>
        </p:blipFill>
        <p:spPr>
          <a:xfrm>
            <a:off x="3152880" y="4005360"/>
            <a:ext cx="2665440" cy="23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7545240" y="4581360"/>
            <a:ext cx="1243080" cy="187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banzai"/>
          <p:cNvPicPr/>
          <p:nvPr/>
        </p:nvPicPr>
        <p:blipFill>
          <a:blip r:embed="rId4"/>
          <a:stretch/>
        </p:blipFill>
        <p:spPr>
          <a:xfrm rot="20227200">
            <a:off x="1652760" y="4622400"/>
            <a:ext cx="1380960" cy="204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banzai_usagi"/>
          <p:cNvPicPr/>
          <p:nvPr/>
        </p:nvPicPr>
        <p:blipFill>
          <a:blip r:embed="rId5"/>
          <a:stretch/>
        </p:blipFill>
        <p:spPr>
          <a:xfrm rot="1566600">
            <a:off x="6465600" y="4365720"/>
            <a:ext cx="904680" cy="1809720"/>
          </a:xfrm>
          <a:prstGeom prst="rect">
            <a:avLst/>
          </a:prstGeom>
          <a:ln w="0">
            <a:noFill/>
          </a:ln>
        </p:spPr>
      </p:pic>
      <p:pic>
        <p:nvPicPr>
          <p:cNvPr id="122" name="WordArt 14" descr=""/>
          <p:cNvPicPr/>
          <p:nvPr/>
        </p:nvPicPr>
        <p:blipFill>
          <a:blip r:embed="rId6"/>
          <a:stretch/>
        </p:blipFill>
        <p:spPr>
          <a:xfrm>
            <a:off x="585720" y="2914560"/>
            <a:ext cx="7809120" cy="15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370448[1]"/>
          <p:cNvPicPr/>
          <p:nvPr/>
        </p:nvPicPr>
        <p:blipFill>
          <a:blip r:embed="rId7"/>
          <a:stretch/>
        </p:blipFill>
        <p:spPr>
          <a:xfrm>
            <a:off x="8624880" y="2924280"/>
            <a:ext cx="9856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21:30Z</dcterms:created>
  <dc:creator>takagi</dc:creator>
  <dc:description/>
  <cp:keywords/>
  <dc:language>en-US</dc:language>
  <cp:lastModifiedBy>tamotsu</cp:lastModifiedBy>
  <dcterms:modified xsi:type="dcterms:W3CDTF">2009-10-20T13:53:54Z</dcterms:modified>
  <cp:revision>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061041</vt:lpwstr>
  </property>
</Properties>
</file>