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CDC-6DB0-4455-A246-1AA3738B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766-05BD-45FE-8AE1-B017AEC5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E73-D6DA-4A31-9816-18787B39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028-C286-4AD6-8C65-8D61E27A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17E1-8DE5-4DCF-9EAA-26C0EAFE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7A3F-EE75-482B-BC51-DC3F93BA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EFF8-28CE-48F6-97C8-1EC5568D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B376-FE9C-4E6F-BB88-5C5A3983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7AA9-9259-4B93-87D4-870B575C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DC58-B25F-4D3C-8EEB-4E92E024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0730-1E20-4506-97EF-52949DD6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D8C-681D-4799-B4CC-3BBFAD66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6B73-6FB8-4655-80E0-DEA07D3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A18E-8320-4B73-8DA5-0B927407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C066-B374-4017-A521-1E0A1B0C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BFEF-BD7D-4F3A-BF92-DE8E8AC4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39ED-5C02-494A-B2EF-9BC1E8F4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3F2-0EC4-4A3D-9D1A-B39D3FFC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FEA-4D23-42FC-8F36-42D3A8E5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E492-23E2-4F72-8649-A7FA58D3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5A9-A49E-4080-A222-643D87F9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557-A9A4-48C8-BE74-3A24404A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EB2-D085-438A-AA33-A03AA0CB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197-679D-4657-9DE5-AFA7FF65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074A-ADCB-413E-8FBC-766BBE55D5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3AD6-80C2-4F1C-B26F-B00895F8C9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3357720" cy="4729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14"/>
          <p:cNvSpPr txBox="1"/>
          <p:nvPr/>
        </p:nvSpPr>
        <p:spPr>
          <a:xfrm>
            <a:off x="519120" y="155736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集まれ！ヤングオールド球児達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751120" y="5516640"/>
            <a:ext cx="568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ソフトボールクラブ　今村昌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80640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663480" y="573408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3"/>
          <a:stretch/>
        </p:blipFill>
        <p:spPr>
          <a:xfrm>
            <a:off x="5408640" y="3143160"/>
            <a:ext cx="24638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25" descr=""/>
          <p:cNvPicPr/>
          <p:nvPr/>
        </p:nvPicPr>
        <p:blipFill>
          <a:blip r:embed="rId2"/>
          <a:stretch/>
        </p:blipFill>
        <p:spPr>
          <a:xfrm>
            <a:off x="530280" y="190188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6"/>
          <p:cNvSpPr txBox="1"/>
          <p:nvPr/>
        </p:nvSpPr>
        <p:spPr>
          <a:xfrm>
            <a:off x="611280" y="549360"/>
            <a:ext cx="158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市の６０歳代は増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3786120" y="2357280"/>
            <a:ext cx="5000760" cy="5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老人になりたくない団塊シルバー世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5" name="Picture 4" descr="C:\Documents and Settings\利用者用\My Documents\My Pictures\image015.gif"/>
          <p:cNvPicPr/>
          <p:nvPr/>
        </p:nvPicPr>
        <p:blipFill>
          <a:blip r:embed="rId2"/>
          <a:stretch/>
        </p:blipFill>
        <p:spPr>
          <a:xfrm>
            <a:off x="1116000" y="1773360"/>
            <a:ext cx="2523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3857760" y="357192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やっぱり若い人に体は付いていか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3857760" y="457200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にはシルバーソフトボールチームは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285840" y="5000760"/>
            <a:ext cx="1571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野球場入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9" name="Picture 6" descr="DSC_1492"/>
          <p:cNvPicPr/>
          <p:nvPr/>
        </p:nvPicPr>
        <p:blipFill>
          <a:blip r:embed="rId2"/>
          <a:stretch/>
        </p:blipFill>
        <p:spPr>
          <a:xfrm>
            <a:off x="2071800" y="1643040"/>
            <a:ext cx="6626160" cy="4410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571760" y="642960"/>
            <a:ext cx="604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カッコイイでしょ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1" name="Picture 8" descr="DSC_1404"/>
          <p:cNvPicPr/>
          <p:nvPr/>
        </p:nvPicPr>
        <p:blipFill>
          <a:blip r:embed="rId3"/>
          <a:stretch/>
        </p:blipFill>
        <p:spPr>
          <a:xfrm>
            <a:off x="428760" y="2643120"/>
            <a:ext cx="139860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2571840" y="5715000"/>
            <a:ext cx="5286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HG創英角ﾎﾟｯﾌﾟ体"/>
              </a:rPr>
              <a:t>われらヤングオール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500040" y="5000760"/>
            <a:ext cx="3286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準備体操十分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5" name="Picture 6" descr="DSC_1412"/>
          <p:cNvPicPr/>
          <p:nvPr/>
        </p:nvPicPr>
        <p:blipFill>
          <a:blip r:embed="rId2"/>
          <a:stretch/>
        </p:blipFill>
        <p:spPr>
          <a:xfrm>
            <a:off x="500040" y="1714680"/>
            <a:ext cx="4016520" cy="27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SC_1423"/>
          <p:cNvPicPr/>
          <p:nvPr/>
        </p:nvPicPr>
        <p:blipFill>
          <a:blip r:embed="rId3"/>
          <a:stretch/>
        </p:blipFill>
        <p:spPr>
          <a:xfrm>
            <a:off x="4071960" y="3429000"/>
            <a:ext cx="4429080" cy="29941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5214960" y="2643120"/>
            <a:ext cx="27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すごい肩慣ら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0" name="WordArt 4" descr=""/>
          <p:cNvPicPr/>
          <p:nvPr/>
        </p:nvPicPr>
        <p:blipFill>
          <a:blip r:embed="rId2"/>
          <a:stretch/>
        </p:blipFill>
        <p:spPr>
          <a:xfrm>
            <a:off x="774720" y="4846680"/>
            <a:ext cx="3168720" cy="95076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8" descr=""/>
          <p:cNvPicPr/>
          <p:nvPr/>
        </p:nvPicPr>
        <p:blipFill>
          <a:blip r:embed="rId3"/>
          <a:stretch/>
        </p:blipFill>
        <p:spPr>
          <a:xfrm>
            <a:off x="4919760" y="2273400"/>
            <a:ext cx="3309840" cy="8110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3" name="Picture 20" descr="DSC_1432"/>
          <p:cNvPicPr/>
          <p:nvPr/>
        </p:nvPicPr>
        <p:blipFill>
          <a:blip r:embed="rId4"/>
          <a:stretch/>
        </p:blipFill>
        <p:spPr>
          <a:xfrm>
            <a:off x="571680" y="1714680"/>
            <a:ext cx="4120920" cy="27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SC_1483"/>
          <p:cNvPicPr/>
          <p:nvPr/>
        </p:nvPicPr>
        <p:blipFill>
          <a:blip r:embed="rId5"/>
          <a:stretch/>
        </p:blipFill>
        <p:spPr>
          <a:xfrm>
            <a:off x="4500720" y="3286080"/>
            <a:ext cx="392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休憩タイムもまた楽し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4857840" y="5643720"/>
            <a:ext cx="30970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分補給は大切で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7" name="Picture 19" descr="j0231975[1]"/>
          <p:cNvPicPr/>
          <p:nvPr/>
        </p:nvPicPr>
        <p:blipFill>
          <a:blip r:embed="rId2"/>
          <a:stretch/>
        </p:blipFill>
        <p:spPr>
          <a:xfrm rot="19729800">
            <a:off x="888840" y="2328840"/>
            <a:ext cx="3876840" cy="341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SC_1439"/>
          <p:cNvPicPr/>
          <p:nvPr/>
        </p:nvPicPr>
        <p:blipFill>
          <a:blip r:embed="rId3"/>
          <a:stretch/>
        </p:blipFill>
        <p:spPr>
          <a:xfrm>
            <a:off x="5143680" y="2857680"/>
            <a:ext cx="31208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ヤングオールドのためのネットワー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714240" y="2714760"/>
            <a:ext cx="7572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クラブの事例を紹介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714240" y="36432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体験教室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714240" y="45720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将来はシニアソフトの親善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755640" y="928800"/>
            <a:ext cx="7102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の基礎知識いろい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1258920" y="2852640"/>
            <a:ext cx="2592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用具・競技場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ダブルベース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球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法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離塁アウト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再出場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タイブレーカ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ＤＰ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1187280" y="2133720"/>
            <a:ext cx="626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独特のルール知っています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26" name="Picture 14" descr="j0252619[1]"/>
          <p:cNvPicPr/>
          <p:nvPr/>
        </p:nvPicPr>
        <p:blipFill>
          <a:blip r:embed="rId2"/>
          <a:stretch/>
        </p:blipFill>
        <p:spPr>
          <a:xfrm>
            <a:off x="6372360" y="3789360"/>
            <a:ext cx="201456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299897[1]"/>
          <p:cNvPicPr/>
          <p:nvPr/>
        </p:nvPicPr>
        <p:blipFill>
          <a:blip r:embed="rId3"/>
          <a:stretch/>
        </p:blipFill>
        <p:spPr>
          <a:xfrm>
            <a:off x="7667640" y="3068640"/>
            <a:ext cx="382680" cy="35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j0294286[1]"/>
          <p:cNvPicPr/>
          <p:nvPr/>
        </p:nvPicPr>
        <p:blipFill>
          <a:blip r:embed="rId4"/>
          <a:stretch/>
        </p:blipFill>
        <p:spPr>
          <a:xfrm>
            <a:off x="4067280" y="2924280"/>
            <a:ext cx="199368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5"/>
          <a:stretch/>
        </p:blipFill>
        <p:spPr>
          <a:xfrm>
            <a:off x="4500720" y="5300640"/>
            <a:ext cx="1684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4T02:14:14Z</dcterms:modified>
  <cp:revision>39</cp:revision>
  <dc:subject/>
  <dc:title> </dc:title>
</cp:coreProperties>
</file>