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304-F7E8-4CF2-827D-4AA3A48F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8FB-36ED-488C-9F43-38743264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C71-BB13-4ADB-9A38-60F143A3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3DEA-3259-4DF9-BA50-92B4A4E2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9ED3-8D0B-44CB-B980-C98E0013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74E1-B53C-44BE-B8A3-1CBC6B39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40D9-EDEB-4915-A825-B92E36D3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DFEA-A726-4090-9E4A-4A76D10A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7899-A7D2-411C-892A-98525219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8A1C-898E-4DD9-A309-B93BF03F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992C-1DED-4F0B-93F8-AAE82805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9D8-9259-432E-9979-861DC10C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2635-4F20-4945-86C8-4BCF7B3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2AB7-664C-4127-8734-82C8AD6D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F934-67A3-439D-8BD4-9B041F06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93AC-9204-4284-8D56-6253BEC5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1737-A56A-4673-8027-048DE2C4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DDFF-BCC4-4251-AF86-9F4EB657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0C89-95C9-44CC-B9C5-DDD2ADFA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4FF-CE66-4F08-9107-511315A6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F2F-BE9F-41E2-8801-DFFCFF68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FC0-4747-4EC7-9F1D-71AF1A4A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03C-7CDD-4515-8902-7D2882A4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C4C-8935-4A9B-A265-34D56BBD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C634-BC0B-4905-AB09-7A03C82A20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9F04-3574-4609-8719-90A810C534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3357720" cy="4729320"/>
          </a:xfrm>
          <a:prstGeom prst="rect">
            <a:avLst/>
          </a:prstGeom>
          <a:ln w="0">
            <a:noFill/>
          </a:ln>
        </p:spPr>
      </p:pic>
      <p:sp>
        <p:nvSpPr>
          <p:cNvPr id="86" name="WordArt 14"/>
          <p:cNvSpPr txBox="1"/>
          <p:nvPr/>
        </p:nvSpPr>
        <p:spPr>
          <a:xfrm>
            <a:off x="519120" y="155736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集まれ！ヤングオールド球児達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2751120" y="5516640"/>
            <a:ext cx="568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ソフトボールクラブ　今村昌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8" name="WordArt 17"/>
          <p:cNvSpPr txBox="1"/>
          <p:nvPr/>
        </p:nvSpPr>
        <p:spPr>
          <a:xfrm>
            <a:off x="80640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663480" y="573408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3"/>
          <a:stretch/>
        </p:blipFill>
        <p:spPr>
          <a:xfrm>
            <a:off x="5408640" y="3143160"/>
            <a:ext cx="24638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25" descr=""/>
          <p:cNvPicPr/>
          <p:nvPr/>
        </p:nvPicPr>
        <p:blipFill>
          <a:blip r:embed="rId2"/>
          <a:stretch/>
        </p:blipFill>
        <p:spPr>
          <a:xfrm>
            <a:off x="530280" y="190188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92" name="WordArt 26"/>
          <p:cNvSpPr txBox="1"/>
          <p:nvPr/>
        </p:nvSpPr>
        <p:spPr>
          <a:xfrm>
            <a:off x="611280" y="549360"/>
            <a:ext cx="158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市の６０歳代は増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3786120" y="2357280"/>
            <a:ext cx="5000760" cy="5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老人になりたくない団塊シルバー世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5" name="Picture 4" descr="C:\Documents and Settings\利用者用\My Documents\My Pictures\image015.gif"/>
          <p:cNvPicPr/>
          <p:nvPr/>
        </p:nvPicPr>
        <p:blipFill>
          <a:blip r:embed="rId2"/>
          <a:stretch/>
        </p:blipFill>
        <p:spPr>
          <a:xfrm>
            <a:off x="1116000" y="1773360"/>
            <a:ext cx="2523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9"/>
          <p:cNvSpPr txBox="1"/>
          <p:nvPr/>
        </p:nvSpPr>
        <p:spPr>
          <a:xfrm>
            <a:off x="3857760" y="357192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やっぱり若い人に体は付いていか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3857760" y="457200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にはシルバーソフトボールチームは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285840" y="5000760"/>
            <a:ext cx="15714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野球場入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9" name="Picture 6" descr="DSC_1492"/>
          <p:cNvPicPr/>
          <p:nvPr/>
        </p:nvPicPr>
        <p:blipFill>
          <a:blip r:embed="rId2"/>
          <a:stretch/>
        </p:blipFill>
        <p:spPr>
          <a:xfrm>
            <a:off x="2071800" y="1643040"/>
            <a:ext cx="6626160" cy="4410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571760" y="642960"/>
            <a:ext cx="6045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カッコイイでしょう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1" name="Picture 8" descr="DSC_1404"/>
          <p:cNvPicPr/>
          <p:nvPr/>
        </p:nvPicPr>
        <p:blipFill>
          <a:blip r:embed="rId3"/>
          <a:stretch/>
        </p:blipFill>
        <p:spPr>
          <a:xfrm>
            <a:off x="428760" y="2643120"/>
            <a:ext cx="139860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2571840" y="5715000"/>
            <a:ext cx="52862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HG創英角ﾎﾟｯﾌﾟ体"/>
              </a:rPr>
              <a:t>われらヤングオール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500040" y="5000760"/>
            <a:ext cx="3286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準備体操十分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5" name="Picture 6" descr="DSC_1412"/>
          <p:cNvPicPr/>
          <p:nvPr/>
        </p:nvPicPr>
        <p:blipFill>
          <a:blip r:embed="rId2"/>
          <a:stretch/>
        </p:blipFill>
        <p:spPr>
          <a:xfrm>
            <a:off x="500040" y="1714680"/>
            <a:ext cx="4016520" cy="27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SC_1423"/>
          <p:cNvPicPr/>
          <p:nvPr/>
        </p:nvPicPr>
        <p:blipFill>
          <a:blip r:embed="rId3"/>
          <a:stretch/>
        </p:blipFill>
        <p:spPr>
          <a:xfrm>
            <a:off x="4071960" y="3429000"/>
            <a:ext cx="4429080" cy="29941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5214960" y="2643120"/>
            <a:ext cx="273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すごい肩慣ら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0" name="WordArt 4" descr=""/>
          <p:cNvPicPr/>
          <p:nvPr/>
        </p:nvPicPr>
        <p:blipFill>
          <a:blip r:embed="rId2"/>
          <a:stretch/>
        </p:blipFill>
        <p:spPr>
          <a:xfrm>
            <a:off x="774720" y="4846680"/>
            <a:ext cx="3168720" cy="95076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8" descr=""/>
          <p:cNvPicPr/>
          <p:nvPr/>
        </p:nvPicPr>
        <p:blipFill>
          <a:blip r:embed="rId3"/>
          <a:stretch/>
        </p:blipFill>
        <p:spPr>
          <a:xfrm>
            <a:off x="4919760" y="2273400"/>
            <a:ext cx="3309840" cy="8110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3" name="Picture 20" descr="DSC_1432"/>
          <p:cNvPicPr/>
          <p:nvPr/>
        </p:nvPicPr>
        <p:blipFill>
          <a:blip r:embed="rId4"/>
          <a:stretch/>
        </p:blipFill>
        <p:spPr>
          <a:xfrm>
            <a:off x="571680" y="1714680"/>
            <a:ext cx="4120920" cy="27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SC_1483"/>
          <p:cNvPicPr/>
          <p:nvPr/>
        </p:nvPicPr>
        <p:blipFill>
          <a:blip r:embed="rId5"/>
          <a:stretch/>
        </p:blipFill>
        <p:spPr>
          <a:xfrm>
            <a:off x="4500720" y="3286080"/>
            <a:ext cx="392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休憩タイムもまた楽し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4857840" y="5643720"/>
            <a:ext cx="30970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分補給は大切で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7" name="Picture 19" descr="j0231975[1]"/>
          <p:cNvPicPr/>
          <p:nvPr/>
        </p:nvPicPr>
        <p:blipFill>
          <a:blip r:embed="rId2"/>
          <a:stretch/>
        </p:blipFill>
        <p:spPr>
          <a:xfrm rot="19729800">
            <a:off x="888840" y="2328840"/>
            <a:ext cx="3876840" cy="341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SC_1439"/>
          <p:cNvPicPr/>
          <p:nvPr/>
        </p:nvPicPr>
        <p:blipFill>
          <a:blip r:embed="rId3"/>
          <a:stretch/>
        </p:blipFill>
        <p:spPr>
          <a:xfrm>
            <a:off x="5143680" y="2857680"/>
            <a:ext cx="31208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ヤングオールドのためのネットワー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714240" y="2714760"/>
            <a:ext cx="7572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クラブの事例を紹介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714240" y="36432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体験教室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714240" y="45720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将来はシニアソフトの親善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755640" y="928800"/>
            <a:ext cx="7102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の基礎知識いろい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1258920" y="2852640"/>
            <a:ext cx="2592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用具・競技場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ダブルベース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球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法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離塁アウト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再出場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タイブレーカ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ＤＰ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1187280" y="2133720"/>
            <a:ext cx="626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独特のルール知っています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26" name="Picture 14" descr="j0252619[1]"/>
          <p:cNvPicPr/>
          <p:nvPr/>
        </p:nvPicPr>
        <p:blipFill>
          <a:blip r:embed="rId2"/>
          <a:stretch/>
        </p:blipFill>
        <p:spPr>
          <a:xfrm>
            <a:off x="6372360" y="3789360"/>
            <a:ext cx="201456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299897[1]"/>
          <p:cNvPicPr/>
          <p:nvPr/>
        </p:nvPicPr>
        <p:blipFill>
          <a:blip r:embed="rId3"/>
          <a:stretch/>
        </p:blipFill>
        <p:spPr>
          <a:xfrm>
            <a:off x="7667640" y="3068640"/>
            <a:ext cx="382680" cy="35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j0294286[1]"/>
          <p:cNvPicPr/>
          <p:nvPr/>
        </p:nvPicPr>
        <p:blipFill>
          <a:blip r:embed="rId4"/>
          <a:stretch/>
        </p:blipFill>
        <p:spPr>
          <a:xfrm>
            <a:off x="4067280" y="2924280"/>
            <a:ext cx="199368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5"/>
          <a:stretch/>
        </p:blipFill>
        <p:spPr>
          <a:xfrm>
            <a:off x="4500720" y="5300640"/>
            <a:ext cx="1684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4T02:14:14Z</dcterms:modified>
  <cp:revision>39</cp:revision>
  <dc:subject/>
  <dc:title> </dc:title>
</cp:coreProperties>
</file>