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29F2-A583-447F-A99A-12DB84C80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DC6-4E4E-43A1-B9A4-736775B3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928-BEA2-4C05-8E0E-B8068CAF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CAA1-FE62-4425-AE7D-A30B20C9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1DC0-61AA-45CE-8DC4-3D3B1C66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170-7A46-479D-8081-7AC0D801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C627-49A4-4D65-AA45-44F59CA0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346-3D52-4AF7-B26B-30F52B86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BEC6-780B-4492-889E-D3358712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DBEC-30ED-4391-B8BE-E13F4C3F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BE14-CE15-4B34-B614-23D2F218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1497-5BBC-46FD-96BF-D5B5D13A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CAC1-20F8-4C02-906A-FD6583E195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19.wmf"/><Relationship Id="rId21" Type="http://schemas.openxmlformats.org/officeDocument/2006/relationships/image" Target="../media/image19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2.wmf"/><Relationship Id="rId25" Type="http://schemas.openxmlformats.org/officeDocument/2006/relationships/image" Target="../media/image23.wmf"/><Relationship Id="rId26" Type="http://schemas.openxmlformats.org/officeDocument/2006/relationships/image" Target="../media/image16.wmf"/><Relationship Id="rId27" Type="http://schemas.openxmlformats.org/officeDocument/2006/relationships/image" Target="../media/image24.wmf"/><Relationship Id="rId28" Type="http://schemas.openxmlformats.org/officeDocument/2006/relationships/image" Target="../media/image25.wmf"/><Relationship Id="rId29" Type="http://schemas.openxmlformats.org/officeDocument/2006/relationships/image" Target="../media/image9.wmf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守谷総合人生大学</a:t>
            </a:r>
            <a:br>
              <a:rPr sz="2500"/>
            </a:br>
            <a:r>
              <a:rPr b="0" lang="ja-JP" sz="25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（生涯学習の仕組み、学校教育法上の大学ではない）</a:t>
            </a:r>
            <a:br>
              <a:rPr sz="2500"/>
            </a:br>
            <a:r>
              <a:rPr b="0" lang="ja-JP" sz="36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の創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571640"/>
            <a:ext cx="64008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898989"/>
                </a:solidFill>
                <a:latin typeface="HGSｺﾞｼｯｸE"/>
                <a:ea typeface="HGSｺﾞｼｯｸE"/>
              </a:rPr>
              <a:t>グループ提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98989"/>
                </a:solidFill>
                <a:latin typeface="HGSｺﾞｼｯｸE"/>
                <a:ea typeface="HGSｺﾞｼｯｸE"/>
              </a:rPr>
              <a:t>会田榮光、片桐真奈美、古橋俊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正方形/長方形 3" descr=""/>
          <p:cNvPicPr/>
          <p:nvPr/>
        </p:nvPicPr>
        <p:blipFill>
          <a:blip r:embed="rId1"/>
          <a:stretch/>
        </p:blipFill>
        <p:spPr>
          <a:xfrm>
            <a:off x="-6480" y="-79200"/>
            <a:ext cx="9156960" cy="811080"/>
          </a:xfrm>
          <a:prstGeom prst="rect">
            <a:avLst/>
          </a:prstGeom>
          <a:ln w="0">
            <a:noFill/>
          </a:ln>
        </p:spPr>
      </p:pic>
      <p:sp>
        <p:nvSpPr>
          <p:cNvPr id="44" name="ドーナツ 4"/>
          <p:cNvSpPr/>
          <p:nvPr/>
        </p:nvSpPr>
        <p:spPr>
          <a:xfrm>
            <a:off x="642960" y="1000080"/>
            <a:ext cx="7715160" cy="928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守谷総合人生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:\Documents and Settings\furuhashi\Local Settings\Temporary Internet Files\Content.IE5\VXOR3GV9\MCj04342250000[1].wmf"/>
          <p:cNvPicPr/>
          <p:nvPr/>
        </p:nvPicPr>
        <p:blipFill>
          <a:blip r:embed="rId2"/>
          <a:stretch/>
        </p:blipFill>
        <p:spPr>
          <a:xfrm>
            <a:off x="2071800" y="785880"/>
            <a:ext cx="857160" cy="64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:\Documents and Settings\furuhashi\Local Settings\Temporary Internet Files\Content.IE5\OB0J42K1\MCj04321170000[1].wmf"/>
          <p:cNvPicPr/>
          <p:nvPr/>
        </p:nvPicPr>
        <p:blipFill>
          <a:blip r:embed="rId3"/>
          <a:stretch/>
        </p:blipFill>
        <p:spPr>
          <a:xfrm>
            <a:off x="5786280" y="785880"/>
            <a:ext cx="933480" cy="571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Documents and Settings\furuhashi\Local Settings\Temporary Internet Files\Content.IE5\UT23Q3EZ\MCj04304320000[1].wmf"/>
          <p:cNvPicPr/>
          <p:nvPr/>
        </p:nvPicPr>
        <p:blipFill>
          <a:blip r:embed="rId4"/>
          <a:stretch/>
        </p:blipFill>
        <p:spPr>
          <a:xfrm>
            <a:off x="6643800" y="1500120"/>
            <a:ext cx="947520" cy="57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furuhashi\Local Settings\Temporary Internet Files\Content.IE5\W3M9Y9S3\MCj04342230000[1].wmf"/>
          <p:cNvPicPr/>
          <p:nvPr/>
        </p:nvPicPr>
        <p:blipFill>
          <a:blip r:embed="rId5"/>
          <a:stretch/>
        </p:blipFill>
        <p:spPr>
          <a:xfrm>
            <a:off x="4000680" y="1643040"/>
            <a:ext cx="100008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C:\Documents and Settings\furuhashi\Local Settings\Temporary Internet Files\Content.IE5\IB8VAHUV\MCj04342210000[1].wmf"/>
          <p:cNvPicPr/>
          <p:nvPr/>
        </p:nvPicPr>
        <p:blipFill>
          <a:blip r:embed="rId6"/>
          <a:stretch/>
        </p:blipFill>
        <p:spPr>
          <a:xfrm>
            <a:off x="1285920" y="1500120"/>
            <a:ext cx="928800" cy="59688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10"/>
          <p:cNvSpPr/>
          <p:nvPr/>
        </p:nvSpPr>
        <p:spPr>
          <a:xfrm>
            <a:off x="6684840" y="20001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郷州公民館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1"/>
          <p:cNvSpPr/>
          <p:nvPr/>
        </p:nvSpPr>
        <p:spPr>
          <a:xfrm>
            <a:off x="3970440" y="22147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中央公民館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2"/>
          <p:cNvSpPr/>
          <p:nvPr/>
        </p:nvSpPr>
        <p:spPr>
          <a:xfrm>
            <a:off x="1466280" y="2035080"/>
            <a:ext cx="76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駅前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13"/>
          <p:cNvSpPr/>
          <p:nvPr/>
        </p:nvSpPr>
        <p:spPr>
          <a:xfrm>
            <a:off x="5890680" y="13161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中央公民館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14"/>
          <p:cNvSpPr/>
          <p:nvPr/>
        </p:nvSpPr>
        <p:spPr>
          <a:xfrm>
            <a:off x="2123640" y="136692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北守谷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角丸四角形 13"/>
          <p:cNvSpPr/>
          <p:nvPr/>
        </p:nvSpPr>
        <p:spPr>
          <a:xfrm>
            <a:off x="357120" y="3786120"/>
            <a:ext cx="8358120" cy="1000080"/>
          </a:xfrm>
          <a:prstGeom prst="roundRect">
            <a:avLst>
              <a:gd name="adj" fmla="val 50000"/>
            </a:avLst>
          </a:prstGeom>
          <a:solidFill>
            <a:srgbClr val="ccffff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角丸四角形 14"/>
          <p:cNvSpPr/>
          <p:nvPr/>
        </p:nvSpPr>
        <p:spPr>
          <a:xfrm>
            <a:off x="285840" y="4929120"/>
            <a:ext cx="8572320" cy="1785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上矢印 15"/>
          <p:cNvSpPr/>
          <p:nvPr/>
        </p:nvSpPr>
        <p:spPr>
          <a:xfrm>
            <a:off x="3571920" y="2428920"/>
            <a:ext cx="1928880" cy="2428920"/>
          </a:xfrm>
          <a:prstGeom prst="upArrow">
            <a:avLst>
              <a:gd name="adj1" fmla="val 50056"/>
              <a:gd name="adj2" fmla="val 363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上矢印 28"/>
          <p:cNvSpPr/>
          <p:nvPr/>
        </p:nvSpPr>
        <p:spPr>
          <a:xfrm rot="2914200">
            <a:off x="3472920" y="3178080"/>
            <a:ext cx="268560" cy="811440"/>
          </a:xfrm>
          <a:prstGeom prst="upArrow">
            <a:avLst>
              <a:gd name="adj1" fmla="val 36528"/>
              <a:gd name="adj2" fmla="val 499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上矢印 29"/>
          <p:cNvSpPr/>
          <p:nvPr/>
        </p:nvSpPr>
        <p:spPr>
          <a:xfrm rot="18673200">
            <a:off x="5332320" y="3175920"/>
            <a:ext cx="266760" cy="812880"/>
          </a:xfrm>
          <a:prstGeom prst="upArrow">
            <a:avLst>
              <a:gd name="adj1" fmla="val 36528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50"/>
          <p:cNvSpPr/>
          <p:nvPr/>
        </p:nvSpPr>
        <p:spPr>
          <a:xfrm>
            <a:off x="3416760" y="3429000"/>
            <a:ext cx="348480" cy="261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ffff"/>
                </a:solidFill>
                <a:latin typeface="Calibri"/>
              </a:rPr>
              <a:t>参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50"/>
          <p:cNvSpPr/>
          <p:nvPr/>
        </p:nvSpPr>
        <p:spPr>
          <a:xfrm>
            <a:off x="5345280" y="3429000"/>
            <a:ext cx="348480" cy="261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ffff"/>
                </a:solidFill>
                <a:latin typeface="Calibri"/>
              </a:rPr>
              <a:t>参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32"/>
          <p:cNvSpPr/>
          <p:nvPr/>
        </p:nvSpPr>
        <p:spPr>
          <a:xfrm>
            <a:off x="1606680" y="37861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守谷市の優秀な人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33"/>
          <p:cNvSpPr/>
          <p:nvPr/>
        </p:nvSpPr>
        <p:spPr>
          <a:xfrm>
            <a:off x="6393960" y="37861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守谷市の豊富な人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0" descr="C:\Documents and Settings\furuhashi\Local Settings\Temporary Internet Files\Content.IE5\TF578NDE\MCj03980970000[1].wmf"/>
          <p:cNvPicPr/>
          <p:nvPr/>
        </p:nvPicPr>
        <p:blipFill>
          <a:blip r:embed="rId7"/>
          <a:stretch/>
        </p:blipFill>
        <p:spPr>
          <a:xfrm>
            <a:off x="714240" y="4214880"/>
            <a:ext cx="500040" cy="44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C:\Documents and Settings\furuhashi\Local Settings\Temporary Internet Files\Content.IE5\N9X2A0GX\MCj03984230000[1].wmf"/>
          <p:cNvPicPr/>
          <p:nvPr/>
        </p:nvPicPr>
        <p:blipFill>
          <a:blip r:embed="rId8"/>
          <a:stretch/>
        </p:blipFill>
        <p:spPr>
          <a:xfrm>
            <a:off x="1357200" y="4143240"/>
            <a:ext cx="500040" cy="571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C:\Documents and Settings\furuhashi\Local Settings\Temporary Internet Files\Content.IE5\3I5USRKV\MCj03980810000[1].wmf"/>
          <p:cNvPicPr/>
          <p:nvPr/>
        </p:nvPicPr>
        <p:blipFill>
          <a:blip r:embed="rId9"/>
          <a:stretch/>
        </p:blipFill>
        <p:spPr>
          <a:xfrm>
            <a:off x="1857240" y="4214880"/>
            <a:ext cx="362160" cy="506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C:\Documents and Settings\furuhashi\Local Settings\Temporary Internet Files\Content.IE5\OB0J42K1\MCj03981030000[1].wmf"/>
          <p:cNvPicPr/>
          <p:nvPr/>
        </p:nvPicPr>
        <p:blipFill>
          <a:blip r:embed="rId10"/>
          <a:stretch/>
        </p:blipFill>
        <p:spPr>
          <a:xfrm>
            <a:off x="2357280" y="4214880"/>
            <a:ext cx="428760" cy="434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C:\Documents and Settings\furuhashi\Local Settings\Temporary Internet Files\Content.IE5\KOWLFU6R\MCj03983930000[1].wmf"/>
          <p:cNvPicPr/>
          <p:nvPr/>
        </p:nvPicPr>
        <p:blipFill>
          <a:blip r:embed="rId11"/>
          <a:stretch/>
        </p:blipFill>
        <p:spPr>
          <a:xfrm>
            <a:off x="2928960" y="4205160"/>
            <a:ext cx="428760" cy="48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C:\Documents and Settings\furuhashi\Local Settings\Temporary Internet Files\Content.IE5\A2C59098\MCj04263620000[1].wmf"/>
          <p:cNvPicPr/>
          <p:nvPr/>
        </p:nvPicPr>
        <p:blipFill>
          <a:blip r:embed="rId12"/>
          <a:stretch/>
        </p:blipFill>
        <p:spPr>
          <a:xfrm>
            <a:off x="3500280" y="4214880"/>
            <a:ext cx="214560" cy="50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C:\Documents and Settings\furuhashi\Local Settings\Temporary Internet Files\Content.IE5\GFNAG2W6\MCj03980910000[1].wmf"/>
          <p:cNvPicPr/>
          <p:nvPr/>
        </p:nvPicPr>
        <p:blipFill>
          <a:blip r:embed="rId13"/>
          <a:stretch/>
        </p:blipFill>
        <p:spPr>
          <a:xfrm>
            <a:off x="5286240" y="4214880"/>
            <a:ext cx="297000" cy="428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C:\Documents and Settings\furuhashi\Local Settings\Temporary Internet Files\Content.IE5\YGGOXVRL\MCj03981370000[1].wmf"/>
          <p:cNvPicPr/>
          <p:nvPr/>
        </p:nvPicPr>
        <p:blipFill>
          <a:blip r:embed="rId14"/>
          <a:stretch/>
        </p:blipFill>
        <p:spPr>
          <a:xfrm>
            <a:off x="5786280" y="4214880"/>
            <a:ext cx="500400" cy="50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C:\Documents and Settings\furuhashi\Local Settings\Temporary Internet Files\Content.IE5\E0389QF9\MCj03983830000[1].wmf"/>
          <p:cNvPicPr/>
          <p:nvPr/>
        </p:nvPicPr>
        <p:blipFill>
          <a:blip r:embed="rId15"/>
          <a:stretch/>
        </p:blipFill>
        <p:spPr>
          <a:xfrm>
            <a:off x="6286680" y="4214880"/>
            <a:ext cx="576000" cy="48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C:\Documents and Settings\furuhashi\Local Settings\Temporary Internet Files\Content.IE5\UT23Q3EZ\MCj03980890000[1].wmf"/>
          <p:cNvPicPr/>
          <p:nvPr/>
        </p:nvPicPr>
        <p:blipFill>
          <a:blip r:embed="rId16"/>
          <a:stretch/>
        </p:blipFill>
        <p:spPr>
          <a:xfrm>
            <a:off x="7000920" y="4214880"/>
            <a:ext cx="376200" cy="433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C:\Documents and Settings\furuhashi\Local Settings\Temporary Internet Files\Content.IE5\UOHJ5HHE\MCj03984170000[1].wmf"/>
          <p:cNvPicPr/>
          <p:nvPr/>
        </p:nvPicPr>
        <p:blipFill>
          <a:blip r:embed="rId17"/>
          <a:stretch/>
        </p:blipFill>
        <p:spPr>
          <a:xfrm>
            <a:off x="7572240" y="4214880"/>
            <a:ext cx="212760" cy="500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1" descr="C:\Documents and Settings\furuhashi\Local Settings\Temporary Internet Files\Content.IE5\VXOR3GV9\MCj03984050000[1].wmf"/>
          <p:cNvPicPr/>
          <p:nvPr/>
        </p:nvPicPr>
        <p:blipFill>
          <a:blip r:embed="rId18"/>
          <a:stretch/>
        </p:blipFill>
        <p:spPr>
          <a:xfrm>
            <a:off x="7929720" y="4143240"/>
            <a:ext cx="428400" cy="533520"/>
          </a:xfrm>
          <a:prstGeom prst="rect">
            <a:avLst/>
          </a:prstGeom>
          <a:ln w="0">
            <a:noFill/>
          </a:ln>
        </p:spPr>
      </p:pic>
      <p:sp>
        <p:nvSpPr>
          <p:cNvPr id="76" name="円/楕円 46"/>
          <p:cNvSpPr/>
          <p:nvPr/>
        </p:nvSpPr>
        <p:spPr>
          <a:xfrm>
            <a:off x="428760" y="5000760"/>
            <a:ext cx="3500280" cy="1643040"/>
          </a:xfrm>
          <a:prstGeom prst="ellipse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円/楕円 47"/>
          <p:cNvSpPr/>
          <p:nvPr/>
        </p:nvSpPr>
        <p:spPr>
          <a:xfrm>
            <a:off x="5214960" y="5000760"/>
            <a:ext cx="3500280" cy="1643040"/>
          </a:xfrm>
          <a:prstGeom prst="ellipse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C:\Documents and Settings\furuhashi\Local Settings\Temporary Internet Files\Content.IE5\TF578NDE\MCj03334040000[1].wmf"/>
          <p:cNvPicPr/>
          <p:nvPr/>
        </p:nvPicPr>
        <p:blipFill>
          <a:blip r:embed="rId19"/>
          <a:stretch/>
        </p:blipFill>
        <p:spPr>
          <a:xfrm>
            <a:off x="1857240" y="5715000"/>
            <a:ext cx="743040" cy="406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C:\Documents and Settings\furuhashi\Local Settings\Temporary Internet Files\Content.IE5\TF578NDE\MCj03334040000[1].wmf"/>
          <p:cNvPicPr/>
          <p:nvPr/>
        </p:nvPicPr>
        <p:blipFill>
          <a:blip r:embed="rId20"/>
          <a:stretch/>
        </p:blipFill>
        <p:spPr>
          <a:xfrm>
            <a:off x="4286160" y="5715000"/>
            <a:ext cx="743040" cy="40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" descr="C:\Documents and Settings\furuhashi\Local Settings\Temporary Internet Files\Content.IE5\TF578NDE\MCj03334040000[1].wmf"/>
          <p:cNvPicPr/>
          <p:nvPr/>
        </p:nvPicPr>
        <p:blipFill>
          <a:blip r:embed="rId21"/>
          <a:stretch/>
        </p:blipFill>
        <p:spPr>
          <a:xfrm>
            <a:off x="6715080" y="5715000"/>
            <a:ext cx="743040" cy="406440"/>
          </a:xfrm>
          <a:prstGeom prst="rect">
            <a:avLst/>
          </a:prstGeom>
          <a:ln w="0">
            <a:noFill/>
          </a:ln>
        </p:spPr>
      </p:pic>
      <p:sp>
        <p:nvSpPr>
          <p:cNvPr id="81" name="テキスト ボックス 29"/>
          <p:cNvSpPr/>
          <p:nvPr/>
        </p:nvSpPr>
        <p:spPr>
          <a:xfrm>
            <a:off x="801000" y="571500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都市整備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29"/>
          <p:cNvSpPr/>
          <p:nvPr/>
        </p:nvSpPr>
        <p:spPr>
          <a:xfrm>
            <a:off x="2444040" y="521496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保健福祉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29"/>
          <p:cNvSpPr/>
          <p:nvPr/>
        </p:nvSpPr>
        <p:spPr>
          <a:xfrm>
            <a:off x="1229760" y="521496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生活経済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テキスト ボックス 29"/>
          <p:cNvSpPr/>
          <p:nvPr/>
        </p:nvSpPr>
        <p:spPr>
          <a:xfrm>
            <a:off x="3015720" y="571500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教育委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24"/>
          <p:cNvSpPr/>
          <p:nvPr/>
        </p:nvSpPr>
        <p:spPr>
          <a:xfrm>
            <a:off x="1857600" y="6215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Calibri"/>
              </a:rPr>
              <a:t>行政の協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24"/>
          <p:cNvSpPr/>
          <p:nvPr/>
        </p:nvSpPr>
        <p:spPr>
          <a:xfrm>
            <a:off x="6643800" y="6215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Calibri"/>
              </a:rPr>
              <a:t>市民の協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24"/>
          <p:cNvSpPr/>
          <p:nvPr/>
        </p:nvSpPr>
        <p:spPr>
          <a:xfrm>
            <a:off x="4032000" y="62866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市民と行政の協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C:\Program Files\Microsoft Office\MEDIA\CAGCAT10\j0240719.wmf"/>
          <p:cNvPicPr/>
          <p:nvPr/>
        </p:nvPicPr>
        <p:blipFill>
          <a:blip r:embed="rId22"/>
          <a:stretch/>
        </p:blipFill>
        <p:spPr>
          <a:xfrm>
            <a:off x="5929200" y="5214960"/>
            <a:ext cx="287280" cy="50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C:\Documents and Settings\furuhashi\Local Settings\Temporary Internet Files\Content.IE5\WVI1YLEB\MCj03984090000[1].wmf"/>
          <p:cNvPicPr/>
          <p:nvPr/>
        </p:nvPicPr>
        <p:blipFill>
          <a:blip r:embed="rId23"/>
          <a:stretch/>
        </p:blipFill>
        <p:spPr>
          <a:xfrm>
            <a:off x="5429160" y="5500800"/>
            <a:ext cx="357120" cy="57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C:\Documents and Settings\furuhashi\Local Settings\Temporary Internet Files\Content.IE5\IJMCMQLV\MCj03984130000[1].wmf"/>
          <p:cNvPicPr/>
          <p:nvPr/>
        </p:nvPicPr>
        <p:blipFill>
          <a:blip r:embed="rId24"/>
          <a:stretch/>
        </p:blipFill>
        <p:spPr>
          <a:xfrm>
            <a:off x="5857920" y="6000840"/>
            <a:ext cx="357120" cy="43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C:\Documents and Settings\furuhashi\Local Settings\Temporary Internet Files\Content.IE5\BTRNCWZG\MCj04361590000[1].wmf"/>
          <p:cNvPicPr/>
          <p:nvPr/>
        </p:nvPicPr>
        <p:blipFill>
          <a:blip r:embed="rId25"/>
          <a:stretch/>
        </p:blipFill>
        <p:spPr>
          <a:xfrm>
            <a:off x="6357960" y="5143680"/>
            <a:ext cx="309600" cy="371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C:\Documents and Settings\furuhashi\Local Settings\Temporary Internet Files\Content.IE5\UT23Q3EZ\MCj03980890000[1].wmf"/>
          <p:cNvPicPr/>
          <p:nvPr/>
        </p:nvPicPr>
        <p:blipFill>
          <a:blip r:embed="rId26"/>
          <a:stretch/>
        </p:blipFill>
        <p:spPr>
          <a:xfrm>
            <a:off x="6858000" y="5072040"/>
            <a:ext cx="433440" cy="500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C:\Documents and Settings\furuhashi\Local Settings\Temporary Internet Files\Content.IE5\IB8VAHUV\MCj03984210000[1].wmf"/>
          <p:cNvPicPr/>
          <p:nvPr/>
        </p:nvPicPr>
        <p:blipFill>
          <a:blip r:embed="rId27"/>
          <a:stretch/>
        </p:blipFill>
        <p:spPr>
          <a:xfrm>
            <a:off x="7429680" y="5143680"/>
            <a:ext cx="428400" cy="536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C:\Documents and Settings\furuhashi\Local Settings\Temporary Internet Files\Content.IE5\W3M9Y9S3\MCj03980770000[1].wmf"/>
          <p:cNvPicPr/>
          <p:nvPr/>
        </p:nvPicPr>
        <p:blipFill>
          <a:blip r:embed="rId28"/>
          <a:stretch/>
        </p:blipFill>
        <p:spPr>
          <a:xfrm>
            <a:off x="8001000" y="5357880"/>
            <a:ext cx="368280" cy="428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C:\Documents and Settings\furuhashi\Local Settings\Temporary Internet Files\Content.IE5\3I5USRKV\MCj03980810000[1].wmf"/>
          <p:cNvPicPr/>
          <p:nvPr/>
        </p:nvPicPr>
        <p:blipFill>
          <a:blip r:embed="rId29"/>
          <a:stretch/>
        </p:blipFill>
        <p:spPr>
          <a:xfrm>
            <a:off x="7929720" y="5857920"/>
            <a:ext cx="357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守谷総合人生大学のイメージ・・・たたき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856800"/>
            <a:ext cx="8143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．キャンパ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公民館や市民活動支援センターをそれぞれキャンパスとして活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市外通勤のサラリーマン向けに、夜間専用の駅前キャンパスを配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２．</a:t>
            </a:r>
            <a:r>
              <a:rPr b="1" lang="zh-TW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受講対象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義務教育終了で、守谷市在住あるいは守谷市の企業等に勤務の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３．</a:t>
            </a:r>
            <a:r>
              <a:rPr b="1" lang="zh-TW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学生種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本科生→１年間の規定のカリキュラムを受講するもの・・・・・卒業証書授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ゲスト学生→スポットの講座受講やイベントに参加するも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４．学習コース（例えば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57160" y="4429080"/>
          <a:ext cx="7500960" cy="1925640"/>
        </p:xfrm>
        <a:graphic>
          <a:graphicData uri="http://schemas.openxmlformats.org/drawingml/2006/table">
            <a:tbl>
              <a:tblPr/>
              <a:tblGrid>
                <a:gridCol w="3751200"/>
                <a:gridCol w="3749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本科生向け・・・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コー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ゲスト学生向けコース・・・スポッ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□守谷市まちづくり学科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まちづくりリーダ育成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まちの案内人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□社会福祉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介護福祉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子供支援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□物作り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＜現行の講座を有効活用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趣味の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子育ての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スポーツ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パソコン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スケジュー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42960" y="1143000"/>
          <a:ext cx="7858080" cy="4486320"/>
        </p:xfrm>
        <a:graphic>
          <a:graphicData uri="http://schemas.openxmlformats.org/drawingml/2006/table">
            <a:tbl>
              <a:tblPr/>
              <a:tblGrid>
                <a:gridCol w="1309680"/>
                <a:gridCol w="1673280"/>
                <a:gridCol w="487512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実施項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初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平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度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調査・研究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立ち上げ準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設立準備委員会メンバー編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⇒９名程度（市役所４名、市民４名、アドバイザー１名）　　　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②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設立のための調査研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⇒調査結果と実施モデルについての報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③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設立準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④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期生募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平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度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試行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開校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②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の試行運営開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・・学園祭なども行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③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期生卒業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④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の評価と改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⑤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期生募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３年度以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平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度以降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本格運営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本格運営を開始し、継続的に大学を運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期待効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928440"/>
            <a:ext cx="83581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．市民は、「守谷総合人生大学」を活用することで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多くの学習メニューから市民の希望に合った学習の機会が得られ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市民の個性に合った生きがいつくりが可能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にな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２．市民は、「守谷総合人生大学」を活用することで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市民参加型の生き甲斐作り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ができ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・学習する人として参加し、生き甲斐作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・教える人として参加し、生き甲斐作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３．市は、まちづくりや福祉サービス等、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市が必要としている協働事業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人材を育成したり、人材を得る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とができ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４．受講者のコミュニティ作りを支援すること（卒業生ＯＢ会等）で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まちづくりのために積極的に参加してくれる組織や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先導的な組織の構築が可能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最後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00080" y="1000080"/>
            <a:ext cx="7143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本事業運営に伴う、市の費用負担は小さ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本事業は既にある市や市民のファシリティや学習資源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活用していくことから、</a:t>
            </a: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大きな費用は必要ない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更に費用削減の可能性があ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生涯学習は教育委員会以外の市の各部門が個別に関わっ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おり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本学を創設し、</a:t>
            </a: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生涯学習の一元化を行えば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、</a:t>
            </a: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生涯学習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係わる各部職員の管理作業負荷を削減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でき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このことは、市全体としての生涯学習に係わる費用削減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可能性を示してい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3:22:51Z</dcterms:created>
  <dc:creator>furuhashi</dc:creator>
  <dc:description/>
  <dc:language>en-US</dc:language>
  <cp:lastModifiedBy>furuhashi</cp:lastModifiedBy>
  <dcterms:modified xsi:type="dcterms:W3CDTF">2009-10-13T05:04:48Z</dcterms:modified>
  <cp:revision>39</cp:revision>
  <dc:subject/>
  <dc:title>守谷総合人生大学 （生涯学習の仕組み、学校教育法上の大学ではない） の創設</dc:title>
</cp:coreProperties>
</file>